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9.xml.rels" ContentType="application/vnd.openxmlformats-package.relationships+xml"/>
  <Override PartName="/ppt/notesSlides/notesSlide5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50.xml.rels" ContentType="application/vnd.openxmlformats-package.relationships+xml"/>
  <Override PartName="/ppt/slides/_rels/slide445.xml.rels" ContentType="application/vnd.openxmlformats-package.relationships+xml"/>
  <Override PartName="/ppt/slides/_rels/slide78.xml.rels" ContentType="application/vnd.openxmlformats-package.relationships+xml"/>
  <Override PartName="/ppt/slides/_rels/slide151.xml.rels" ContentType="application/vnd.openxmlformats-package.relationships+xml"/>
  <Override PartName="/ppt/slides/_rels/slide444.xml.rels" ContentType="application/vnd.openxmlformats-package.relationships+xml"/>
  <Override PartName="/ppt/slides/_rels/slide77.xml.rels" ContentType="application/vnd.openxmlformats-package.relationships+xml"/>
  <Override PartName="/ppt/slides/_rels/slide150.xml.rels" ContentType="application/vnd.openxmlformats-package.relationships+xml"/>
  <Override PartName="/ppt/slides/_rels/slide442.xml.rels" ContentType="application/vnd.openxmlformats-package.relationships+xml"/>
  <Override PartName="/ppt/slides/_rels/slide441.xml.rels" ContentType="application/vnd.openxmlformats-package.relationships+xml"/>
  <Override PartName="/ppt/slides/_rels/slide293.xml.rels" ContentType="application/vnd.openxmlformats-package.relationships+xml"/>
  <Override PartName="/ppt/slides/_rels/slide440.xml.rels" ContentType="application/vnd.openxmlformats-package.relationships+xml"/>
  <Override PartName="/ppt/slides/_rels/slide292.xml.rels" ContentType="application/vnd.openxmlformats-package.relationships+xml"/>
  <Override PartName="/ppt/slides/_rels/slide435.xml.rels" ContentType="application/vnd.openxmlformats-package.relationships+xml"/>
  <Override PartName="/ppt/slides/_rels/slide287.xml.rels" ContentType="application/vnd.openxmlformats-package.relationships+xml"/>
  <Override PartName="/ppt/slides/_rels/slide229.xml.rels" ContentType="application/vnd.openxmlformats-package.relationships+xml"/>
  <Override PartName="/ppt/slides/_rels/slide394.xml.rels" ContentType="application/vnd.openxmlformats-package.relationships+xml"/>
  <Override PartName="/ppt/slides/_rels/slide542.xml.rels" ContentType="application/vnd.openxmlformats-package.relationships+xml"/>
  <Override PartName="/ppt/slides/_rels/slide336.xml.rels" ContentType="application/vnd.openxmlformats-package.relationships+xml"/>
  <Override PartName="/ppt/slides/_rels/slide392.xml.rels" ContentType="application/vnd.openxmlformats-package.relationships+xml"/>
  <Override PartName="/ppt/slides/_rels/slide334.xml.rels" ContentType="application/vnd.openxmlformats-package.relationships+xml"/>
  <Override PartName="/ppt/slides/_rels/slide387.xml.rels" ContentType="application/vnd.openxmlformats-package.relationships+xml"/>
  <Override PartName="/ppt/slides/_rels/slide593.xml.rels" ContentType="application/vnd.openxmlformats-package.relationships+xml"/>
  <Override PartName="/ppt/slides/_rels/slide535.xml.rels" ContentType="application/vnd.openxmlformats-package.relationships+xml"/>
  <Override PartName="/ppt/slides/_rels/slide413.xml.rels" ContentType="application/vnd.openxmlformats-package.relationships+xml"/>
  <Override PartName="/ppt/slides/_rels/slide191.xml.rels" ContentType="application/vnd.openxmlformats-package.relationships+xml"/>
  <Override PartName="/ppt/slides/_rels/slide133.xml.rels" ContentType="application/vnd.openxmlformats-package.relationships+xml"/>
  <Override PartName="/ppt/slides/_rels/slide367.xml.rels" ContentType="application/vnd.openxmlformats-package.relationships+xml"/>
  <Override PartName="/ppt/slides/_rels/slide309.xml.rels" ContentType="application/vnd.openxmlformats-package.relationships+xml"/>
  <Override PartName="/ppt/slides/_rels/slide366.xml.rels" ContentType="application/vnd.openxmlformats-package.relationships+xml"/>
  <Override PartName="/ppt/slides/_rels/slide308.xml.rels" ContentType="application/vnd.openxmlformats-package.relationships+xml"/>
  <Override PartName="/ppt/slides/_rels/slide529.xml.rels" ContentType="application/vnd.openxmlformats-package.relationships+xml"/>
  <Override PartName="/ppt/slides/_rels/slide528.xml.rels" ContentType="application/vnd.openxmlformats-package.relationships+xml"/>
  <Override PartName="/ppt/slides/_rels/slide234.xml.rels" ContentType="application/vnd.openxmlformats-package.relationships+xml"/>
  <Override PartName="/ppt/slides/_rels/slide374.xml.rels" ContentType="application/vnd.openxmlformats-package.relationships+xml"/>
  <Override PartName="/ppt/slides/_rels/slide580.xml.rels" ContentType="application/vnd.openxmlformats-package.relationships+xml"/>
  <Override PartName="/ppt/slides/_rels/slide522.xml.rels" ContentType="application/vnd.openxmlformats-package.relationships+xml"/>
  <Override PartName="/ppt/slides/_rels/slide400.xml.rels" ContentType="application/vnd.openxmlformats-package.relationships+xml"/>
  <Override PartName="/ppt/slides/_rels/slide527.xml.rels" ContentType="application/vnd.openxmlformats-package.relationships+xml"/>
  <Override PartName="/ppt/slides/_rels/slide233.xml.rels" ContentType="application/vnd.openxmlformats-package.relationships+xml"/>
  <Override PartName="/ppt/slides/_rels/slide526.xml.rels" ContentType="application/vnd.openxmlformats-package.relationships+xml"/>
  <Override PartName="/ppt/slides/_rels/slide584.xml.rels" ContentType="application/vnd.openxmlformats-package.relationships+xml"/>
  <Override PartName="/ppt/slides/_rels/slide232.xml.rels" ContentType="application/vnd.openxmlformats-package.relationships+xml"/>
  <Override PartName="/ppt/slides/_rels/slide355.xml.rels" ContentType="application/vnd.openxmlformats-package.relationships+xml"/>
  <Override PartName="/ppt/slides/_rels/slide503.xml.rels" ContentType="application/vnd.openxmlformats-package.relationships+xml"/>
  <Override PartName="/ppt/slides/_rels/slide519.xml.rels" ContentType="application/vnd.openxmlformats-package.relationships+xml"/>
  <Override PartName="/ppt/slides/_rels/slide516.xml.rels" ContentType="application/vnd.openxmlformats-package.relationships+xml"/>
  <Override PartName="/ppt/slides/_rels/slide368.xml.rels" ContentType="application/vnd.openxmlformats-package.relationships+xml"/>
  <Override PartName="/ppt/slides/_rels/slide344.xml.rels" ContentType="application/vnd.openxmlformats-package.relationships+xml"/>
  <Override PartName="/ppt/slides/_rels/slide509.xml.rels" ContentType="application/vnd.openxmlformats-package.relationships+xml"/>
  <Override PartName="/ppt/slides/_rels/slide331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531.xml.rels" ContentType="application/vnd.openxmlformats-package.relationships+xml"/>
  <Override PartName="/ppt/slides/_rels/slide548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553.xml.rels" ContentType="application/vnd.openxmlformats-package.relationships+xml"/>
  <Override PartName="/ppt/slides/_rels/slide347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545.xml.rels" ContentType="application/vnd.openxmlformats-package.relationships+xml"/>
  <Override PartName="/ppt/slides/_rels/slide339.xml.rels" ContentType="application/vnd.openxmlformats-package.relationships+xml"/>
  <Override PartName="/ppt/slides/_rels/slide443.xml.rels" ContentType="application/vnd.openxmlformats-package.relationships+xml"/>
  <Override PartName="/ppt/slides/_rels/slide246.xml.rels" ContentType="application/vnd.openxmlformats-package.relationships+xml"/>
  <Override PartName="/ppt/slides/_rels/slide350.xml.rels" ContentType="application/vnd.openxmlformats-package.relationships+xml"/>
  <Override PartName="/ppt/slides/_rels/slide50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147.xml.rels" ContentType="application/vnd.openxmlformats-package.relationships+xml"/>
  <Override PartName="/ppt/slides/_rels/slide348.xml.rels" ContentType="application/vnd.openxmlformats-package.relationships+xml"/>
  <Override PartName="/ppt/slides/_rels/slide554.xml.rels" ContentType="application/vnd.openxmlformats-package.relationships+xml"/>
  <Override PartName="/ppt/slides/_rels/slide549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15.xml.rels" ContentType="application/vnd.openxmlformats-package.relationships+xml"/>
  <Override PartName="/ppt/slides/_rels/slide436.xml.rels" ContentType="application/vnd.openxmlformats-package.relationships+xml"/>
  <Override PartName="/ppt/slides/_rels/slide540.xml.rels" ContentType="application/vnd.openxmlformats-package.relationships+xml"/>
  <Override PartName="/ppt/slides/_rels/slide379.xml.rels" ContentType="application/vnd.openxmlformats-package.relationships+xml"/>
  <Override PartName="/ppt/slides/_rels/slide54.xml.rels" ContentType="application/vnd.openxmlformats-package.relationships+xml"/>
  <Override PartName="/ppt/slides/_rels/slide448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511.xml.rels" ContentType="application/vnd.openxmlformats-package.relationships+xml"/>
  <Override PartName="/ppt/slides/_rels/slide490.xml.rels" ContentType="application/vnd.openxmlformats-package.relationships+xml"/>
  <Override PartName="/ppt/slides/_rels/slide16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488.xml.rels" ContentType="application/vnd.openxmlformats-package.relationships+xml"/>
  <Override PartName="/ppt/slides/_rels/slide352.xml.rels" ContentType="application/vnd.openxmlformats-package.relationships+xml"/>
  <Override PartName="/ppt/slides/_rels/slide146.xml.rels" ContentType="application/vnd.openxmlformats-package.relationships+xml"/>
  <Override PartName="/ppt/slides/_rels/slide211.xml.rels" ContentType="application/vnd.openxmlformats-package.relationships+xml"/>
  <Override PartName="/ppt/slides/_rels/slide562.xml.rels" ContentType="application/vnd.openxmlformats-package.relationships+xml"/>
  <Override PartName="/ppt/slides/_rels/slide586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574.xml.rels" ContentType="application/vnd.openxmlformats-package.relationships+xml"/>
  <Override PartName="/ppt/slides/_rels/slide557.xml.rels" ContentType="application/vnd.openxmlformats-package.relationships+xml"/>
  <Override PartName="/ppt/slides/_rels/slide11.xml.rels" ContentType="application/vnd.openxmlformats-package.relationships+xml"/>
  <Override PartName="/ppt/slides/_rels/slide561.xml.rels" ContentType="application/vnd.openxmlformats-package.relationships+xml"/>
  <Override PartName="/ppt/slides/_rels/slide9.xml.rels" ContentType="application/vnd.openxmlformats-package.relationships+xml"/>
  <Override PartName="/ppt/slides/_rels/slide573.xml.rels" ContentType="application/vnd.openxmlformats-package.relationships+xml"/>
  <Override PartName="/ppt/slides/_rels/slide556.xml.rels" ContentType="application/vnd.openxmlformats-package.relationships+xml"/>
  <Override PartName="/ppt/slides/_rels/slide10.xml.rels" ContentType="application/vnd.openxmlformats-package.relationships+xml"/>
  <Override PartName="/ppt/slides/_rels/slide409.xml.rels" ContentType="application/vnd.openxmlformats-package.relationships+xml"/>
  <Override PartName="/ppt/slides/_rels/slide560.xml.rels" ContentType="application/vnd.openxmlformats-package.relationships+xml"/>
  <Override PartName="/ppt/slides/_rels/slide572.xml.rels" ContentType="application/vnd.openxmlformats-package.relationships+xml"/>
  <Override PartName="/ppt/slides/_rels/slide249.xml.rels" ContentType="application/vnd.openxmlformats-package.relationships+xml"/>
  <Override PartName="/ppt/slides/_rels/slide551.xml.rels" ContentType="application/vnd.openxmlformats-package.relationships+xml"/>
  <Override PartName="/ppt/slides/_rels/slide396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349.xml.rels" ContentType="application/vnd.openxmlformats-package.relationships+xml"/>
  <Override PartName="/ppt/slides/_rels/slide555.xml.rels" ContentType="application/vnd.openxmlformats-package.relationships+xml"/>
  <Override PartName="/ppt/slides/_rels/slide408.xml.rels" ContentType="application/vnd.openxmlformats-package.relationships+xml"/>
  <Override PartName="/ppt/slides/_rels/slide189.xml.rels" ContentType="application/vnd.openxmlformats-package.relationships+xml"/>
  <Override PartName="/ppt/slides/_rels/slide491.xml.rels" ContentType="application/vnd.openxmlformats-package.relationships+xml"/>
  <Override PartName="/ppt/slides/_rels/slide17.xml.rels" ContentType="application/vnd.openxmlformats-package.relationships+xml"/>
  <Override PartName="/ppt/slides/_rels/slide165.xml.rels" ContentType="application/vnd.openxmlformats-package.relationships+xml"/>
  <Override PartName="/ppt/slides/_rels/slide107.xml.rels" ContentType="application/vnd.openxmlformats-package.relationships+xml"/>
  <Override PartName="/ppt/slides/_rels/slide313.xml.rels" ContentType="application/vnd.openxmlformats-package.relationships+xml"/>
  <Override PartName="/ppt/slides/_rels/slide459.xml.rels" ContentType="application/vnd.openxmlformats-package.relationships+xml"/>
  <Override PartName="/ppt/slides/_rels/slide563.xml.rels" ContentType="application/vnd.openxmlformats-package.relationships+xml"/>
  <Override PartName="/ppt/slides/_rels/slide248.xml.rels" ContentType="application/vnd.openxmlformats-package.relationships+xml"/>
  <Override PartName="/ppt/slides/_rels/slide550.xml.rels" ContentType="application/vnd.openxmlformats-package.relationships+xml"/>
  <Override PartName="/ppt/slides/_rels/slide395.xml.rels" ContentType="application/vnd.openxmlformats-package.relationships+xml"/>
  <Override PartName="/ppt/slides/_rels/slide247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41.xml.rels" ContentType="application/vnd.openxmlformats-package.relationships+xml"/>
  <Override PartName="/ppt/slides/_rels/slide70.xml.rels" ContentType="application/vnd.openxmlformats-package.relationships+xml"/>
  <Override PartName="/ppt/slides/_rels/slide12.xml.rels" ContentType="application/vnd.openxmlformats-package.relationships+xml"/>
  <Override PartName="/ppt/slides/_rels/slide210.xml.rels" ContentType="application/vnd.openxmlformats-package.relationships+xml"/>
  <Override PartName="/ppt/slides/_rels/slide36.xml.rels" ContentType="application/vnd.openxmlformats-package.relationships+xml"/>
  <Override PartName="/ppt/slides/_rels/slide94.xml.rels" ContentType="application/vnd.openxmlformats-package.relationships+xml"/>
  <Override PartName="/ppt/slides/_rels/slide332.xml.rels" ContentType="application/vnd.openxmlformats-package.relationships+xml"/>
  <Override PartName="/ppt/slides/_rels/slide184.xml.rels" ContentType="application/vnd.openxmlformats-package.relationships+xml"/>
  <Override PartName="/ppt/slides/_rels/slide390.xml.rels" ContentType="application/vnd.openxmlformats-package.relationships+xml"/>
  <Override PartName="/ppt/slides/_rels/slide591.xml.rels" ContentType="application/vnd.openxmlformats-package.relationships+xml"/>
  <Override PartName="/ppt/slides/_rels/slide385.xml.rels" ContentType="application/vnd.openxmlformats-package.relationships+xml"/>
  <Override PartName="/ppt/slides/_rels/slide205.xml.rels" ContentType="application/vnd.openxmlformats-package.relationships+xml"/>
  <Override PartName="/ppt/slides/_rels/slide411.xml.rels" ContentType="application/vnd.openxmlformats-package.relationships+xml"/>
  <Override PartName="/ppt/slides/_rels/slide397.xml.rels" ContentType="application/vnd.openxmlformats-package.relationships+xml"/>
  <Override PartName="/ppt/slides/_rels/slide512.xml.rels" ContentType="application/vnd.openxmlformats-package.relationships+xml"/>
  <Override PartName="/ppt/slides/_rels/slide570.xml.rels" ContentType="application/vnd.openxmlformats-package.relationships+xml"/>
  <Override PartName="/ppt/slides/_rels/slide546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423.xml.rels" ContentType="application/vnd.openxmlformats-package.relationships+xml"/>
  <Override PartName="/ppt/slides/_rels/slide217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42.xml.rels" ContentType="application/vnd.openxmlformats-package.relationships+xml"/>
  <Override PartName="/ppt/slides/_rels/slide568.xml.rels" ContentType="application/vnd.openxmlformats-package.relationships+xml"/>
  <Override PartName="/ppt/slides/_rels/slide80.xml.rels" ContentType="application/vnd.openxmlformats-package.relationships+xml"/>
  <Override PartName="/ppt/slides/_rels/slide22.xml.rels" ContentType="application/vnd.openxmlformats-package.relationships+xml"/>
  <Override PartName="/ppt/slides/_rels/slide378.xml.rels" ContentType="application/vnd.openxmlformats-package.relationships+xml"/>
  <Override PartName="/ppt/slides/_rels/slide280.xml.rels" ContentType="application/vnd.openxmlformats-package.relationships+xml"/>
  <Override PartName="/ppt/slides/_rels/slide500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566.xml.rels" ContentType="application/vnd.openxmlformats-package.relationships+xml"/>
  <Override PartName="/ppt/slides/_rels/slide20.xml.rels" ContentType="application/vnd.openxmlformats-package.relationships+xml"/>
  <Override PartName="/ppt/slides/_rels/slide144.xml.rels" ContentType="application/vnd.openxmlformats-package.relationships+xml"/>
  <Override PartName="/ppt/slides/_rels/slide316.xml.rels" ContentType="application/vnd.openxmlformats-package.relationships+xml"/>
  <Override PartName="/ppt/slides/_rels/slide589.xml.rels" ContentType="application/vnd.openxmlformats-package.relationships+xml"/>
  <Override PartName="/ppt/slides/_rels/slide237.xml.rels" ContentType="application/vnd.openxmlformats-package.relationships+xml"/>
  <Override PartName="/ppt/slides/_rels/slide295.xml.rels" ContentType="application/vnd.openxmlformats-package.relationships+xml"/>
  <Override PartName="/ppt/slides/_rels/slide569.xml.rels" ContentType="application/vnd.openxmlformats-package.relationships+xml"/>
  <Override PartName="/ppt/slides/_rels/slide81.xml.rels" ContentType="application/vnd.openxmlformats-package.relationships+xml"/>
  <Override PartName="/ppt/slides/_rels/slide23.xml.rels" ContentType="application/vnd.openxmlformats-package.relationships+xml"/>
  <Override PartName="/ppt/slides/_rels/slide587.xml.rels" ContentType="application/vnd.openxmlformats-package.relationships+xml"/>
  <Override PartName="/ppt/slides/_rels/slide55.xml.rels" ContentType="application/vnd.openxmlformats-package.relationships+xml"/>
  <Override PartName="/ppt/slides/_rels/slide145.xml.rels" ContentType="application/vnd.openxmlformats-package.relationships+xml"/>
  <Override PartName="/ppt/slides/_rels/slide351.xml.rels" ContentType="application/vnd.openxmlformats-package.relationships+xml"/>
  <Override PartName="/ppt/slides/_rels/slide537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501.xml.rels" ContentType="application/vnd.openxmlformats-package.relationships+xml"/>
  <Override PartName="/ppt/slides/_rels/slide480.xml.rels" ContentType="application/vnd.openxmlformats-package.relationships+xml"/>
  <Override PartName="/ppt/slides/_rels/slide376.xml.rels" ContentType="application/vnd.openxmlformats-package.relationships+xml"/>
  <Override PartName="/ppt/slides/_rels/slide32.xml.rels" ContentType="application/vnd.openxmlformats-package.relationships+xml"/>
  <Override PartName="/ppt/slides/_rels/slide381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7.xml.rels" ContentType="application/vnd.openxmlformats-package.relationships+xml"/>
  <Override PartName="/ppt/slides/_rels/slide479.xml.rels" ContentType="application/vnd.openxmlformats-package.relationships+xml"/>
  <Override PartName="/ppt/slides/_rels/slide505.xml.rels" ContentType="application/vnd.openxmlformats-package.relationships+xml"/>
  <Override PartName="/ppt/slides/_rels/slide431.xml.rels" ContentType="application/vnd.openxmlformats-package.relationships+xml"/>
  <Override PartName="/ppt/slides/_rels/slide195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.xml.rels" ContentType="application/vnd.openxmlformats-package.relationships+xml"/>
  <Override PartName="/ppt/slides/_rels/slide498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.xml.rels" ContentType="application/vnd.openxmlformats-package.relationships+xml"/>
  <Override PartName="/ppt/slides/_rels/slide532.xml.rels" ContentType="application/vnd.openxmlformats-package.relationships+xml"/>
  <Override PartName="/ppt/slides/_rels/slide534.xml.rels" ContentType="application/vnd.openxmlformats-package.relationships+xml"/>
  <Override PartName="/ppt/slides/_rels/slide241.xml.rels" ContentType="application/vnd.openxmlformats-package.relationships+xml"/>
  <Override PartName="/ppt/slides/_rels/slide7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94.xml.rels" ContentType="application/vnd.openxmlformats-package.relationships+xml"/>
  <Override PartName="/ppt/slides/_rels/slide190.xml.rels" ContentType="application/vnd.openxmlformats-package.relationships+xml"/>
  <Override PartName="/ppt/slides/_rels/slide132.xml.rels" ContentType="application/vnd.openxmlformats-package.relationships+xml"/>
  <Override PartName="/ppt/slides/_rels/slide59.xml.rels" ContentType="application/vnd.openxmlformats-package.relationships+xml"/>
  <Override PartName="/ppt/slides/_rels/slide538.xml.rels" ContentType="application/vnd.openxmlformats-package.relationships+xml"/>
  <Override PartName="/ppt/slides/_rels/slide244.xml.rels" ContentType="application/vnd.openxmlformats-package.relationships+xml"/>
  <Override PartName="/ppt/slides/_rels/slide592.xml.rels" ContentType="application/vnd.openxmlformats-package.relationships+xml"/>
  <Override PartName="/ppt/slides/_rels/slide386.xml.rels" ContentType="application/vnd.openxmlformats-package.relationships+xml"/>
  <Override PartName="/ppt/slides/_rels/slide412.xml.rels" ContentType="application/vnd.openxmlformats-package.relationships+xml"/>
  <Override PartName="/ppt/slides/_rels/slide37.xml.rels" ContentType="application/vnd.openxmlformats-package.relationships+xml"/>
  <Override PartName="/ppt/slides/_rels/slide95.xml.rels" ContentType="application/vnd.openxmlformats-package.relationships+xml"/>
  <Override PartName="/ppt/slides/_rels/slide185.xml.rels" ContentType="application/vnd.openxmlformats-package.relationships+xml"/>
  <Override PartName="/ppt/slides/_rels/slide333.xml.rels" ContentType="application/vnd.openxmlformats-package.relationships+xml"/>
  <Override PartName="/ppt/slides/_rels/slide391.xml.rels" ContentType="application/vnd.openxmlformats-package.relationships+xml"/>
  <Override PartName="/ppt/slides/_rels/slide113.xml.rels" ContentType="application/vnd.openxmlformats-package.relationships+xml"/>
  <Override PartName="/ppt/slides/_rels/slide407.xml.rels" ContentType="application/vnd.openxmlformats-package.relationships+xml"/>
  <Override PartName="/ppt/slides/_rels/slide499.xml.rels" ContentType="application/vnd.openxmlformats-package.relationships+xml"/>
  <Override PartName="/ppt/slides/_rels/slide3.xml.rels" ContentType="application/vnd.openxmlformats-package.relationships+xml"/>
  <Override PartName="/ppt/slides/_rels/slide507.xml.rels" ContentType="application/vnd.openxmlformats-package.relationships+xml"/>
  <Override PartName="/ppt/slides/_rels/slide590.xml.rels" ContentType="application/vnd.openxmlformats-package.relationships+xml"/>
  <Override PartName="/ppt/slides/_rels/slide156.xml.rels" ContentType="application/vnd.openxmlformats-package.relationships+xml"/>
  <Override PartName="/ppt/slides/_rels/slide455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533.xml.rels" ContentType="application/vnd.openxmlformats-package.relationships+xml"/>
  <Override PartName="/ppt/slides/_rels/slide478.xml.rels" ContentType="application/vnd.openxmlformats-package.relationships+xml"/>
  <Override PartName="/ppt/slides/_rels/slide40.xml.rels" ContentType="application/vnd.openxmlformats-package.relationships+xml"/>
  <Override PartName="/ppt/slides/_rels/slide470.xml.rels" ContentType="application/vnd.openxmlformats-package.relationships+xml"/>
  <Override PartName="/ppt/slides/_rels/slide454.xml.rels" ContentType="application/vnd.openxmlformats-package.relationships+xml"/>
  <Override PartName="/ppt/slides/_rels/slide221.xml.rels" ContentType="application/vnd.openxmlformats-package.relationships+xml"/>
  <Override PartName="/ppt/slides/_rels/slide515.xml.rels" ContentType="application/vnd.openxmlformats-package.relationships+xml"/>
  <Override PartName="/ppt/slides/_rels/slide520.xml.rels" ContentType="application/vnd.openxmlformats-package.relationships+xml"/>
  <Override PartName="/ppt/slides/_rels/slide446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306.xml.rels" ContentType="application/vnd.openxmlformats-package.relationships+xml"/>
  <Override PartName="/ppt/slides/_rels/slide453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2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452.xml.rels" ContentType="application/vnd.openxmlformats-package.relationships+xml"/>
  <Override PartName="/ppt/slides/_rels/slide46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521.xml.rels" ContentType="application/vnd.openxmlformats-package.relationships+xml"/>
  <Override PartName="/ppt/slides/_rels/slide579.xml.rels" ContentType="application/vnd.openxmlformats-package.relationships+xml"/>
  <Override PartName="/ppt/slides/_rels/slide137.xml.rels" ContentType="application/vnd.openxmlformats-package.relationships+xml"/>
  <Override PartName="/ppt/slides/_rels/slide489.xml.rels" ContentType="application/vnd.openxmlformats-package.relationships+xml"/>
  <Override PartName="/ppt/slides/_rels/slide340.xml.rels" ContentType="application/vnd.openxmlformats-package.relationships+xml"/>
  <Override PartName="/ppt/slides/_rels/slide134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321.xml.rels" ContentType="application/vnd.openxmlformats-package.relationships+xml"/>
  <Override PartName="/ppt/slides/_rels/slide25.xml.rels" ContentType="application/vnd.openxmlformats-package.relationships+xml"/>
  <Override PartName="/ppt/slides/_rels/slide354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112.xml.rels" ContentType="application/vnd.openxmlformats-package.relationships+xml"/>
  <Override PartName="/ppt/slides/_rels/slide406.xml.rels" ContentType="application/vnd.openxmlformats-package.relationships+xml"/>
  <Override PartName="/ppt/slides/_rels/slide464.xml.rels" ContentType="application/vnd.openxmlformats-package.relationships+xml"/>
  <Override PartName="/ppt/slides/_rels/slide317.xml.rels" ContentType="application/vnd.openxmlformats-package.relationships+xml"/>
  <Override PartName="/ppt/slides/_rels/slide238.xml.rels" ContentType="application/vnd.openxmlformats-package.relationships+xml"/>
  <Override PartName="/ppt/slides/_rels/slide296.xml.rels" ContentType="application/vnd.openxmlformats-package.relationships+xml"/>
  <Override PartName="/ppt/slides/_rels/slide483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.xml.rels" ContentType="application/vnd.openxmlformats-package.relationships+xml"/>
  <Override PartName="/ppt/slides/_rels/slide223.xml.rels" ContentType="application/vnd.openxmlformats-package.relationships+xml"/>
  <Override PartName="/ppt/slides/_rels/slide345.xml.rels" ContentType="application/vnd.openxmlformats-package.relationships+xml"/>
  <Override PartName="/ppt/slides/_rels/slide197.xml.rels" ContentType="application/vnd.openxmlformats-package.relationships+xml"/>
  <Override PartName="/ppt/slides/_rels/slide465.xml.rels" ContentType="application/vnd.openxmlformats-package.relationships+xml"/>
  <Override PartName="/ppt/slides/_rels/slide430.xml.rels" ContentType="application/vnd.openxmlformats-package.relationships+xml"/>
  <Override PartName="/ppt/slides/_rels/slide128.xml.rels" ContentType="application/vnd.openxmlformats-package.relationships+xml"/>
  <Override PartName="/ppt/slides/_rels/slide138.xml.rels" ContentType="application/vnd.openxmlformats-package.relationships+xml"/>
  <Override PartName="/ppt/slides/_rels/slide242.xml.rels" ContentType="application/vnd.openxmlformats-package.relationships+xml"/>
  <Override PartName="/ppt/slides/_rels/slide482.xml.rels" ContentType="application/vnd.openxmlformats-package.relationships+xml"/>
  <Override PartName="/ppt/slides/_rels/slide130.xml.rels" ContentType="application/vnd.openxmlformats-package.relationships+xml"/>
  <Override PartName="/ppt/slides/_rels/slide139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567.xml.rels" ContentType="application/vnd.openxmlformats-package.relationships+xml"/>
  <Override PartName="/ppt/slides/_rels/slide502.xml.rels" ContentType="application/vnd.openxmlformats-package.relationships+xml"/>
  <Override PartName="/ppt/slides/_rels/slide481.xml.rels" ContentType="application/vnd.openxmlformats-package.relationships+xml"/>
  <Override PartName="/ppt/slides/_rels/slide377.xml.rels" ContentType="application/vnd.openxmlformats-package.relationships+xml"/>
  <Override PartName="/ppt/slides/_rels/slide451.xml.rels" ContentType="application/vnd.openxmlformats-package.relationships+xml"/>
  <Override PartName="/ppt/slides/_rels/slide359.xml.rels" ContentType="application/vnd.openxmlformats-package.relationships+xml"/>
  <Override PartName="/ppt/slides/_rels/slide158.xml.rels" ContentType="application/vnd.openxmlformats-package.relationships+xml"/>
  <Override PartName="/ppt/slides/_rels/slide364.xml.rels" ContentType="application/vnd.openxmlformats-package.relationships+xml"/>
  <Override PartName="/ppt/slides/_rels/slide220.xml.rels" ContentType="application/vnd.openxmlformats-package.relationships+xml"/>
  <Override PartName="/ppt/slides/_rels/slide514.xml.rels" ContentType="application/vnd.openxmlformats-package.relationships+xml"/>
  <Override PartName="/ppt/slides/_rels/slide389.xml.rels" ContentType="application/vnd.openxmlformats-package.relationships+xml"/>
  <Override PartName="/ppt/slides/_rels/slide346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373.xml.rels" ContentType="application/vnd.openxmlformats-package.relationships+xml"/>
  <Override PartName="/ppt/slides/_rels/slide269.xml.rels" ContentType="application/vnd.openxmlformats-package.relationships+xml"/>
  <Override PartName="/ppt/slides/_rels/slide398.xml.rels" ContentType="application/vnd.openxmlformats-package.relationships+xml"/>
  <Override PartName="/ppt/slides/_rels/slide424.xml.rels" ContentType="application/vnd.openxmlformats-package.relationships+xml"/>
  <Override PartName="/ppt/slides/_rels/slide513.xml.rels" ContentType="application/vnd.openxmlformats-package.relationships+xml"/>
  <Override PartName="/ppt/slides/_rels/slide571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68.xml.rels" ContentType="application/vnd.openxmlformats-package.relationships+xml"/>
  <Override PartName="/ppt/slides/_rels/slide141.xml.rels" ContentType="application/vnd.openxmlformats-package.relationships+xml"/>
  <Override PartName="/ppt/slides/_rels/slide52.xml.rels" ContentType="application/vnd.openxmlformats-package.relationships+xml"/>
  <Override PartName="/ppt/slides/_rels/slide167.xml.rels" ContentType="application/vnd.openxmlformats-package.relationships+xml"/>
  <Override PartName="/ppt/slides/_rels/slide358.xml.rels" ContentType="application/vnd.openxmlformats-package.relationships+xml"/>
  <Override PartName="/ppt/slides/_rels/slide140.xml.rels" ContentType="application/vnd.openxmlformats-package.relationships+xml"/>
  <Override PartName="/ppt/slides/_rels/slide67.xml.rels" ContentType="application/vnd.openxmlformats-package.relationships+xml"/>
  <Override PartName="/ppt/slides/_rels/slide157.xml.rels" ContentType="application/vnd.openxmlformats-package.relationships+xml"/>
  <Override PartName="/ppt/slides/_rels/slide363.xml.rels" ContentType="application/vnd.openxmlformats-package.relationships+xml"/>
  <Override PartName="/ppt/slides/_rels/slide63.xml.rels" ContentType="application/vnd.openxmlformats-package.relationships+xml"/>
  <Override PartName="/ppt/slides/_rels/slide420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33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382.xml.rels" ContentType="application/vnd.openxmlformats-package.relationships+xml"/>
  <Override PartName="/ppt/slides/_rels/slide403.xml.rels" ContentType="application/vnd.openxmlformats-package.relationships+xml"/>
  <Override PartName="/ppt/slides/_rels/slide461.xml.rels" ContentType="application/vnd.openxmlformats-package.relationships+xml"/>
  <Override PartName="/ppt/slides/_rels/slide255.xml.rels" ContentType="application/vnd.openxmlformats-package.relationships+xml"/>
  <Override PartName="/ppt/slides/_rels/slide61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60.xml.rels" ContentType="application/vnd.openxmlformats-package.relationships+xml"/>
  <Override PartName="/ppt/slides/_rels/slide402.xml.rels" ContentType="application/vnd.openxmlformats-package.relationships+xml"/>
  <Override PartName="/ppt/slides/_rels/slide254.xml.rels" ContentType="application/vnd.openxmlformats-package.relationships+xml"/>
  <Override PartName="/ppt/slides/_rels/slide235.xml.rels" ContentType="application/vnd.openxmlformats-package.relationships+xml"/>
  <Override PartName="/ppt/slides/_rels/slide54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559.xml.rels" ContentType="application/vnd.openxmlformats-package.relationships+xml"/>
  <Override PartName="/ppt/slides/_rels/slide207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183.xml.rels" ContentType="application/vnd.openxmlformats-package.relationships+xml"/>
  <Override PartName="/ppt/slides/_rels/slide327.xml.rels" ContentType="application/vnd.openxmlformats-package.relationships+xml"/>
  <Override PartName="/ppt/slides/_rels/slide179.xml.rels" ContentType="application/vnd.openxmlformats-package.relationships+xml"/>
  <Override PartName="/ppt/slides/_rels/slide182.xml.rels" ContentType="application/vnd.openxmlformats-package.relationships+xml"/>
  <Override PartName="/ppt/slides/_rels/slide326.xml.rels" ContentType="application/vnd.openxmlformats-package.relationships+xml"/>
  <Override PartName="/ppt/slides/_rels/slide178.xml.rels" ContentType="application/vnd.openxmlformats-package.relationships+xml"/>
  <Override PartName="/ppt/slides/_rels/slide539.xml.rels" ContentType="application/vnd.openxmlformats-package.relationships+xml"/>
  <Override PartName="/ppt/slides/_rels/slide245.xml.rels" ContentType="application/vnd.openxmlformats-package.relationships+xml"/>
  <Override PartName="/ppt/slides/_rels/slide322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230.xml.rels" ContentType="application/vnd.openxmlformats-package.relationships+xml"/>
  <Override PartName="/ppt/slides/_rels/slide126.xml.rels" ContentType="application/vnd.openxmlformats-package.relationships+xml"/>
  <Override PartName="/ppt/slides/_rels/slide468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29.xml.rels" ContentType="application/vnd.openxmlformats-package.relationships+xml"/>
  <Override PartName="/ppt/slides/_rels/slide4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530.xml.rels" ContentType="application/vnd.openxmlformats-package.relationships+xml"/>
  <Override PartName="/ppt/slides/_rels/slide492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108.xml.rels" ContentType="application/vnd.openxmlformats-package.relationships+xml"/>
  <Override PartName="/ppt/slides/_rels/slide314.xml.rels" ContentType="application/vnd.openxmlformats-package.relationships+xml"/>
  <Override PartName="/ppt/slides/_rels/slide166.xml.rels" ContentType="application/vnd.openxmlformats-package.relationships+xml"/>
  <Override PartName="/ppt/slides/_rels/slide558.xml.rels" ContentType="application/vnd.openxmlformats-package.relationships+xml"/>
  <Override PartName="/ppt/slides/_rels/slide206.xml.rels" ContentType="application/vnd.openxmlformats-package.relationships+xml"/>
  <Override PartName="/ppt/slides/_rels/slide89.xml.rels" ContentType="application/vnd.openxmlformats-package.relationships+xml"/>
  <Override PartName="/ppt/slides/_rels/slide310.xml.rels" ContentType="application/vnd.openxmlformats-package.relationships+xml"/>
  <Override PartName="/ppt/slides/_rels/slide177.xml.rels" ContentType="application/vnd.openxmlformats-package.relationships+xml"/>
  <Override PartName="/ppt/slides/_rels/slide119.xml.rels" ContentType="application/vnd.openxmlformats-package.relationships+xml"/>
  <Override PartName="/ppt/slides/_rels/slide418.xml.rels" ContentType="application/vnd.openxmlformats-package.relationships+xml"/>
  <Override PartName="/ppt/slides/_rels/slide124.xml.rels" ContentType="application/vnd.openxmlformats-package.relationships+xml"/>
  <Override PartName="/ppt/slides/_rels/slide476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432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82.xml.rels" ContentType="application/vnd.openxmlformats-package.relationships+xml"/>
  <Override PartName="/ppt/slides/_rels/slide24.xml.rels" ContentType="application/vnd.openxmlformats-package.relationships+xml"/>
  <Override PartName="/ppt/slides/_rels/slide99.xml.rels" ContentType="application/vnd.openxmlformats-package.relationships+xml"/>
  <Override PartName="/ppt/slides/_rels/slide320.xml.rels" ContentType="application/vnd.openxmlformats-package.relationships+xml"/>
  <Override PartName="/ppt/slides/_rels/slide172.xml.rels" ContentType="application/vnd.openxmlformats-package.relationships+xml"/>
  <Override PartName="/ppt/slides/_rels/slide34.xml.rels" ContentType="application/vnd.openxmlformats-package.relationships+xml"/>
  <Override PartName="/ppt/slides/_rels/slide92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160.xml.rels" ContentType="application/vnd.openxmlformats-package.relationships+xml"/>
  <Override PartName="/ppt/slides/_rels/slide110.xml.rels" ContentType="application/vnd.openxmlformats-package.relationships+xml"/>
  <Override PartName="/ppt/slides/_rels/slide404.xml.rels" ContentType="application/vnd.openxmlformats-package.relationships+xml"/>
  <Override PartName="/ppt/slides/_rels/slide462.xml.rels" ContentType="application/vnd.openxmlformats-package.relationships+xml"/>
  <Override PartName="/ppt/slides/_rels/slide163.xml.rels" ContentType="application/vnd.openxmlformats-package.relationships+xml"/>
  <Override PartName="/ppt/slides/_rels/slide105.xml.rels" ContentType="application/vnd.openxmlformats-package.relationships+xml"/>
  <Override PartName="/ppt/slides/_rels/slide457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510.xml.rels" ContentType="application/vnd.openxmlformats-package.relationships+xml"/>
  <Override PartName="/ppt/slides/_rels/slide47.xml.rels" ContentType="application/vnd.openxmlformats-package.relationships+xml"/>
  <Override PartName="/ppt/slides/_rels/slide120.xml.rels" ContentType="application/vnd.openxmlformats-package.relationships+xml"/>
  <Override PartName="/ppt/slides/_rels/slide35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04.xml.rels" ContentType="application/vnd.openxmlformats-package.relationships+xml"/>
  <Override PartName="/ppt/slides/_rels/slide410.xml.rels" ContentType="application/vnd.openxmlformats-package.relationships+xml"/>
  <Override PartName="/ppt/slides/_rels/slide384.xml.rels" ContentType="application/vnd.openxmlformats-package.relationships+xml"/>
  <Override PartName="/ppt/slides/_rels/slide162.xml.rels" ContentType="application/vnd.openxmlformats-package.relationships+xml"/>
  <Override PartName="/ppt/slides/_rels/slide456.xml.rels" ContentType="application/vnd.openxmlformats-package.relationships+xml"/>
  <Override PartName="/ppt/slides/_rels/slide104.xml.rels" ContentType="application/vnd.openxmlformats-package.relationships+xml"/>
  <Override PartName="/ppt/slides/_rels/slide405.xml.rels" ContentType="application/vnd.openxmlformats-package.relationships+xml"/>
  <Override PartName="/ppt/slides/_rels/slide463.xml.rels" ContentType="application/vnd.openxmlformats-package.relationships+xml"/>
  <Override PartName="/ppt/slides/_rels/slide111.xml.rels" ContentType="application/vnd.openxmlformats-package.relationships+xml"/>
  <Override PartName="/ppt/slides/_rels/slide164.xml.rels" ContentType="application/vnd.openxmlformats-package.relationships+xml"/>
  <Override PartName="/ppt/slides/_rels/slide458.xml.rels" ContentType="application/vnd.openxmlformats-package.relationships+xml"/>
  <Override PartName="/ppt/slides/_rels/slide106.xml.rels" ContentType="application/vnd.openxmlformats-package.relationships+xml"/>
  <Override PartName="/ppt/slides/_rels/slide259.xml.rels" ContentType="application/vnd.openxmlformats-package.relationships+xml"/>
  <Override PartName="/ppt/slides/_rels/slide48.xml.rels" ContentType="application/vnd.openxmlformats-package.relationships+xml"/>
  <Override PartName="/ppt/slides/_rels/slide121.xml.rels" ContentType="application/vnd.openxmlformats-package.relationships+xml"/>
  <Override PartName="/ppt/slides/_rels/slide69.xml.rels" ContentType="application/vnd.openxmlformats-package.relationships+xml"/>
  <Override PartName="/ppt/slides/_rels/slide307.xml.rels" ContentType="application/vnd.openxmlformats-package.relationships+xml"/>
  <Override PartName="/ppt/slides/_rels/slide159.xml.rels" ContentType="application/vnd.openxmlformats-package.relationships+xml"/>
  <Override PartName="/ppt/slides/_rels/slide365.xml.rels" ContentType="application/vnd.openxmlformats-package.relationships+xml"/>
  <Override PartName="/ppt/slides/_rels/slide504.xml.rels" ContentType="application/vnd.openxmlformats-package.relationships+xml"/>
  <Override PartName="/ppt/slides/_rels/slide356.xml.rels" ContentType="application/vnd.openxmlformats-package.relationships+xml"/>
  <Override PartName="/ppt/slides/_rels/slide494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122.xml.rels" ContentType="application/vnd.openxmlformats-package.relationships+xml"/>
  <Override PartName="/ppt/slides/_rels/slide375.xml.rels" ContentType="application/vnd.openxmlformats-package.relationships+xml"/>
  <Override PartName="/ppt/slides/_rels/slide523.xml.rels" ContentType="application/vnd.openxmlformats-package.relationships+xml"/>
  <Override PartName="/ppt/slides/_rels/slide581.xml.rels" ContentType="application/vnd.openxmlformats-package.relationships+xml"/>
  <Override PartName="/ppt/slides/_rels/slide552.xml.rels" ContentType="application/vnd.openxmlformats-package.relationships+xml"/>
  <Override PartName="/ppt/slides/_rels/slide200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543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524.xml.rels" ContentType="application/vnd.openxmlformats-package.relationships+xml"/>
  <Override PartName="/ppt/slides/_rels/slide582.xml.rels" ContentType="application/vnd.openxmlformats-package.relationships+xml"/>
  <Override PartName="/ppt/slides/_rels/slide103.xml.rels" ContentType="application/vnd.openxmlformats-package.relationships+xml"/>
  <Override PartName="/ppt/slides/_rels/slide2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525.xml.rels" ContentType="application/vnd.openxmlformats-package.relationships+xml"/>
  <Override PartName="/ppt/slides/_rels/slide231.xml.rels" ContentType="application/vnd.openxmlformats-package.relationships+xml"/>
  <Override PartName="/ppt/slides/_rels/slide583.xml.rels" ContentType="application/vnd.openxmlformats-package.relationships+xml"/>
  <Override PartName="/ppt/slides/_rels/slide585.xml.rels" ContentType="application/vnd.openxmlformats-package.relationships+xml"/>
  <Override PartName="/ppt/slides/_rels/slide506.xml.rels" ContentType="application/vnd.openxmlformats-package.relationships+xml"/>
  <Override PartName="/ppt/slides/_rels/slide493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10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588.xml.rels" ContentType="application/vnd.openxmlformats-package.relationships+xml"/>
  <Override PartName="/ppt/slides/_rels/slide508.xml.rels" ContentType="application/vnd.openxmlformats-package.relationships+xml"/>
  <Override PartName="/ppt/slides/_rels/slide115.xml.rels" ContentType="application/vnd.openxmlformats-package.relationships+xml"/>
  <Override PartName="/ppt/slides/_rels/slide116.xml.rels" ContentType="application/vnd.openxmlformats-package.relationships+xml"/>
  <Override PartName="/ppt/slides/_rels/slide117.xml.rels" ContentType="application/vnd.openxmlformats-package.relationships+xml"/>
  <Override PartName="/ppt/slides/_rels/slide469.xml.rels" ContentType="application/vnd.openxmlformats-package.relationships+xml"/>
  <Override PartName="/ppt/slides/_rels/slide175.xml.rels" ContentType="application/vnd.openxmlformats-package.relationships+xml"/>
  <Override PartName="/ppt/slides/_rels/slide176.xml.rels" ContentType="application/vnd.openxmlformats-package.relationships+xml"/>
  <Override PartName="/ppt/slides/_rels/slide118.xml.rels" ContentType="application/vnd.openxmlformats-package.relationships+xml"/>
  <Override PartName="/ppt/slides/_rels/slide417.xml.rels" ContentType="application/vnd.openxmlformats-package.relationships+xml"/>
  <Override PartName="/ppt/slides/_rels/slide123.xml.rels" ContentType="application/vnd.openxmlformats-package.relationships+xml"/>
  <Override PartName="/ppt/slides/_rels/slide475.xml.rels" ContentType="application/vnd.openxmlformats-package.relationships+xml"/>
  <Override PartName="/ppt/slides/_rels/slide100.xml.rels" ContentType="application/vnd.openxmlformats-package.relationships+xml"/>
  <Override PartName="/ppt/slides/_rels/slide27.xml.rels" ContentType="application/vnd.openxmlformats-package.relationships+xml"/>
  <Override PartName="/ppt/slides/_rels/slide495.xml.rels" ContentType="application/vnd.openxmlformats-package.relationships+xml"/>
  <Override PartName="/ppt/slides/_rels/slide143.xml.rels" ContentType="application/vnd.openxmlformats-package.relationships+xml"/>
  <Override PartName="/ppt/slides/_rels/slide101.xml.rels" ContentType="application/vnd.openxmlformats-package.relationships+xml"/>
  <Override PartName="/ppt/slides/_rels/slide28.xml.rels" ContentType="application/vnd.openxmlformats-package.relationships+xml"/>
  <Override PartName="/ppt/slides/_rels/slide496.xml.rels" ContentType="application/vnd.openxmlformats-package.relationships+xml"/>
  <Override PartName="/ppt/slides/_rels/slide517.xml.rels" ContentType="application/vnd.openxmlformats-package.relationships+xml"/>
  <Override PartName="/ppt/slides/_rels/slide369.xml.rels" ContentType="application/vnd.openxmlformats-package.relationships+xml"/>
  <Override PartName="/ppt/slides/_rels/slide96.xml.rels" ContentType="application/vnd.openxmlformats-package.relationships+xml"/>
  <Override PartName="/ppt/slides/_rels/slide102.xml.rels" ContentType="application/vnd.openxmlformats-package.relationships+xml"/>
  <Override PartName="/ppt/slides/_rels/slide29.xml.rels" ContentType="application/vnd.openxmlformats-package.relationships+xml"/>
  <Override PartName="/ppt/slides/_rels/slide497.xml.rels" ContentType="application/vnd.openxmlformats-package.relationships+xml"/>
  <Override PartName="/ppt/slides/_rels/slide518.xml.rels" ContentType="application/vnd.openxmlformats-package.relationships+xml"/>
  <Override PartName="/ppt/slides/_rels/slide170.xml.rels" ContentType="application/vnd.openxmlformats-package.relationships+xml"/>
  <Override PartName="/ppt/slides/_rels/slide97.xml.rels" ContentType="application/vnd.openxmlformats-package.relationships+xml"/>
  <Override PartName="/ppt/slides/_rels/slide419.xml.rels" ContentType="application/vnd.openxmlformats-package.relationships+xml"/>
  <Override PartName="/ppt/slides/_rels/slide477.xml.rels" ContentType="application/vnd.openxmlformats-package.relationships+xml"/>
  <Override PartName="/ppt/slides/_rels/slide125.xml.rels" ContentType="application/vnd.openxmlformats-package.relationships+xml"/>
  <Override PartName="/ppt/slides/_rels/slide171.xml.rels" ContentType="application/vnd.openxmlformats-package.relationships+xml"/>
  <Override PartName="/ppt/slides/_rels/slide98.xml.rels" ContentType="application/vnd.openxmlformats-package.relationships+xml"/>
  <Override PartName="/ppt/slides/_rels/slide127.xml.rels" ContentType="application/vnd.openxmlformats-package.relationships+xml"/>
  <Override PartName="/ppt/slides/_rels/slide594.xml.rels" ContentType="application/vnd.openxmlformats-package.relationships+xml"/>
  <Override PartName="/ppt/slides/_rels/slide536.xml.rels" ContentType="application/vnd.openxmlformats-package.relationships+xml"/>
  <Override PartName="/ppt/slides/_rels/slide388.xml.rels" ContentType="application/vnd.openxmlformats-package.relationships+xml"/>
  <Override PartName="/ppt/slides/_rels/slide335.xml.rels" ContentType="application/vnd.openxmlformats-package.relationships+xml"/>
  <Override PartName="/ppt/slides/_rels/slide541.xml.rels" ContentType="application/vnd.openxmlformats-package.relationships+xml"/>
  <Override PartName="/ppt/slides/_rels/slide393.xml.rels" ContentType="application/vnd.openxmlformats-package.relationships+xml"/>
  <Override PartName="/ppt/slides/_rels/slide426.xml.rels" ContentType="application/vnd.openxmlformats-package.relationships+xml"/>
  <Override PartName="/ppt/slides/_rels/slide203.xml.rels" ContentType="application/vnd.openxmlformats-package.relationships+xml"/>
  <Override PartName="/ppt/slides/_rels/slide261.xml.rels" ContentType="application/vnd.openxmlformats-package.relationships+xml"/>
  <Override PartName="/ppt/slides/_rels/slide262.xml.rels" ContentType="application/vnd.openxmlformats-package.relationships+xml"/>
  <Override PartName="/ppt/slides/_rels/slide486.xml.rels" ContentType="application/vnd.openxmlformats-package.relationships+xml"/>
  <Override PartName="/ppt/slides/_rels/slide428.xml.rels" ContentType="application/vnd.openxmlformats-package.relationships+xml"/>
  <Override PartName="/ppt/slides/_rels/slide285.xml.rels" ContentType="application/vnd.openxmlformats-package.relationships+xml"/>
  <Override PartName="/ppt/slides/_rels/slide433.xml.rels" ContentType="application/vnd.openxmlformats-package.relationships+xml"/>
  <Override PartName="/ppt/slides/_rels/slide227.xml.rels" ContentType="application/vnd.openxmlformats-package.relationships+xml"/>
  <Override PartName="/ppt/slides/_rels/slide263.xml.rels" ContentType="application/vnd.openxmlformats-package.relationships+xml"/>
  <Override PartName="/ppt/slides/_rels/slide487.xml.rels" ContentType="application/vnd.openxmlformats-package.relationships+xml"/>
  <Override PartName="/ppt/slides/_rels/slide429.xml.rels" ContentType="application/vnd.openxmlformats-package.relationships+xml"/>
  <Override PartName="/ppt/slides/_rels/slide264.xml.rels" ContentType="application/vnd.openxmlformats-package.relationships+xml"/>
  <Override PartName="/ppt/slides/_rels/slide471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270.xml.rels" ContentType="application/vnd.openxmlformats-package.relationships+xml"/>
  <Override PartName="/ppt/slides/_rels/slide564.xml.rels" ContentType="application/vnd.openxmlformats-package.relationships+xml"/>
  <Override PartName="/ppt/slides/_rels/slide472.xml.rels" ContentType="application/vnd.openxmlformats-package.relationships+xml"/>
  <Override PartName="/ppt/slides/_rels/slide414.xml.rels" ContentType="application/vnd.openxmlformats-package.relationships+xml"/>
  <Override PartName="/ppt/slides/_rels/slide266.xml.rels" ContentType="application/vnd.openxmlformats-package.relationships+xml"/>
  <Override PartName="/ppt/slides/_rels/slide565.xml.rels" ContentType="application/vnd.openxmlformats-package.relationships+xml"/>
  <Override PartName="/ppt/slides/_rels/slide213.xml.rels" ContentType="application/vnd.openxmlformats-package.relationships+xml"/>
  <Override PartName="/ppt/slides/_rels/slide271.xml.rels" ContentType="application/vnd.openxmlformats-package.relationships+xml"/>
  <Override PartName="/ppt/slides/_rels/slide473.xml.rels" ContentType="application/vnd.openxmlformats-package.relationships+xml"/>
  <Override PartName="/ppt/slides/_rels/slide415.xml.rels" ContentType="application/vnd.openxmlformats-package.relationships+xml"/>
  <Override PartName="/ppt/slides/_rels/slide267.xml.rels" ContentType="application/vnd.openxmlformats-package.relationships+xml"/>
  <Override PartName="/ppt/slides/_rels/slide214.xml.rels" ContentType="application/vnd.openxmlformats-package.relationships+xml"/>
  <Override PartName="/ppt/slides/_rels/slide272.xml.rels" ContentType="application/vnd.openxmlformats-package.relationships+xml"/>
  <Override PartName="/ppt/slides/_rels/slide416.xml.rels" ContentType="application/vnd.openxmlformats-package.relationships+xml"/>
  <Override PartName="/ppt/slides/_rels/slide474.xml.rels" ContentType="application/vnd.openxmlformats-package.relationships+xml"/>
  <Override PartName="/ppt/slides/_rels/slide268.xml.rels" ContentType="application/vnd.openxmlformats-package.relationships+xml"/>
  <Override PartName="/ppt/slides/_rels/slide421.xml.rels" ContentType="application/vnd.openxmlformats-package.relationships+xml"/>
  <Override PartName="/ppt/slides/_rels/slide215.xml.rels" ContentType="application/vnd.openxmlformats-package.relationships+xml"/>
  <Override PartName="/ppt/slides/_rels/slide273.xml.rels" ContentType="application/vnd.openxmlformats-package.relationships+xml"/>
  <Override PartName="/ppt/slides/_rels/slide547.xml.rels" ContentType="application/vnd.openxmlformats-package.relationships+xml"/>
  <Override PartName="/ppt/slides/_rels/slide399.xml.rels" ContentType="application/vnd.openxmlformats-package.relationships+xml"/>
  <Override PartName="/ppt/slides/_rels/slide425.xml.rels" ContentType="application/vnd.openxmlformats-package.relationships+xml"/>
  <Override PartName="/ppt/slides/_rels/slide437.xml.rels" ContentType="application/vnd.openxmlformats-package.relationships+xml"/>
  <Override PartName="/ppt/slides/_rels/slide438.xml.rels" ContentType="application/vnd.openxmlformats-package.relationships+xml"/>
  <Override PartName="/ppt/slides/_rels/slide439.xml.rels" ContentType="application/vnd.openxmlformats-package.relationships+xml"/>
  <Override PartName="/ppt/slides/_rels/slide422.xml.rels" ContentType="application/vnd.openxmlformats-package.relationships+xml"/>
  <Override PartName="/ppt/slides/_rels/slide216.xml.rels" ContentType="application/vnd.openxmlformats-package.relationships+xml"/>
  <Override PartName="/ppt/slides/_rels/slide274.xml.rels" ContentType="application/vnd.openxmlformats-package.relationships+xml"/>
  <Override PartName="/ppt/slides/_rels/slide275.xml.rels" ContentType="application/vnd.openxmlformats-package.relationships+xml"/>
  <Override PartName="/ppt/slides/_rels/slide153.xml.rels" ContentType="application/vnd.openxmlformats-package.relationships+xml"/>
  <Override PartName="/ppt/slides/_rels/slide301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575.xml.rels" ContentType="application/vnd.openxmlformats-package.relationships+xml"/>
  <Override PartName="/ppt/slides/_rels/slide302.xml.rels" ContentType="application/vnd.openxmlformats-package.relationships+xml"/>
  <Override PartName="/ppt/slides/_rels/slide154.xml.rels" ContentType="application/vnd.openxmlformats-package.relationships+xml"/>
  <Override PartName="/ppt/slides/_rels/slide277.xml.rels" ContentType="application/vnd.openxmlformats-package.relationships+xml"/>
  <Override PartName="/ppt/slides/_rels/slide576.xml.rels" ContentType="application/vnd.openxmlformats-package.relationships+xml"/>
  <Override PartName="/ppt/slides/_rels/slide224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484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577.xml.rels" ContentType="application/vnd.openxmlformats-package.relationships+xml"/>
  <Override PartName="/ppt/slides/_rels/slide283.xml.rels" ContentType="application/vnd.openxmlformats-package.relationships+xml"/>
  <Override PartName="/ppt/slides/_rels/slide225.xml.rels" ContentType="application/vnd.openxmlformats-package.relationships+xml"/>
  <Override PartName="/ppt/slides/_rels/slide485.xml.rels" ContentType="application/vnd.openxmlformats-package.relationships+xml"/>
  <Override PartName="/ppt/slides/_rels/slide427.xml.rels" ContentType="application/vnd.openxmlformats-package.relationships+xml"/>
  <Override PartName="/ppt/slides/_rels/slide279.xml.rels" ContentType="application/vnd.openxmlformats-package.relationships+xml"/>
  <Override PartName="/ppt/slides/_rels/slide226.xml.rels" ContentType="application/vnd.openxmlformats-package.relationships+xml"/>
  <Override PartName="/ppt/slides/_rels/slide578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449.xml.rels" ContentType="application/vnd.openxmlformats-package.relationships+xml"/>
  <Override PartName="/ppt/slides/_rels/slide434.xml.rels" ContentType="application/vnd.openxmlformats-package.relationships+xml"/>
  <Override PartName="/ppt/slides/_rels/slide228.xml.rels" ContentType="application/vnd.openxmlformats-package.relationships+xml"/>
  <Override PartName="/ppt/slides/_rels/slide286.xml.rels" ContentType="application/vnd.openxmlformats-package.relationships+xml"/>
  <Override PartName="/ppt/slides/_rels/slide447.xml.rels" ContentType="application/vnd.openxmlformats-package.relationships+xml"/>
  <Override PartName="/ppt/slides/_rels/slide299.xml.rels" ContentType="application/vnd.openxmlformats-package.relationships+xml"/>
  <Override PartName="/ppt/slides/_rels/slide152.xml.rels" ContentType="application/vnd.openxmlformats-package.relationships+xml"/>
  <Override PartName="/ppt/slides/_rels/slide79.xml.rels" ContentType="application/vnd.openxmlformats-package.relationships+xml"/>
  <Override PartName="/ppt/slides/_rels/slide300.xml.rels" ContentType="application/vnd.openxmlformats-package.relationships+xml"/>
  <Override PartName="/ppt/slides/slide535.xml" ContentType="application/vnd.openxmlformats-officedocument.presentationml.slide+xml"/>
  <Override PartName="/ppt/slides/slide534.xml" ContentType="application/vnd.openxmlformats-officedocument.presentationml.slide+xml"/>
  <Override PartName="/ppt/slides/slide533.xml" ContentType="application/vnd.openxmlformats-officedocument.presentationml.slide+xml"/>
  <Override PartName="/ppt/slides/slide532.xml" ContentType="application/vnd.openxmlformats-officedocument.presentationml.slide+xml"/>
  <Override PartName="/ppt/slides/slide531.xml" ContentType="application/vnd.openxmlformats-officedocument.presentationml.slide+xml"/>
  <Override PartName="/ppt/slides/slide530.xml" ContentType="application/vnd.openxmlformats-officedocument.presentationml.slide+xml"/>
  <Override PartName="/ppt/slides/slide525.xml" ContentType="application/vnd.openxmlformats-officedocument.presentationml.slide+xml"/>
  <Override PartName="/ppt/slides/slide524.xml" ContentType="application/vnd.openxmlformats-officedocument.presentationml.slide+xml"/>
  <Override PartName="/ppt/slides/slide523.xml" ContentType="application/vnd.openxmlformats-officedocument.presentationml.slide+xml"/>
  <Override PartName="/ppt/slides/slide522.xml" ContentType="application/vnd.openxmlformats-officedocument.presentationml.slide+xml"/>
  <Override PartName="/ppt/slides/slide521.xml" ContentType="application/vnd.openxmlformats-officedocument.presentationml.slide+xml"/>
  <Override PartName="/ppt/slides/slide520.xml" ContentType="application/vnd.openxmlformats-officedocument.presentationml.slide+xml"/>
  <Override PartName="/ppt/slides/slide515.xml" ContentType="application/vnd.openxmlformats-officedocument.presentationml.slide+xml"/>
  <Override PartName="/ppt/slides/slide514.xml" ContentType="application/vnd.openxmlformats-officedocument.presentationml.slide+xml"/>
  <Override PartName="/ppt/slides/slide513.xml" ContentType="application/vnd.openxmlformats-officedocument.presentationml.slide+xml"/>
  <Override PartName="/ppt/slides/slide512.xml" ContentType="application/vnd.openxmlformats-officedocument.presentationml.slide+xml"/>
  <Override PartName="/ppt/slides/slide511.xml" ContentType="application/vnd.openxmlformats-officedocument.presentationml.slide+xml"/>
  <Override PartName="/ppt/slides/slide510.xml" ContentType="application/vnd.openxmlformats-officedocument.presentationml.slide+xml"/>
  <Override PartName="/ppt/slides/slide505.xml" ContentType="application/vnd.openxmlformats-officedocument.presentationml.slide+xml"/>
  <Override PartName="/ppt/slides/slide504.xml" ContentType="application/vnd.openxmlformats-officedocument.presentationml.slide+xml"/>
  <Override PartName="/ppt/slides/slide503.xml" ContentType="application/vnd.openxmlformats-officedocument.presentationml.slide+xml"/>
  <Override PartName="/ppt/slides/slide502.xml" ContentType="application/vnd.openxmlformats-officedocument.presentationml.slide+xml"/>
  <Override PartName="/ppt/slides/slide501.xml" ContentType="application/vnd.openxmlformats-officedocument.presentationml.slide+xml"/>
  <Override PartName="/ppt/slides/slide500.xml" ContentType="application/vnd.openxmlformats-officedocument.presentationml.slide+xml"/>
  <Override PartName="/ppt/slides/slide499.xml" ContentType="application/vnd.openxmlformats-officedocument.presentationml.slide+xml"/>
  <Override PartName="/ppt/slides/slide498.xml" ContentType="application/vnd.openxmlformats-officedocument.presentationml.slide+xml"/>
  <Override PartName="/ppt/slides/slide489.xml" ContentType="application/vnd.openxmlformats-officedocument.presentationml.slide+xml"/>
  <Override PartName="/ppt/slides/slide488.xml" ContentType="application/vnd.openxmlformats-officedocument.presentationml.slide+xml"/>
  <Override PartName="/ppt/slides/slide479.xml" ContentType="application/vnd.openxmlformats-officedocument.presentationml.slide+xml"/>
  <Override PartName="/ppt/slides/slide478.xml" ContentType="application/vnd.openxmlformats-officedocument.presentationml.slide+xml"/>
  <Override PartName="/ppt/slides/slide477.xml" ContentType="application/vnd.openxmlformats-officedocument.presentationml.slide+xml"/>
  <Override PartName="/ppt/slides/slide476.xml" ContentType="application/vnd.openxmlformats-officedocument.presentationml.slide+xml"/>
  <Override PartName="/ppt/slides/slide475.xml" ContentType="application/vnd.openxmlformats-officedocument.presentationml.slide+xml"/>
  <Override PartName="/ppt/slides/slide474.xml" ContentType="application/vnd.openxmlformats-officedocument.presentationml.slide+xml"/>
  <Override PartName="/ppt/slides/slide473.xml" ContentType="application/vnd.openxmlformats-officedocument.presentationml.slide+xml"/>
  <Override PartName="/ppt/slides/slide472.xml" ContentType="application/vnd.openxmlformats-officedocument.presentationml.slide+xml"/>
  <Override PartName="/ppt/slides/slide471.xml" ContentType="application/vnd.openxmlformats-officedocument.presentationml.slide+xml"/>
  <Override PartName="/ppt/slides/slide470.xml" ContentType="application/vnd.openxmlformats-officedocument.presentationml.slide+xml"/>
  <Override PartName="/ppt/slides/slide469.xml" ContentType="application/vnd.openxmlformats-officedocument.presentationml.slide+xml"/>
  <Override PartName="/ppt/slides/slide468.xml" ContentType="application/vnd.openxmlformats-officedocument.presentationml.slide+xml"/>
  <Override PartName="/ppt/slides/slide467.xml" ContentType="application/vnd.openxmlformats-officedocument.presentationml.slide+xml"/>
  <Override PartName="/ppt/slides/slide466.xml" ContentType="application/vnd.openxmlformats-officedocument.presentationml.slide+xml"/>
  <Override PartName="/ppt/slides/slide465.xml" ContentType="application/vnd.openxmlformats-officedocument.presentationml.slide+xml"/>
  <Override PartName="/ppt/slides/slide464.xml" ContentType="application/vnd.openxmlformats-officedocument.presentationml.slide+xml"/>
  <Override PartName="/ppt/slides/slide463.xml" ContentType="application/vnd.openxmlformats-officedocument.presentationml.slide+xml"/>
  <Override PartName="/ppt/slides/slide462.xml" ContentType="application/vnd.openxmlformats-officedocument.presentationml.slide+xml"/>
  <Override PartName="/ppt/slides/slide461.xml" ContentType="application/vnd.openxmlformats-officedocument.presentationml.slide+xml"/>
  <Override PartName="/ppt/slides/slide460.xml" ContentType="application/vnd.openxmlformats-officedocument.presentationml.slide+xml"/>
  <Override PartName="/ppt/slides/slide455.xml" ContentType="application/vnd.openxmlformats-officedocument.presentationml.slide+xml"/>
  <Override PartName="/ppt/slides/slide454.xml" ContentType="application/vnd.openxmlformats-officedocument.presentationml.slide+xml"/>
  <Override PartName="/ppt/slides/slide453.xml" ContentType="application/vnd.openxmlformats-officedocument.presentationml.slide+xml"/>
  <Override PartName="/ppt/slides/slide452.xml" ContentType="application/vnd.openxmlformats-officedocument.presentationml.slide+xml"/>
  <Override PartName="/ppt/slides/slide451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4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482.xml" ContentType="application/vnd.openxmlformats-officedocument.presentationml.slide+xml"/>
  <Override PartName="/ppt/slides/slide14.xml" ContentType="application/vnd.openxmlformats-officedocument.presentationml.slide+xml"/>
  <Override PartName="/ppt/slides/slide346.xml" ContentType="application/vnd.openxmlformats-officedocument.presentationml.slide+xml"/>
  <Override PartName="/ppt/slides/slide180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540.xml" ContentType="application/vnd.openxmlformats-officedocument.presentationml.slide+xml"/>
  <Override PartName="/ppt/slides/slide233.xml" ContentType="application/vnd.openxmlformats-officedocument.presentationml.slide+xml"/>
  <Override PartName="/ppt/slides/slide545.xml" ContentType="application/vnd.openxmlformats-officedocument.presentationml.slide+xml"/>
  <Override PartName="/ppt/slides/slide243.xml" ContentType="application/vnd.openxmlformats-officedocument.presentationml.slide+xml"/>
  <Override PartName="/ppt/slides/slide195.xml" ContentType="application/vnd.openxmlformats-officedocument.presentationml.slide+xml"/>
  <Override PartName="/ppt/slides/slide409.xml" ContentType="application/vnd.openxmlformats-officedocument.presentationml.slide+xml"/>
  <Override PartName="/ppt/slides/slide541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546.xml" ContentType="application/vnd.openxmlformats-officedocument.presentationml.slide+xml"/>
  <Override PartName="/ppt/slides/slide244.xml" ContentType="application/vnd.openxmlformats-officedocument.presentationml.slide+xml"/>
  <Override PartName="/ppt/slides/slide240.xml" ContentType="application/vnd.openxmlformats-officedocument.presentationml.slide+xml"/>
  <Override PartName="/ppt/slides/slide368.xml" ContentType="application/vnd.openxmlformats-officedocument.presentationml.slide+xml"/>
  <Override PartName="/ppt/slides/slide542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481.xml" ContentType="application/vnd.openxmlformats-officedocument.presentationml.slide+xml"/>
  <Override PartName="/ppt/slides/slide13.xml" ContentType="application/vnd.openxmlformats-officedocument.presentationml.slide+xml"/>
  <Override PartName="/ppt/slides/slide210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484.xml" ContentType="application/vnd.openxmlformats-officedocument.presentationml.slide+xml"/>
  <Override PartName="/ppt/slides/slide263.xml" ContentType="application/vnd.openxmlformats-officedocument.presentationml.slide+xml"/>
  <Override PartName="/ppt/slides/slide429.xml" ContentType="application/vnd.openxmlformats-officedocument.presentationml.slide+xml"/>
  <Override PartName="/ppt/slides/slide157.xml" ContentType="application/vnd.openxmlformats-officedocument.presentationml.slide+xml"/>
  <Override PartName="/ppt/slides/slide9.xml" ContentType="application/vnd.openxmlformats-officedocument.presentationml.slide+xml"/>
  <Override PartName="/ppt/slides/slide566.xml" ContentType="application/vnd.openxmlformats-officedocument.presentationml.slide+xml"/>
  <Override PartName="/ppt/slides/slide381.xml" ContentType="application/vnd.openxmlformats-officedocument.presentationml.slide+xml"/>
  <Override PartName="/ppt/slides/slide547.xml" ContentType="application/vnd.openxmlformats-officedocument.presentationml.slide+xml"/>
  <Override PartName="/ppt/slides/slide245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241.xml" ContentType="application/vnd.openxmlformats-officedocument.presentationml.slide+xml"/>
  <Override PartName="/ppt/slides/slide369.xml" ContentType="application/vnd.openxmlformats-officedocument.presentationml.slide+xml"/>
  <Override PartName="/ppt/slides/slide153.xml" ContentType="application/vnd.openxmlformats-officedocument.presentationml.slide+xml"/>
  <Override PartName="/ppt/slides/slide5.xml" ContentType="application/vnd.openxmlformats-officedocument.presentationml.slide+xml"/>
  <Override PartName="/ppt/slides/slide543.xml" ContentType="application/vnd.openxmlformats-officedocument.presentationml.slide+xml"/>
  <Override PartName="/ppt/slides/slide242.xml" ContentType="application/vnd.openxmlformats-officedocument.presentationml.slide+xml"/>
  <Override PartName="/ppt/slides/slide408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54.xml" ContentType="application/vnd.openxmlformats-officedocument.presentationml.slide+xml"/>
  <Override PartName="/ppt/slides/slide6.xml" ContentType="application/vnd.openxmlformats-officedocument.presentationml.slide+xml"/>
  <Override PartName="/ppt/slides/slide544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28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28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2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3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406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358.xml" ContentType="application/vnd.openxmlformats-officedocument.presentationml.slide+xml"/>
  <Override PartName="/ppt/slides/slide4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407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359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480.xml" ContentType="application/vnd.openxmlformats-officedocument.presentationml.slide+xml"/>
  <Override PartName="/ppt/slides/slide12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490.xml" ContentType="application/vnd.openxmlformats-officedocument.presentationml.slide+xml"/>
  <Override PartName="/ppt/slides/slide2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380.xml" ContentType="application/vnd.openxmlformats-officedocument.presentationml.slide+xml"/>
  <Override PartName="/ppt/slides/slide565.xml" ContentType="application/vnd.openxmlformats-officedocument.presentationml.slide+xml"/>
  <Override PartName="/ppt/slides/slide262.xml" ContentType="application/vnd.openxmlformats-officedocument.presentationml.slide+xml"/>
  <Override PartName="/ppt/slides/slide42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418.xml" ContentType="application/vnd.openxmlformats-officedocument.presentationml.slide+xml"/>
  <Override PartName="/ppt/slides/slide252.xml" ContentType="application/vnd.openxmlformats-officedocument.presentationml.slide+xml"/>
  <Override PartName="/ppt/slides/slide417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1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4.xml" ContentType="application/vnd.openxmlformats-officedocument.presentationml.slide+xml"/>
  <Override PartName="/ppt/slides/slide563.xml" ContentType="application/vnd.openxmlformats-officedocument.presentationml.slide+xml"/>
  <Override PartName="/ppt/slides/slide260.xml" ContentType="application/vnd.openxmlformats-officedocument.presentationml.slide+xml"/>
  <Override PartName="/ppt/slides/slide388.xml" ContentType="application/vnd.openxmlformats-officedocument.presentationml.slide+xml"/>
  <Override PartName="/ppt/slides/slide426.xml" ContentType="application/vnd.openxmlformats-officedocument.presentationml.slide+xml"/>
  <Override PartName="/ppt/slides/slide558.xml" ContentType="application/vnd.openxmlformats-officedocument.presentationml.slide+xml"/>
  <Override PartName="/ppt/slides/slide430.xml" ContentType="application/vnd.openxmlformats-officedocument.presentationml.slide+xml"/>
  <Override PartName="/ppt/slides/slide255.xml" ContentType="application/vnd.openxmlformats-officedocument.presentationml.slide+xml"/>
  <Override PartName="/ppt/slides/slide110.xml" ContentType="application/vnd.openxmlformats-officedocument.presentationml.slide+xml"/>
  <Override PartName="/ppt/slides/slide564.xml" ContentType="application/vnd.openxmlformats-officedocument.presentationml.slide+xml"/>
  <Override PartName="/ppt/slides/slide261.xml" ContentType="application/vnd.openxmlformats-officedocument.presentationml.slide+xml"/>
  <Override PartName="/ppt/slides/slide389.xml" ContentType="application/vnd.openxmlformats-officedocument.presentationml.slide+xml"/>
  <Override PartName="/ppt/slides/slide427.xml" ContentType="application/vnd.openxmlformats-officedocument.presentationml.slide+xml"/>
  <Override PartName="/ppt/slides/slide559.xml" ContentType="application/vnd.openxmlformats-officedocument.presentationml.slide+xml"/>
  <Override PartName="/ppt/slides/slide43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570.xml" ContentType="application/vnd.openxmlformats-officedocument.presentationml.slide+xml"/>
  <Override PartName="/ppt/slides/slide395.xml" ContentType="application/vnd.openxmlformats-officedocument.presentationml.slide+xml"/>
  <Override PartName="/ppt/slides/slide433.xml" ContentType="application/vnd.openxmlformats-officedocument.presentationml.slide+xml"/>
  <Override PartName="/ppt/slides/slide571.xml" ContentType="application/vnd.openxmlformats-officedocument.presentationml.slide+xml"/>
  <Override PartName="/ppt/slides/slide396.xml" ContentType="application/vnd.openxmlformats-officedocument.presentationml.slide+xml"/>
  <Override PartName="/ppt/slides/slide434.xml" ContentType="application/vnd.openxmlformats-officedocument.presentationml.slide+xml"/>
  <Override PartName="/ppt/slides/slide560.xml" ContentType="application/vnd.openxmlformats-officedocument.presentationml.slide+xml"/>
  <Override PartName="/ppt/slides/slide385.xml" ContentType="application/vnd.openxmlformats-officedocument.presentationml.slide+xml"/>
  <Override PartName="/ppt/slides/slide423.xml" ContentType="application/vnd.openxmlformats-officedocument.presentationml.slide+xml"/>
  <Override PartName="/ppt/slides/slide572.xml" ContentType="application/vnd.openxmlformats-officedocument.presentationml.slide+xml"/>
  <Override PartName="/ppt/slides/slide397.xml" ContentType="application/vnd.openxmlformats-officedocument.presentationml.slide+xml"/>
  <Override PartName="/ppt/slides/slide435.xml" ContentType="application/vnd.openxmlformats-officedocument.presentationml.slide+xml"/>
  <Override PartName="/ppt/slides/slide556.xml" ContentType="application/vnd.openxmlformats-officedocument.presentationml.slide+xml"/>
  <Override PartName="/ppt/slides/slide561.xml" ContentType="application/vnd.openxmlformats-officedocument.presentationml.slide+xml"/>
  <Override PartName="/ppt/slides/slide386.xml" ContentType="application/vnd.openxmlformats-officedocument.presentationml.slide+xml"/>
  <Override PartName="/ppt/slides/slide424.xml" ContentType="application/vnd.openxmlformats-officedocument.presentationml.slide+xml"/>
  <Override PartName="/ppt/slides/slide23.xml" ContentType="application/vnd.openxmlformats-officedocument.presentationml.slide+xml"/>
  <Override PartName="/ppt/slides/slide491.xml" ContentType="application/vnd.openxmlformats-officedocument.presentationml.slide+xml"/>
  <Override PartName="/ppt/slides/slide573.xml" ContentType="application/vnd.openxmlformats-officedocument.presentationml.slide+xml"/>
  <Override PartName="/ppt/slides/slide270.xml" ContentType="application/vnd.openxmlformats-officedocument.presentationml.slide+xml"/>
  <Override PartName="/ppt/slides/slide398.xml" ContentType="application/vnd.openxmlformats-officedocument.presentationml.slide+xml"/>
  <Override PartName="/ppt/slides/slide436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53.xml" ContentType="application/vnd.openxmlformats-officedocument.presentationml.slide+xml"/>
  <Override PartName="/ppt/slides/slide419.xml" ContentType="application/vnd.openxmlformats-officedocument.presentationml.slide+xml"/>
  <Override PartName="/ppt/slides/slide557.xml" ContentType="application/vnd.openxmlformats-officedocument.presentationml.slide+xml"/>
  <Override PartName="/ppt/slides/slide562.xml" ContentType="application/vnd.openxmlformats-officedocument.presentationml.slide+xml"/>
  <Override PartName="/ppt/slides/slide387.xml" ContentType="application/vnd.openxmlformats-officedocument.presentationml.slide+xml"/>
  <Override PartName="/ppt/slides/slide425.xml" ContentType="application/vnd.openxmlformats-officedocument.presentationml.slide+xml"/>
  <Override PartName="/ppt/slides/slide250.xml" ContentType="application/vnd.openxmlformats-officedocument.presentationml.slide+xml"/>
  <Override PartName="/ppt/slides/slide416.xml" ContentType="application/vnd.openxmlformats-officedocument.presentationml.slide+xml"/>
  <Override PartName="/ppt/slides/slide378.xml" ContentType="application/vnd.openxmlformats-officedocument.presentationml.slide+xml"/>
  <Override PartName="/ppt/slides/slide574.xml" ContentType="application/vnd.openxmlformats-officedocument.presentationml.slide+xml"/>
  <Override PartName="/ppt/slides/slide271.xml" ContentType="application/vnd.openxmlformats-officedocument.presentationml.slide+xml"/>
  <Override PartName="/ppt/slides/slide399.xml" ContentType="application/vnd.openxmlformats-officedocument.presentationml.slide+xml"/>
  <Override PartName="/ppt/slides/slide437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198.xml" ContentType="application/vnd.openxmlformats-officedocument.presentationml.slide+xml"/>
  <Override PartName="/ppt/slides/slide236.xml" ContentType="application/vnd.openxmlformats-officedocument.presentationml.slide+xml"/>
  <Override PartName="/ppt/slides/slide70.xml" ContentType="application/vnd.openxmlformats-officedocument.presentationml.slide+xml"/>
  <Override PartName="/ppt/slides/slide554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551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555.xml" ContentType="application/vnd.openxmlformats-officedocument.presentationml.slide+xml"/>
  <Override PartName="/ppt/slides/slide550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6.xml" ContentType="application/vnd.openxmlformats-officedocument.presentationml.slide+xml"/>
  <Override PartName="/ppt/slides/slide8.xml" ContentType="application/vnd.openxmlformats-officedocument.presentationml.slide+xml"/>
  <Override PartName="/ppt/slides/slide156.xml" ContentType="application/vnd.openxmlformats-officedocument.presentationml.slide+xml"/>
  <Override PartName="/ppt/slides/slide59.xml" ContentType="application/vnd.openxmlformats-officedocument.presentationml.slide+xml"/>
  <Override PartName="/ppt/slides/slide7.xml" ContentType="application/vnd.openxmlformats-officedocument.presentationml.slide+xml"/>
  <Override PartName="/ppt/slides/slide155.xml" ContentType="application/vnd.openxmlformats-officedocument.presentationml.slide+xml"/>
  <Override PartName="/ppt/slides/slide50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553.xml" ContentType="application/vnd.openxmlformats-officedocument.presentationml.slide+xml"/>
  <Override PartName="/ppt/slides/slide552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146.xml" ContentType="application/vnd.openxmlformats-officedocument.presentationml.slide+xml"/>
  <Override PartName="/ppt/slides/slide112.xml" ContentType="application/vnd.openxmlformats-officedocument.presentationml.slide+xml"/>
  <Override PartName="/ppt/slides/slide591.xml" ContentType="application/vnd.openxmlformats-officedocument.presentationml.slide+xml"/>
  <Override PartName="/ppt/slides/slide128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111.xml" ContentType="application/vnd.openxmlformats-officedocument.presentationml.slide+xml"/>
  <Override PartName="/ppt/slides/slide590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86.xml" ContentType="application/vnd.openxmlformats-officedocument.presentationml.slide+xml"/>
  <Override PartName="/ppt/slides/slide185.xml" ContentType="application/vnd.openxmlformats-officedocument.presentationml.slide+xml"/>
  <Override PartName="/ppt/slides/slide184.xml" ContentType="application/vnd.openxmlformats-officedocument.presentationml.slide+xml"/>
  <Override PartName="/ppt/slides/slide588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58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75.xml" ContentType="application/vnd.openxmlformats-officedocument.presentationml.slide+xml"/>
  <Override PartName="/ppt/slides/slide174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66.xml" ContentType="application/vnd.openxmlformats-officedocument.presentationml.slide+xml"/>
  <Override PartName="/ppt/slides/slide165.xml" ContentType="application/vnd.openxmlformats-officedocument.presentationml.slide+xml"/>
  <Override PartName="/ppt/slides/slide164.xml" ContentType="application/vnd.openxmlformats-officedocument.presentationml.slide+xml"/>
  <Override PartName="/ppt/slides/slide549.xml" ContentType="application/vnd.openxmlformats-officedocument.presentationml.slide+xml"/>
  <Override PartName="/ppt/slides/slide42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136.xml" ContentType="application/vnd.openxmlformats-officedocument.presentationml.slide+xml"/>
  <Override PartName="/ppt/slides/slide548.xml" ContentType="application/vnd.openxmlformats-officedocument.presentationml.slide+xml"/>
  <Override PartName="/ppt/slides/slide42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89.xml" ContentType="application/vnd.openxmlformats-officedocument.presentationml.slide+xml"/>
  <Override PartName="/ppt/slides/slide286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492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493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356.xml" ContentType="application/vnd.openxmlformats-officedocument.presentationml.slide+xml"/>
  <Override PartName="/ppt/slides/slide26.xml" ContentType="application/vnd.openxmlformats-officedocument.presentationml.slide+xml"/>
  <Override PartName="/ppt/slides/slide494.xml" ContentType="application/vnd.openxmlformats-officedocument.presentationml.slide+xml"/>
  <Override PartName="/ppt/slides/slide220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100.xml" ContentType="application/vnd.openxmlformats-officedocument.presentationml.slide+xml"/>
  <Override PartName="/ppt/slides/slide443.xml" ContentType="application/vnd.openxmlformats-officedocument.presentationml.slide+xml"/>
  <Override PartName="/ppt/slides/slide580.xml" ContentType="application/vnd.openxmlformats-officedocument.presentationml.slide+xml"/>
  <Override PartName="/ppt/slides/slide101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44.xml" ContentType="application/vnd.openxmlformats-officedocument.presentationml.slide+xml"/>
  <Override PartName="/ppt/slides/slide581.xml" ContentType="application/vnd.openxmlformats-officedocument.presentationml.slide+xml"/>
  <Override PartName="/ppt/slides/slide102.xml" ContentType="application/vnd.openxmlformats-officedocument.presentationml.slide+xml"/>
  <Override PartName="/ppt/slides/slide200.xml" ContentType="application/vnd.openxmlformats-officedocument.presentationml.slide+xml"/>
  <Override PartName="/ppt/slides/slide74.xml" ContentType="application/vnd.openxmlformats-officedocument.presentationml.slide+xml"/>
  <Override PartName="/ppt/slides/slide283.xml" ContentType="application/vnd.openxmlformats-officedocument.presentationml.slide+xml"/>
  <Override PartName="/ppt/slides/slide449.xml" ContentType="application/vnd.openxmlformats-officedocument.presentationml.slide+xml"/>
  <Override PartName="/ppt/slides/slide586.xml" ContentType="application/vnd.openxmlformats-officedocument.presentationml.slide+xml"/>
  <Override PartName="/ppt/slides/slide107.xml" ContentType="application/vnd.openxmlformats-officedocument.presentationml.slide+xml"/>
  <Override PartName="/ppt/slides/slide205.xml" ContentType="application/vnd.openxmlformats-officedocument.presentationml.slide+xml"/>
  <Override PartName="/ppt/slides/slide79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201.xml" ContentType="application/vnd.openxmlformats-officedocument.presentationml.slide+xml"/>
  <Override PartName="/ppt/slides/slide75.xml" ContentType="application/vnd.openxmlformats-officedocument.presentationml.slide+xml"/>
  <Override PartName="/ppt/slides/slide445.xml" ContentType="application/vnd.openxmlformats-officedocument.presentationml.slide+xml"/>
  <Override PartName="/ppt/slides/slide582.xml" ContentType="application/vnd.openxmlformats-officedocument.presentationml.slide+xml"/>
  <Override PartName="/ppt/slides/slide103.xml" ContentType="application/vnd.openxmlformats-officedocument.presentationml.slide+xml"/>
  <Override PartName="/ppt/slides/slide202.xml" ContentType="application/vnd.openxmlformats-officedocument.presentationml.slide+xml"/>
  <Override PartName="/ppt/slides/slide76.xml" ContentType="application/vnd.openxmlformats-officedocument.presentationml.slide+xml"/>
  <Override PartName="/ppt/slides/slide280.xml" ContentType="application/vnd.openxmlformats-officedocument.presentationml.slide+xml"/>
  <Override PartName="/ppt/slides/slide446.xml" ContentType="application/vnd.openxmlformats-officedocument.presentationml.slide+xml"/>
  <Override PartName="/ppt/slides/slide583.xml" ContentType="application/vnd.openxmlformats-officedocument.presentationml.slide+xml"/>
  <Override PartName="/ppt/slides/slide104.xml" ContentType="application/vnd.openxmlformats-officedocument.presentationml.slide+xml"/>
  <Override PartName="/ppt/slides/slide203.xml" ContentType="application/vnd.openxmlformats-officedocument.presentationml.slide+xml"/>
  <Override PartName="/ppt/slides/slide77.xml" ContentType="application/vnd.openxmlformats-officedocument.presentationml.slide+xml"/>
  <Override PartName="/ppt/slides/slide281.xml" ContentType="application/vnd.openxmlformats-officedocument.presentationml.slide+xml"/>
  <Override PartName="/ppt/slides/slide447.xml" ContentType="application/vnd.openxmlformats-officedocument.presentationml.slide+xml"/>
  <Override PartName="/ppt/slides/slide584.xml" ContentType="application/vnd.openxmlformats-officedocument.presentationml.slide+xml"/>
  <Override PartName="/ppt/slides/slide105.xml" ContentType="application/vnd.openxmlformats-officedocument.presentationml.slide+xml"/>
  <Override PartName="/ppt/slides/slide204.xml" ContentType="application/vnd.openxmlformats-officedocument.presentationml.slide+xml"/>
  <Override PartName="/ppt/slides/slide78.xml" ContentType="application/vnd.openxmlformats-officedocument.presentationml.slide+xml"/>
  <Override PartName="/ppt/slides/slide282.xml" ContentType="application/vnd.openxmlformats-officedocument.presentationml.slide+xml"/>
  <Override PartName="/ppt/slides/slide448.xml" ContentType="application/vnd.openxmlformats-officedocument.presentationml.slide+xml"/>
  <Override PartName="/ppt/slides/slide585.xml" ContentType="application/vnd.openxmlformats-officedocument.presentationml.slide+xml"/>
  <Override PartName="/ppt/slides/slide106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17.xml" ContentType="application/vnd.openxmlformats-officedocument.presentationml.slide+xml"/>
  <Override PartName="/ppt/slides/slide485.xml" ContentType="application/vnd.openxmlformats-officedocument.presentationml.slide+xml"/>
  <Override PartName="/ppt/slides/slide211.xml" ContentType="application/vnd.openxmlformats-officedocument.presentationml.slide+xml"/>
  <Override PartName="/ppt/slides/slide85.xml" ContentType="application/vnd.openxmlformats-officedocument.presentationml.slide+xml"/>
  <Override PartName="/ppt/slides/slide592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486.xml" ContentType="application/vnd.openxmlformats-officedocument.presentationml.slide+xml"/>
  <Override PartName="/ppt/slides/slide212.xml" ContentType="application/vnd.openxmlformats-officedocument.presentationml.slide+xml"/>
  <Override PartName="/ppt/slides/slide86.xml" ContentType="application/vnd.openxmlformats-officedocument.presentationml.slide+xml"/>
  <Override PartName="/ppt/slides/slide290.xml" ContentType="application/vnd.openxmlformats-officedocument.presentationml.slide+xml"/>
  <Override PartName="/ppt/slides/slide456.xml" ContentType="application/vnd.openxmlformats-officedocument.presentationml.slide+xml"/>
  <Override PartName="/ppt/slides/slide593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487.xml" ContentType="application/vnd.openxmlformats-officedocument.presentationml.slide+xml"/>
  <Override PartName="/ppt/slides/slide213.xml" ContentType="application/vnd.openxmlformats-officedocument.presentationml.slide+xml"/>
  <Override PartName="/ppt/slides/slide87.xml" ContentType="application/vnd.openxmlformats-officedocument.presentationml.slide+xml"/>
  <Override PartName="/ppt/slides/slide291.xml" ContentType="application/vnd.openxmlformats-officedocument.presentationml.slide+xml"/>
  <Override PartName="/ppt/slides/slide457.xml" ContentType="application/vnd.openxmlformats-officedocument.presentationml.slide+xml"/>
  <Override PartName="/ppt/slides/slide594.xml" ContentType="application/vnd.openxmlformats-officedocument.presentationml.slide+xml"/>
  <Override PartName="/ppt/slides/slide115.xml" ContentType="application/vnd.openxmlformats-officedocument.presentationml.slide+xml"/>
  <Override PartName="/ppt/slides/slide214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15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357.xml" ContentType="application/vnd.openxmlformats-officedocument.presentationml.slide+xml"/>
  <Override PartName="/ppt/slides/slide27.xml" ContentType="application/vnd.openxmlformats-officedocument.presentationml.slide+xml"/>
  <Override PartName="/ppt/slides/slide495.xml" ContentType="application/vnd.openxmlformats-officedocument.presentationml.slide+xml"/>
  <Override PartName="/ppt/slides/slide22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496.xml" ContentType="application/vnd.openxmlformats-officedocument.presentationml.slide+xml"/>
  <Override PartName="/ppt/slides/slide222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497.xml" ContentType="application/vnd.openxmlformats-officedocument.presentationml.slide+xml"/>
  <Override PartName="/ppt/slides/slide223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24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25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4.xml" ContentType="application/vnd.openxmlformats-officedocument.presentationml.slide+xml"/>
  <Override PartName="/ppt/slides/slide382.xml" ContentType="application/vnd.openxmlformats-officedocument.presentationml.slide+xml"/>
  <Override PartName="/ppt/slides/slide567.xml" ContentType="application/vnd.openxmlformats-officedocument.presentationml.slide+xml"/>
  <Override PartName="/ppt/slides/slide265.xml" ContentType="application/vnd.openxmlformats-officedocument.presentationml.slide+xml"/>
  <Override PartName="/ppt/slides/slide383.xml" ContentType="application/vnd.openxmlformats-officedocument.presentationml.slide+xml"/>
  <Override PartName="/ppt/slides/slide568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2.xml" ContentType="application/vnd.openxmlformats-officedocument.presentationml.slide+xml"/>
  <Override PartName="/ppt/slides/slide438.xml" ContentType="application/vnd.openxmlformats-officedocument.presentationml.slide+xml"/>
  <Override PartName="/ppt/slides/slide390.xml" ContentType="application/vnd.openxmlformats-officedocument.presentationml.slide+xml"/>
  <Override PartName="/ppt/slides/slide575.xml" ContentType="application/vnd.openxmlformats-officedocument.presentationml.slide+xml"/>
  <Override PartName="/ppt/slides/slide273.xml" ContentType="application/vnd.openxmlformats-officedocument.presentationml.slide+xml"/>
  <Override PartName="/ppt/slides/slide439.xml" ContentType="application/vnd.openxmlformats-officedocument.presentationml.slide+xml"/>
  <Override PartName="/ppt/slides/slide391.xml" ContentType="application/vnd.openxmlformats-officedocument.presentationml.slide+xml"/>
  <Override PartName="/ppt/slides/slide576.xml" ContentType="application/vnd.openxmlformats-officedocument.presentationml.slide+xml"/>
  <Override PartName="/ppt/slides/slide274.xml" ContentType="application/vnd.openxmlformats-officedocument.presentationml.slide+xml"/>
  <Override PartName="/ppt/slides/slide392.xml" ContentType="application/vnd.openxmlformats-officedocument.presentationml.slide+xml"/>
  <Override PartName="/ppt/slides/slide577.xml" ContentType="application/vnd.openxmlformats-officedocument.presentationml.slide+xml"/>
  <Override PartName="/ppt/slides/slide275.xml" ContentType="application/vnd.openxmlformats-officedocument.presentationml.slide+xml"/>
  <Override PartName="/ppt/slides/slide393.xml" ContentType="application/vnd.openxmlformats-officedocument.presentationml.slide+xml"/>
  <Override PartName="/ppt/slides/slide578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2.xml" ContentType="application/vnd.openxmlformats-officedocument.presentationml.slide+xml"/>
  <Override PartName="/ppt/slides/slide458.xml" ContentType="application/vnd.openxmlformats-officedocument.presentationml.slide+xml"/>
  <Override PartName="/ppt/slides/slide293.xml" ContentType="application/vnd.openxmlformats-officedocument.presentationml.slide+xml"/>
  <Override PartName="/ppt/slides/slide459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302.xml" ContentType="application/vnd.openxmlformats-officedocument.presentationml.slide+xml"/>
  <Override PartName="/ppt/slides/slide303.xml" ContentType="application/vnd.openxmlformats-officedocument.presentationml.slide+xml"/>
  <Override PartName="/ppt/slides/slide304.xml" ContentType="application/vnd.openxmlformats-officedocument.presentationml.slide+xml"/>
  <Override PartName="/ppt/slides/slide30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312.xml" ContentType="application/vnd.openxmlformats-officedocument.presentationml.slide+xml"/>
  <Override PartName="/ppt/slides/slide313.xml" ContentType="application/vnd.openxmlformats-officedocument.presentationml.slide+xml"/>
  <Override PartName="/ppt/slides/slide314.xml" ContentType="application/vnd.openxmlformats-officedocument.presentationml.slide+xml"/>
  <Override PartName="/ppt/slides/slide315.xml" ContentType="application/vnd.openxmlformats-officedocument.presentationml.slide+xml"/>
  <Override PartName="/ppt/slides/slide320.xml" ContentType="application/vnd.openxmlformats-officedocument.presentationml.slide+xml"/>
  <Override PartName="/ppt/slides/slide321.xml" ContentType="application/vnd.openxmlformats-officedocument.presentationml.slide+xml"/>
  <Override PartName="/ppt/slides/slide322.xml" ContentType="application/vnd.openxmlformats-officedocument.presentationml.slide+xml"/>
  <Override PartName="/ppt/slides/slide323.xml" ContentType="application/vnd.openxmlformats-officedocument.presentationml.slide+xml"/>
  <Override PartName="/ppt/slides/slide324.xml" ContentType="application/vnd.openxmlformats-officedocument.presentationml.slide+xml"/>
  <Override PartName="/ppt/slides/slide325.xml" ContentType="application/vnd.openxmlformats-officedocument.presentationml.slide+xml"/>
  <Override PartName="/ppt/slides/slide330.xml" ContentType="application/vnd.openxmlformats-officedocument.presentationml.slide+xml"/>
  <Override PartName="/ppt/slides/slide331.xml" ContentType="application/vnd.openxmlformats-officedocument.presentationml.slide+xml"/>
  <Override PartName="/ppt/slides/slide332.xml" ContentType="application/vnd.openxmlformats-officedocument.presentationml.slide+xml"/>
  <Override PartName="/ppt/slides/slide333.xml" ContentType="application/vnd.openxmlformats-officedocument.presentationml.slide+xml"/>
  <Override PartName="/ppt/slides/slide334.xml" ContentType="application/vnd.openxmlformats-officedocument.presentationml.slide+xml"/>
  <Override PartName="/ppt/slides/slide335.xml" ContentType="application/vnd.openxmlformats-officedocument.presentationml.slide+xml"/>
  <Override PartName="/ppt/slides/slide340.xml" ContentType="application/vnd.openxmlformats-officedocument.presentationml.slide+xml"/>
  <Override PartName="/ppt/slides/slide506.xml" ContentType="application/vnd.openxmlformats-officedocument.presentationml.slide+xml"/>
  <Override PartName="/ppt/slides/slide341.xml" ContentType="application/vnd.openxmlformats-officedocument.presentationml.slide+xml"/>
  <Override PartName="/ppt/slides/slide507.xml" ContentType="application/vnd.openxmlformats-officedocument.presentationml.slide+xml"/>
  <Override PartName="/ppt/slides/slide342.xml" ContentType="application/vnd.openxmlformats-officedocument.presentationml.slide+xml"/>
  <Override PartName="/ppt/slides/slide508.xml" ContentType="application/vnd.openxmlformats-officedocument.presentationml.slide+xml"/>
  <Override PartName="/ppt/slides/slide343.xml" ContentType="application/vnd.openxmlformats-officedocument.presentationml.slide+xml"/>
  <Override PartName="/ppt/slides/slide509.xml" ContentType="application/vnd.openxmlformats-officedocument.presentationml.slide+xml"/>
  <Override PartName="/ppt/slides/slide344.xml" ContentType="application/vnd.openxmlformats-officedocument.presentationml.slide+xml"/>
  <Override PartName="/ppt/slides/slide345.xml" ContentType="application/vnd.openxmlformats-officedocument.presentationml.slide+xml"/>
  <Override PartName="/ppt/slides/slide350.xml" ContentType="application/vnd.openxmlformats-officedocument.presentationml.slide+xml"/>
  <Override PartName="/ppt/slides/slide516.xml" ContentType="application/vnd.openxmlformats-officedocument.presentationml.slide+xml"/>
  <Override PartName="/ppt/slides/slide351.xml" ContentType="application/vnd.openxmlformats-officedocument.presentationml.slide+xml"/>
  <Override PartName="/ppt/slides/slide517.xml" ContentType="application/vnd.openxmlformats-officedocument.presentationml.slide+xml"/>
  <Override PartName="/ppt/slides/slide352.xml" ContentType="application/vnd.openxmlformats-officedocument.presentationml.slide+xml"/>
  <Override PartName="/ppt/slides/slide518.xml" ContentType="application/vnd.openxmlformats-officedocument.presentationml.slide+xml"/>
  <Override PartName="/ppt/slides/slide353.xml" ContentType="application/vnd.openxmlformats-officedocument.presentationml.slide+xml"/>
  <Override PartName="/ppt/slides/slide519.xml" ContentType="application/vnd.openxmlformats-officedocument.presentationml.slide+xml"/>
  <Override PartName="/ppt/slides/slide354.xml" ContentType="application/vnd.openxmlformats-officedocument.presentationml.slide+xml"/>
  <Override PartName="/ppt/slides/slide355.xml" ContentType="application/vnd.openxmlformats-officedocument.presentationml.slide+xml"/>
  <Override PartName="/ppt/slides/slide360.xml" ContentType="application/vnd.openxmlformats-officedocument.presentationml.slide+xml"/>
  <Override PartName="/ppt/slides/slide526.xml" ContentType="application/vnd.openxmlformats-officedocument.presentationml.slide+xml"/>
  <Override PartName="/ppt/slides/slide361.xml" ContentType="application/vnd.openxmlformats-officedocument.presentationml.slide+xml"/>
  <Override PartName="/ppt/slides/slide527.xml" ContentType="application/vnd.openxmlformats-officedocument.presentationml.slide+xml"/>
  <Override PartName="/ppt/slides/slide362.xml" ContentType="application/vnd.openxmlformats-officedocument.presentationml.slide+xml"/>
  <Override PartName="/ppt/slides/slide400.xml" ContentType="application/vnd.openxmlformats-officedocument.presentationml.slide+xml"/>
  <Override PartName="/ppt/slides/slide528.xml" ContentType="application/vnd.openxmlformats-officedocument.presentationml.slide+xml"/>
  <Override PartName="/ppt/slides/slide363.xml" ContentType="application/vnd.openxmlformats-officedocument.presentationml.slide+xml"/>
  <Override PartName="/ppt/slides/slide401.xml" ContentType="application/vnd.openxmlformats-officedocument.presentationml.slide+xml"/>
  <Override PartName="/ppt/slides/slide529.xml" ContentType="application/vnd.openxmlformats-officedocument.presentationml.slide+xml"/>
  <Override PartName="/ppt/slides/slide364.xml" ContentType="application/vnd.openxmlformats-officedocument.presentationml.slide+xml"/>
  <Override PartName="/ppt/slides/slide402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66.xml" ContentType="application/vnd.openxmlformats-officedocument.presentationml.slide+xml"/>
  <Override PartName="/ppt/slides/slide190.xml" ContentType="application/vnd.openxmlformats-officedocument.presentationml.slide+xml"/>
  <Override PartName="/ppt/slides/slide404.xml" ContentType="application/vnd.openxmlformats-officedocument.presentationml.slide+xml"/>
  <Override PartName="/ppt/slides/slide367.xml" ContentType="application/vnd.openxmlformats-officedocument.presentationml.slide+xml"/>
  <Override PartName="/ppt/slides/slide191.xml" ContentType="application/vnd.openxmlformats-officedocument.presentationml.slide+xml"/>
  <Override PartName="/ppt/slides/slide405.xml" ContentType="application/vnd.openxmlformats-officedocument.presentationml.slide+xml"/>
  <Override PartName="/ppt/slides/slide370.xml" ContentType="application/vnd.openxmlformats-officedocument.presentationml.slide+xml"/>
  <Override PartName="/ppt/slides/slide536.xml" ContentType="application/vnd.openxmlformats-officedocument.presentationml.slide+xml"/>
  <Override PartName="/ppt/slides/slide371.xml" ContentType="application/vnd.openxmlformats-officedocument.presentationml.slide+xml"/>
  <Override PartName="/ppt/slides/slide537.xml" ContentType="application/vnd.openxmlformats-officedocument.presentationml.slide+xml"/>
  <Override PartName="/ppt/slides/slide372.xml" ContentType="application/vnd.openxmlformats-officedocument.presentationml.slide+xml"/>
  <Override PartName="/ppt/slides/slide410.xml" ContentType="application/vnd.openxmlformats-officedocument.presentationml.slide+xml"/>
  <Override PartName="/ppt/slides/slide538.xml" ContentType="application/vnd.openxmlformats-officedocument.presentationml.slide+xml"/>
  <Override PartName="/ppt/slides/slide373.xml" ContentType="application/vnd.openxmlformats-officedocument.presentationml.slide+xml"/>
  <Override PartName="/ppt/slides/slide411.xml" ContentType="application/vnd.openxmlformats-officedocument.presentationml.slide+xml"/>
  <Override PartName="/ppt/slides/slide539.xml" ContentType="application/vnd.openxmlformats-officedocument.presentationml.slide+xml"/>
  <Override PartName="/ppt/slides/slide374.xml" ContentType="application/vnd.openxmlformats-officedocument.presentationml.slide+xml"/>
  <Override PartName="/ppt/slides/slide412.xml" ContentType="application/vnd.openxmlformats-officedocument.presentationml.slide+xml"/>
  <Override PartName="/ppt/slides/slide375.xml" ContentType="application/vnd.openxmlformats-officedocument.presentationml.slide+xml"/>
  <Override PartName="/ppt/slides/slide413.xml" ContentType="application/vnd.openxmlformats-officedocument.presentationml.slide+xml"/>
  <Override PartName="/ppt/slides/slide376.xml" ContentType="application/vnd.openxmlformats-officedocument.presentationml.slide+xml"/>
  <Override PartName="/ppt/slides/slide414.xml" ContentType="application/vnd.openxmlformats-officedocument.presentationml.slide+xml"/>
  <Override PartName="/ppt/slides/slide377.xml" ContentType="application/vnd.openxmlformats-officedocument.presentationml.slide+xml"/>
  <Override PartName="/ppt/slides/slide415.xml" ContentType="application/vnd.openxmlformats-officedocument.presentationml.slide+xml"/>
  <Override PartName="/ppt/slides/slide569.xml" ContentType="application/vnd.openxmlformats-officedocument.presentationml.slide+xml"/>
  <Override PartName="/ppt/slides/slide384.xml" ContentType="application/vnd.openxmlformats-officedocument.presentationml.slide+xml"/>
  <Override PartName="/ppt/slides/slide422.xml" ContentType="application/vnd.openxmlformats-officedocument.presentationml.slide+xml"/>
  <Override PartName="/ppt/slides/slide579.xml" ContentType="application/vnd.openxmlformats-officedocument.presentationml.slide+xml"/>
  <Override PartName="/ppt/slides/slide394.xml" ContentType="application/vnd.openxmlformats-officedocument.presentationml.slide+xml"/>
  <Override PartName="/ppt/slides/slide432.xml" ContentType="application/vnd.openxmlformats-officedocument.presentationml.slide+xml"/>
  <Override PartName="/ppt/slides/slide440.xml" ContentType="application/vnd.openxmlformats-officedocument.presentationml.slide+xml"/>
  <Override PartName="/ppt/slides/slide441.xml" ContentType="application/vnd.openxmlformats-officedocument.presentationml.slide+xml"/>
  <Override PartName="/ppt/slides/slide442.xml" ContentType="application/vnd.openxmlformats-officedocument.presentationml.slide+xml"/>
  <Override PartName="/ppt/slides/slide4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  <p:sldId id="600" r:id="rId348"/>
    <p:sldId id="601" r:id="rId349"/>
    <p:sldId id="602" r:id="rId350"/>
    <p:sldId id="603" r:id="rId351"/>
    <p:sldId id="604" r:id="rId352"/>
    <p:sldId id="605" r:id="rId353"/>
    <p:sldId id="606" r:id="rId354"/>
    <p:sldId id="607" r:id="rId355"/>
    <p:sldId id="608" r:id="rId356"/>
    <p:sldId id="609" r:id="rId357"/>
    <p:sldId id="610" r:id="rId358"/>
    <p:sldId id="611" r:id="rId359"/>
    <p:sldId id="612" r:id="rId360"/>
    <p:sldId id="613" r:id="rId361"/>
    <p:sldId id="614" r:id="rId362"/>
    <p:sldId id="615" r:id="rId363"/>
    <p:sldId id="616" r:id="rId364"/>
    <p:sldId id="617" r:id="rId365"/>
    <p:sldId id="618" r:id="rId366"/>
    <p:sldId id="619" r:id="rId367"/>
    <p:sldId id="620" r:id="rId368"/>
    <p:sldId id="621" r:id="rId369"/>
    <p:sldId id="622" r:id="rId370"/>
    <p:sldId id="623" r:id="rId371"/>
    <p:sldId id="624" r:id="rId372"/>
    <p:sldId id="625" r:id="rId373"/>
    <p:sldId id="626" r:id="rId374"/>
    <p:sldId id="627" r:id="rId375"/>
    <p:sldId id="628" r:id="rId376"/>
    <p:sldId id="629" r:id="rId377"/>
    <p:sldId id="630" r:id="rId378"/>
    <p:sldId id="631" r:id="rId379"/>
    <p:sldId id="632" r:id="rId380"/>
    <p:sldId id="633" r:id="rId381"/>
    <p:sldId id="634" r:id="rId382"/>
    <p:sldId id="635" r:id="rId383"/>
    <p:sldId id="636" r:id="rId384"/>
    <p:sldId id="637" r:id="rId385"/>
    <p:sldId id="638" r:id="rId386"/>
    <p:sldId id="639" r:id="rId387"/>
    <p:sldId id="640" r:id="rId388"/>
    <p:sldId id="641" r:id="rId389"/>
    <p:sldId id="642" r:id="rId390"/>
    <p:sldId id="643" r:id="rId391"/>
    <p:sldId id="644" r:id="rId392"/>
    <p:sldId id="645" r:id="rId393"/>
    <p:sldId id="646" r:id="rId394"/>
    <p:sldId id="647" r:id="rId395"/>
    <p:sldId id="648" r:id="rId396"/>
    <p:sldId id="649" r:id="rId397"/>
    <p:sldId id="650" r:id="rId398"/>
    <p:sldId id="651" r:id="rId399"/>
    <p:sldId id="652" r:id="rId400"/>
    <p:sldId id="653" r:id="rId401"/>
    <p:sldId id="654" r:id="rId402"/>
    <p:sldId id="655" r:id="rId403"/>
    <p:sldId id="656" r:id="rId404"/>
    <p:sldId id="657" r:id="rId405"/>
    <p:sldId id="658" r:id="rId406"/>
    <p:sldId id="659" r:id="rId407"/>
    <p:sldId id="660" r:id="rId408"/>
    <p:sldId id="661" r:id="rId409"/>
    <p:sldId id="662" r:id="rId410"/>
    <p:sldId id="663" r:id="rId411"/>
    <p:sldId id="664" r:id="rId412"/>
    <p:sldId id="665" r:id="rId413"/>
    <p:sldId id="666" r:id="rId414"/>
    <p:sldId id="667" r:id="rId415"/>
    <p:sldId id="668" r:id="rId416"/>
    <p:sldId id="669" r:id="rId417"/>
    <p:sldId id="670" r:id="rId418"/>
    <p:sldId id="671" r:id="rId419"/>
    <p:sldId id="672" r:id="rId420"/>
    <p:sldId id="673" r:id="rId421"/>
    <p:sldId id="674" r:id="rId422"/>
    <p:sldId id="675" r:id="rId423"/>
    <p:sldId id="676" r:id="rId424"/>
    <p:sldId id="677" r:id="rId425"/>
    <p:sldId id="678" r:id="rId426"/>
    <p:sldId id="679" r:id="rId427"/>
    <p:sldId id="680" r:id="rId428"/>
    <p:sldId id="681" r:id="rId429"/>
    <p:sldId id="682" r:id="rId430"/>
    <p:sldId id="683" r:id="rId431"/>
    <p:sldId id="684" r:id="rId432"/>
    <p:sldId id="685" r:id="rId433"/>
    <p:sldId id="686" r:id="rId434"/>
    <p:sldId id="687" r:id="rId435"/>
    <p:sldId id="688" r:id="rId436"/>
    <p:sldId id="689" r:id="rId437"/>
    <p:sldId id="690" r:id="rId438"/>
    <p:sldId id="691" r:id="rId439"/>
    <p:sldId id="692" r:id="rId440"/>
    <p:sldId id="693" r:id="rId441"/>
    <p:sldId id="694" r:id="rId442"/>
    <p:sldId id="695" r:id="rId443"/>
    <p:sldId id="696" r:id="rId444"/>
    <p:sldId id="697" r:id="rId445"/>
    <p:sldId id="698" r:id="rId446"/>
    <p:sldId id="699" r:id="rId447"/>
    <p:sldId id="700" r:id="rId448"/>
    <p:sldId id="701" r:id="rId449"/>
    <p:sldId id="702" r:id="rId450"/>
    <p:sldId id="703" r:id="rId451"/>
    <p:sldId id="704" r:id="rId452"/>
    <p:sldId id="705" r:id="rId453"/>
    <p:sldId id="706" r:id="rId454"/>
    <p:sldId id="707" r:id="rId455"/>
    <p:sldId id="708" r:id="rId456"/>
    <p:sldId id="709" r:id="rId457"/>
    <p:sldId id="710" r:id="rId458"/>
    <p:sldId id="711" r:id="rId459"/>
    <p:sldId id="712" r:id="rId460"/>
    <p:sldId id="713" r:id="rId461"/>
    <p:sldId id="714" r:id="rId462"/>
    <p:sldId id="715" r:id="rId463"/>
    <p:sldId id="716" r:id="rId464"/>
    <p:sldId id="717" r:id="rId465"/>
    <p:sldId id="718" r:id="rId466"/>
    <p:sldId id="719" r:id="rId467"/>
    <p:sldId id="720" r:id="rId468"/>
    <p:sldId id="721" r:id="rId469"/>
    <p:sldId id="722" r:id="rId470"/>
    <p:sldId id="723" r:id="rId471"/>
    <p:sldId id="724" r:id="rId472"/>
    <p:sldId id="725" r:id="rId473"/>
    <p:sldId id="726" r:id="rId474"/>
    <p:sldId id="727" r:id="rId475"/>
    <p:sldId id="728" r:id="rId476"/>
    <p:sldId id="729" r:id="rId477"/>
    <p:sldId id="730" r:id="rId478"/>
    <p:sldId id="731" r:id="rId479"/>
    <p:sldId id="732" r:id="rId480"/>
    <p:sldId id="733" r:id="rId481"/>
    <p:sldId id="734" r:id="rId482"/>
    <p:sldId id="735" r:id="rId483"/>
    <p:sldId id="736" r:id="rId484"/>
    <p:sldId id="737" r:id="rId485"/>
    <p:sldId id="738" r:id="rId486"/>
    <p:sldId id="739" r:id="rId487"/>
    <p:sldId id="740" r:id="rId488"/>
    <p:sldId id="741" r:id="rId489"/>
    <p:sldId id="742" r:id="rId490"/>
    <p:sldId id="743" r:id="rId491"/>
    <p:sldId id="744" r:id="rId492"/>
    <p:sldId id="745" r:id="rId493"/>
    <p:sldId id="746" r:id="rId494"/>
    <p:sldId id="747" r:id="rId495"/>
    <p:sldId id="748" r:id="rId496"/>
    <p:sldId id="749" r:id="rId497"/>
    <p:sldId id="750" r:id="rId498"/>
    <p:sldId id="751" r:id="rId499"/>
    <p:sldId id="752" r:id="rId500"/>
    <p:sldId id="753" r:id="rId501"/>
    <p:sldId id="754" r:id="rId502"/>
    <p:sldId id="755" r:id="rId503"/>
    <p:sldId id="756" r:id="rId504"/>
    <p:sldId id="757" r:id="rId505"/>
    <p:sldId id="758" r:id="rId506"/>
    <p:sldId id="759" r:id="rId507"/>
    <p:sldId id="760" r:id="rId508"/>
    <p:sldId id="761" r:id="rId509"/>
    <p:sldId id="762" r:id="rId510"/>
    <p:sldId id="763" r:id="rId511"/>
    <p:sldId id="764" r:id="rId512"/>
    <p:sldId id="765" r:id="rId513"/>
    <p:sldId id="766" r:id="rId514"/>
    <p:sldId id="767" r:id="rId515"/>
    <p:sldId id="768" r:id="rId516"/>
    <p:sldId id="769" r:id="rId517"/>
    <p:sldId id="770" r:id="rId518"/>
    <p:sldId id="771" r:id="rId519"/>
    <p:sldId id="772" r:id="rId520"/>
    <p:sldId id="773" r:id="rId521"/>
    <p:sldId id="774" r:id="rId522"/>
    <p:sldId id="775" r:id="rId523"/>
    <p:sldId id="776" r:id="rId524"/>
    <p:sldId id="777" r:id="rId525"/>
    <p:sldId id="778" r:id="rId526"/>
    <p:sldId id="779" r:id="rId527"/>
    <p:sldId id="780" r:id="rId528"/>
    <p:sldId id="781" r:id="rId529"/>
    <p:sldId id="782" r:id="rId530"/>
    <p:sldId id="783" r:id="rId531"/>
    <p:sldId id="784" r:id="rId532"/>
    <p:sldId id="785" r:id="rId533"/>
    <p:sldId id="786" r:id="rId534"/>
    <p:sldId id="787" r:id="rId535"/>
    <p:sldId id="788" r:id="rId536"/>
    <p:sldId id="789" r:id="rId537"/>
    <p:sldId id="790" r:id="rId538"/>
    <p:sldId id="791" r:id="rId539"/>
    <p:sldId id="792" r:id="rId540"/>
    <p:sldId id="793" r:id="rId541"/>
    <p:sldId id="794" r:id="rId542"/>
    <p:sldId id="795" r:id="rId543"/>
    <p:sldId id="796" r:id="rId544"/>
    <p:sldId id="797" r:id="rId545"/>
    <p:sldId id="798" r:id="rId546"/>
    <p:sldId id="799" r:id="rId547"/>
    <p:sldId id="800" r:id="rId548"/>
    <p:sldId id="801" r:id="rId549"/>
    <p:sldId id="802" r:id="rId550"/>
    <p:sldId id="803" r:id="rId551"/>
    <p:sldId id="804" r:id="rId552"/>
    <p:sldId id="805" r:id="rId553"/>
    <p:sldId id="806" r:id="rId554"/>
    <p:sldId id="807" r:id="rId555"/>
    <p:sldId id="808" r:id="rId556"/>
    <p:sldId id="809" r:id="rId557"/>
    <p:sldId id="810" r:id="rId558"/>
    <p:sldId id="811" r:id="rId559"/>
    <p:sldId id="812" r:id="rId560"/>
    <p:sldId id="813" r:id="rId561"/>
    <p:sldId id="814" r:id="rId562"/>
    <p:sldId id="815" r:id="rId563"/>
    <p:sldId id="816" r:id="rId564"/>
    <p:sldId id="817" r:id="rId565"/>
    <p:sldId id="818" r:id="rId566"/>
    <p:sldId id="819" r:id="rId567"/>
    <p:sldId id="820" r:id="rId568"/>
    <p:sldId id="821" r:id="rId569"/>
    <p:sldId id="822" r:id="rId570"/>
    <p:sldId id="823" r:id="rId571"/>
    <p:sldId id="824" r:id="rId572"/>
    <p:sldId id="825" r:id="rId573"/>
    <p:sldId id="826" r:id="rId574"/>
    <p:sldId id="827" r:id="rId575"/>
    <p:sldId id="828" r:id="rId576"/>
    <p:sldId id="829" r:id="rId577"/>
    <p:sldId id="830" r:id="rId578"/>
    <p:sldId id="831" r:id="rId579"/>
    <p:sldId id="832" r:id="rId580"/>
    <p:sldId id="833" r:id="rId581"/>
    <p:sldId id="834" r:id="rId582"/>
    <p:sldId id="835" r:id="rId583"/>
    <p:sldId id="836" r:id="rId584"/>
    <p:sldId id="837" r:id="rId585"/>
    <p:sldId id="838" r:id="rId586"/>
    <p:sldId id="839" r:id="rId587"/>
    <p:sldId id="840" r:id="rId588"/>
    <p:sldId id="841" r:id="rId589"/>
    <p:sldId id="842" r:id="rId590"/>
    <p:sldId id="843" r:id="rId591"/>
    <p:sldId id="844" r:id="rId592"/>
    <p:sldId id="845" r:id="rId593"/>
    <p:sldId id="846" r:id="rId594"/>
    <p:sldId id="847" r:id="rId595"/>
    <p:sldId id="848" r:id="rId596"/>
    <p:sldId id="849" r:id="rId5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slide" Target="slides/slide345.xml"/><Relationship Id="rId349" Type="http://schemas.openxmlformats.org/officeDocument/2006/relationships/slide" Target="slides/slide346.xml"/><Relationship Id="rId350" Type="http://schemas.openxmlformats.org/officeDocument/2006/relationships/slide" Target="slides/slide347.xml"/><Relationship Id="rId351" Type="http://schemas.openxmlformats.org/officeDocument/2006/relationships/slide" Target="slides/slide348.xml"/><Relationship Id="rId352" Type="http://schemas.openxmlformats.org/officeDocument/2006/relationships/slide" Target="slides/slide349.xml"/><Relationship Id="rId353" Type="http://schemas.openxmlformats.org/officeDocument/2006/relationships/slide" Target="slides/slide350.xml"/><Relationship Id="rId354" Type="http://schemas.openxmlformats.org/officeDocument/2006/relationships/slide" Target="slides/slide351.xml"/><Relationship Id="rId355" Type="http://schemas.openxmlformats.org/officeDocument/2006/relationships/slide" Target="slides/slide352.xml"/><Relationship Id="rId356" Type="http://schemas.openxmlformats.org/officeDocument/2006/relationships/slide" Target="slides/slide353.xml"/><Relationship Id="rId357" Type="http://schemas.openxmlformats.org/officeDocument/2006/relationships/slide" Target="slides/slide354.xml"/><Relationship Id="rId358" Type="http://schemas.openxmlformats.org/officeDocument/2006/relationships/slide" Target="slides/slide355.xml"/><Relationship Id="rId359" Type="http://schemas.openxmlformats.org/officeDocument/2006/relationships/slide" Target="slides/slide356.xml"/><Relationship Id="rId360" Type="http://schemas.openxmlformats.org/officeDocument/2006/relationships/slide" Target="slides/slide357.xml"/><Relationship Id="rId361" Type="http://schemas.openxmlformats.org/officeDocument/2006/relationships/slide" Target="slides/slide358.xml"/><Relationship Id="rId362" Type="http://schemas.openxmlformats.org/officeDocument/2006/relationships/slide" Target="slides/slide359.xml"/><Relationship Id="rId363" Type="http://schemas.openxmlformats.org/officeDocument/2006/relationships/slide" Target="slides/slide360.xml"/><Relationship Id="rId364" Type="http://schemas.openxmlformats.org/officeDocument/2006/relationships/slide" Target="slides/slide361.xml"/><Relationship Id="rId365" Type="http://schemas.openxmlformats.org/officeDocument/2006/relationships/slide" Target="slides/slide362.xml"/><Relationship Id="rId366" Type="http://schemas.openxmlformats.org/officeDocument/2006/relationships/slide" Target="slides/slide363.xml"/><Relationship Id="rId367" Type="http://schemas.openxmlformats.org/officeDocument/2006/relationships/slide" Target="slides/slide364.xml"/><Relationship Id="rId368" Type="http://schemas.openxmlformats.org/officeDocument/2006/relationships/slide" Target="slides/slide365.xml"/><Relationship Id="rId369" Type="http://schemas.openxmlformats.org/officeDocument/2006/relationships/slide" Target="slides/slide366.xml"/><Relationship Id="rId370" Type="http://schemas.openxmlformats.org/officeDocument/2006/relationships/slide" Target="slides/slide367.xml"/><Relationship Id="rId371" Type="http://schemas.openxmlformats.org/officeDocument/2006/relationships/slide" Target="slides/slide368.xml"/><Relationship Id="rId372" Type="http://schemas.openxmlformats.org/officeDocument/2006/relationships/slide" Target="slides/slide369.xml"/><Relationship Id="rId373" Type="http://schemas.openxmlformats.org/officeDocument/2006/relationships/slide" Target="slides/slide370.xml"/><Relationship Id="rId374" Type="http://schemas.openxmlformats.org/officeDocument/2006/relationships/slide" Target="slides/slide371.xml"/><Relationship Id="rId375" Type="http://schemas.openxmlformats.org/officeDocument/2006/relationships/slide" Target="slides/slide372.xml"/><Relationship Id="rId376" Type="http://schemas.openxmlformats.org/officeDocument/2006/relationships/slide" Target="slides/slide373.xml"/><Relationship Id="rId377" Type="http://schemas.openxmlformats.org/officeDocument/2006/relationships/slide" Target="slides/slide374.xml"/><Relationship Id="rId378" Type="http://schemas.openxmlformats.org/officeDocument/2006/relationships/slide" Target="slides/slide375.xml"/><Relationship Id="rId379" Type="http://schemas.openxmlformats.org/officeDocument/2006/relationships/slide" Target="slides/slide376.xml"/><Relationship Id="rId380" Type="http://schemas.openxmlformats.org/officeDocument/2006/relationships/slide" Target="slides/slide377.xml"/><Relationship Id="rId381" Type="http://schemas.openxmlformats.org/officeDocument/2006/relationships/slide" Target="slides/slide378.xml"/><Relationship Id="rId382" Type="http://schemas.openxmlformats.org/officeDocument/2006/relationships/slide" Target="slides/slide379.xml"/><Relationship Id="rId383" Type="http://schemas.openxmlformats.org/officeDocument/2006/relationships/slide" Target="slides/slide380.xml"/><Relationship Id="rId384" Type="http://schemas.openxmlformats.org/officeDocument/2006/relationships/slide" Target="slides/slide381.xml"/><Relationship Id="rId385" Type="http://schemas.openxmlformats.org/officeDocument/2006/relationships/slide" Target="slides/slide382.xml"/><Relationship Id="rId386" Type="http://schemas.openxmlformats.org/officeDocument/2006/relationships/slide" Target="slides/slide383.xml"/><Relationship Id="rId387" Type="http://schemas.openxmlformats.org/officeDocument/2006/relationships/slide" Target="slides/slide384.xml"/><Relationship Id="rId388" Type="http://schemas.openxmlformats.org/officeDocument/2006/relationships/slide" Target="slides/slide385.xml"/><Relationship Id="rId389" Type="http://schemas.openxmlformats.org/officeDocument/2006/relationships/slide" Target="slides/slide386.xml"/><Relationship Id="rId390" Type="http://schemas.openxmlformats.org/officeDocument/2006/relationships/slide" Target="slides/slide387.xml"/><Relationship Id="rId391" Type="http://schemas.openxmlformats.org/officeDocument/2006/relationships/slide" Target="slides/slide388.xml"/><Relationship Id="rId392" Type="http://schemas.openxmlformats.org/officeDocument/2006/relationships/slide" Target="slides/slide389.xml"/><Relationship Id="rId393" Type="http://schemas.openxmlformats.org/officeDocument/2006/relationships/slide" Target="slides/slide390.xml"/><Relationship Id="rId394" Type="http://schemas.openxmlformats.org/officeDocument/2006/relationships/slide" Target="slides/slide391.xml"/><Relationship Id="rId395" Type="http://schemas.openxmlformats.org/officeDocument/2006/relationships/slide" Target="slides/slide392.xml"/><Relationship Id="rId396" Type="http://schemas.openxmlformats.org/officeDocument/2006/relationships/slide" Target="slides/slide393.xml"/><Relationship Id="rId397" Type="http://schemas.openxmlformats.org/officeDocument/2006/relationships/slide" Target="slides/slide394.xml"/><Relationship Id="rId398" Type="http://schemas.openxmlformats.org/officeDocument/2006/relationships/slide" Target="slides/slide395.xml"/><Relationship Id="rId399" Type="http://schemas.openxmlformats.org/officeDocument/2006/relationships/slide" Target="slides/slide396.xml"/><Relationship Id="rId400" Type="http://schemas.openxmlformats.org/officeDocument/2006/relationships/slide" Target="slides/slide397.xml"/><Relationship Id="rId401" Type="http://schemas.openxmlformats.org/officeDocument/2006/relationships/slide" Target="slides/slide398.xml"/><Relationship Id="rId402" Type="http://schemas.openxmlformats.org/officeDocument/2006/relationships/slide" Target="slides/slide399.xml"/><Relationship Id="rId403" Type="http://schemas.openxmlformats.org/officeDocument/2006/relationships/slide" Target="slides/slide400.xml"/><Relationship Id="rId404" Type="http://schemas.openxmlformats.org/officeDocument/2006/relationships/slide" Target="slides/slide401.xml"/><Relationship Id="rId405" Type="http://schemas.openxmlformats.org/officeDocument/2006/relationships/slide" Target="slides/slide402.xml"/><Relationship Id="rId406" Type="http://schemas.openxmlformats.org/officeDocument/2006/relationships/slide" Target="slides/slide403.xml"/><Relationship Id="rId407" Type="http://schemas.openxmlformats.org/officeDocument/2006/relationships/slide" Target="slides/slide404.xml"/><Relationship Id="rId408" Type="http://schemas.openxmlformats.org/officeDocument/2006/relationships/slide" Target="slides/slide405.xml"/><Relationship Id="rId409" Type="http://schemas.openxmlformats.org/officeDocument/2006/relationships/slide" Target="slides/slide406.xml"/><Relationship Id="rId410" Type="http://schemas.openxmlformats.org/officeDocument/2006/relationships/slide" Target="slides/slide407.xml"/><Relationship Id="rId411" Type="http://schemas.openxmlformats.org/officeDocument/2006/relationships/slide" Target="slides/slide408.xml"/><Relationship Id="rId412" Type="http://schemas.openxmlformats.org/officeDocument/2006/relationships/slide" Target="slides/slide409.xml"/><Relationship Id="rId413" Type="http://schemas.openxmlformats.org/officeDocument/2006/relationships/slide" Target="slides/slide410.xml"/><Relationship Id="rId414" Type="http://schemas.openxmlformats.org/officeDocument/2006/relationships/slide" Target="slides/slide411.xml"/><Relationship Id="rId415" Type="http://schemas.openxmlformats.org/officeDocument/2006/relationships/slide" Target="slides/slide412.xml"/><Relationship Id="rId416" Type="http://schemas.openxmlformats.org/officeDocument/2006/relationships/slide" Target="slides/slide413.xml"/><Relationship Id="rId417" Type="http://schemas.openxmlformats.org/officeDocument/2006/relationships/slide" Target="slides/slide414.xml"/><Relationship Id="rId418" Type="http://schemas.openxmlformats.org/officeDocument/2006/relationships/slide" Target="slides/slide415.xml"/><Relationship Id="rId419" Type="http://schemas.openxmlformats.org/officeDocument/2006/relationships/slide" Target="slides/slide416.xml"/><Relationship Id="rId420" Type="http://schemas.openxmlformats.org/officeDocument/2006/relationships/slide" Target="slides/slide417.xml"/><Relationship Id="rId421" Type="http://schemas.openxmlformats.org/officeDocument/2006/relationships/slide" Target="slides/slide418.xml"/><Relationship Id="rId422" Type="http://schemas.openxmlformats.org/officeDocument/2006/relationships/slide" Target="slides/slide419.xml"/><Relationship Id="rId423" Type="http://schemas.openxmlformats.org/officeDocument/2006/relationships/slide" Target="slides/slide420.xml"/><Relationship Id="rId424" Type="http://schemas.openxmlformats.org/officeDocument/2006/relationships/slide" Target="slides/slide421.xml"/><Relationship Id="rId425" Type="http://schemas.openxmlformats.org/officeDocument/2006/relationships/slide" Target="slides/slide422.xml"/><Relationship Id="rId426" Type="http://schemas.openxmlformats.org/officeDocument/2006/relationships/slide" Target="slides/slide423.xml"/><Relationship Id="rId427" Type="http://schemas.openxmlformats.org/officeDocument/2006/relationships/slide" Target="slides/slide424.xml"/><Relationship Id="rId428" Type="http://schemas.openxmlformats.org/officeDocument/2006/relationships/slide" Target="slides/slide425.xml"/><Relationship Id="rId429" Type="http://schemas.openxmlformats.org/officeDocument/2006/relationships/slide" Target="slides/slide426.xml"/><Relationship Id="rId430" Type="http://schemas.openxmlformats.org/officeDocument/2006/relationships/slide" Target="slides/slide427.xml"/><Relationship Id="rId431" Type="http://schemas.openxmlformats.org/officeDocument/2006/relationships/slide" Target="slides/slide428.xml"/><Relationship Id="rId432" Type="http://schemas.openxmlformats.org/officeDocument/2006/relationships/slide" Target="slides/slide429.xml"/><Relationship Id="rId433" Type="http://schemas.openxmlformats.org/officeDocument/2006/relationships/slide" Target="slides/slide430.xml"/><Relationship Id="rId434" Type="http://schemas.openxmlformats.org/officeDocument/2006/relationships/slide" Target="slides/slide431.xml"/><Relationship Id="rId435" Type="http://schemas.openxmlformats.org/officeDocument/2006/relationships/slide" Target="slides/slide432.xml"/><Relationship Id="rId436" Type="http://schemas.openxmlformats.org/officeDocument/2006/relationships/slide" Target="slides/slide433.xml"/><Relationship Id="rId437" Type="http://schemas.openxmlformats.org/officeDocument/2006/relationships/slide" Target="slides/slide434.xml"/><Relationship Id="rId438" Type="http://schemas.openxmlformats.org/officeDocument/2006/relationships/slide" Target="slides/slide435.xml"/><Relationship Id="rId439" Type="http://schemas.openxmlformats.org/officeDocument/2006/relationships/slide" Target="slides/slide436.xml"/><Relationship Id="rId440" Type="http://schemas.openxmlformats.org/officeDocument/2006/relationships/slide" Target="slides/slide437.xml"/><Relationship Id="rId441" Type="http://schemas.openxmlformats.org/officeDocument/2006/relationships/slide" Target="slides/slide438.xml"/><Relationship Id="rId442" Type="http://schemas.openxmlformats.org/officeDocument/2006/relationships/slide" Target="slides/slide439.xml"/><Relationship Id="rId443" Type="http://schemas.openxmlformats.org/officeDocument/2006/relationships/slide" Target="slides/slide440.xml"/><Relationship Id="rId444" Type="http://schemas.openxmlformats.org/officeDocument/2006/relationships/slide" Target="slides/slide441.xml"/><Relationship Id="rId445" Type="http://schemas.openxmlformats.org/officeDocument/2006/relationships/slide" Target="slides/slide442.xml"/><Relationship Id="rId446" Type="http://schemas.openxmlformats.org/officeDocument/2006/relationships/slide" Target="slides/slide443.xml"/><Relationship Id="rId447" Type="http://schemas.openxmlformats.org/officeDocument/2006/relationships/slide" Target="slides/slide444.xml"/><Relationship Id="rId448" Type="http://schemas.openxmlformats.org/officeDocument/2006/relationships/slide" Target="slides/slide445.xml"/><Relationship Id="rId449" Type="http://schemas.openxmlformats.org/officeDocument/2006/relationships/slide" Target="slides/slide446.xml"/><Relationship Id="rId450" Type="http://schemas.openxmlformats.org/officeDocument/2006/relationships/slide" Target="slides/slide447.xml"/><Relationship Id="rId451" Type="http://schemas.openxmlformats.org/officeDocument/2006/relationships/slide" Target="slides/slide448.xml"/><Relationship Id="rId452" Type="http://schemas.openxmlformats.org/officeDocument/2006/relationships/slide" Target="slides/slide449.xml"/><Relationship Id="rId453" Type="http://schemas.openxmlformats.org/officeDocument/2006/relationships/slide" Target="slides/slide450.xml"/><Relationship Id="rId454" Type="http://schemas.openxmlformats.org/officeDocument/2006/relationships/slide" Target="slides/slide451.xml"/><Relationship Id="rId455" Type="http://schemas.openxmlformats.org/officeDocument/2006/relationships/slide" Target="slides/slide452.xml"/><Relationship Id="rId456" Type="http://schemas.openxmlformats.org/officeDocument/2006/relationships/slide" Target="slides/slide453.xml"/><Relationship Id="rId457" Type="http://schemas.openxmlformats.org/officeDocument/2006/relationships/slide" Target="slides/slide454.xml"/><Relationship Id="rId458" Type="http://schemas.openxmlformats.org/officeDocument/2006/relationships/slide" Target="slides/slide455.xml"/><Relationship Id="rId459" Type="http://schemas.openxmlformats.org/officeDocument/2006/relationships/slide" Target="slides/slide456.xml"/><Relationship Id="rId460" Type="http://schemas.openxmlformats.org/officeDocument/2006/relationships/slide" Target="slides/slide457.xml"/><Relationship Id="rId461" Type="http://schemas.openxmlformats.org/officeDocument/2006/relationships/slide" Target="slides/slide458.xml"/><Relationship Id="rId462" Type="http://schemas.openxmlformats.org/officeDocument/2006/relationships/slide" Target="slides/slide459.xml"/><Relationship Id="rId463" Type="http://schemas.openxmlformats.org/officeDocument/2006/relationships/slide" Target="slides/slide460.xml"/><Relationship Id="rId464" Type="http://schemas.openxmlformats.org/officeDocument/2006/relationships/slide" Target="slides/slide461.xml"/><Relationship Id="rId465" Type="http://schemas.openxmlformats.org/officeDocument/2006/relationships/slide" Target="slides/slide462.xml"/><Relationship Id="rId466" Type="http://schemas.openxmlformats.org/officeDocument/2006/relationships/slide" Target="slides/slide463.xml"/><Relationship Id="rId467" Type="http://schemas.openxmlformats.org/officeDocument/2006/relationships/slide" Target="slides/slide464.xml"/><Relationship Id="rId468" Type="http://schemas.openxmlformats.org/officeDocument/2006/relationships/slide" Target="slides/slide465.xml"/><Relationship Id="rId469" Type="http://schemas.openxmlformats.org/officeDocument/2006/relationships/slide" Target="slides/slide466.xml"/><Relationship Id="rId470" Type="http://schemas.openxmlformats.org/officeDocument/2006/relationships/slide" Target="slides/slide467.xml"/><Relationship Id="rId471" Type="http://schemas.openxmlformats.org/officeDocument/2006/relationships/slide" Target="slides/slide468.xml"/><Relationship Id="rId472" Type="http://schemas.openxmlformats.org/officeDocument/2006/relationships/slide" Target="slides/slide469.xml"/><Relationship Id="rId473" Type="http://schemas.openxmlformats.org/officeDocument/2006/relationships/slide" Target="slides/slide470.xml"/><Relationship Id="rId474" Type="http://schemas.openxmlformats.org/officeDocument/2006/relationships/slide" Target="slides/slide471.xml"/><Relationship Id="rId475" Type="http://schemas.openxmlformats.org/officeDocument/2006/relationships/slide" Target="slides/slide472.xml"/><Relationship Id="rId476" Type="http://schemas.openxmlformats.org/officeDocument/2006/relationships/slide" Target="slides/slide473.xml"/><Relationship Id="rId477" Type="http://schemas.openxmlformats.org/officeDocument/2006/relationships/slide" Target="slides/slide474.xml"/><Relationship Id="rId478" Type="http://schemas.openxmlformats.org/officeDocument/2006/relationships/slide" Target="slides/slide475.xml"/><Relationship Id="rId479" Type="http://schemas.openxmlformats.org/officeDocument/2006/relationships/slide" Target="slides/slide476.xml"/><Relationship Id="rId480" Type="http://schemas.openxmlformats.org/officeDocument/2006/relationships/slide" Target="slides/slide477.xml"/><Relationship Id="rId481" Type="http://schemas.openxmlformats.org/officeDocument/2006/relationships/slide" Target="slides/slide478.xml"/><Relationship Id="rId482" Type="http://schemas.openxmlformats.org/officeDocument/2006/relationships/slide" Target="slides/slide479.xml"/><Relationship Id="rId483" Type="http://schemas.openxmlformats.org/officeDocument/2006/relationships/slide" Target="slides/slide480.xml"/><Relationship Id="rId484" Type="http://schemas.openxmlformats.org/officeDocument/2006/relationships/slide" Target="slides/slide481.xml"/><Relationship Id="rId485" Type="http://schemas.openxmlformats.org/officeDocument/2006/relationships/slide" Target="slides/slide482.xml"/><Relationship Id="rId486" Type="http://schemas.openxmlformats.org/officeDocument/2006/relationships/slide" Target="slides/slide483.xml"/><Relationship Id="rId487" Type="http://schemas.openxmlformats.org/officeDocument/2006/relationships/slide" Target="slides/slide484.xml"/><Relationship Id="rId488" Type="http://schemas.openxmlformats.org/officeDocument/2006/relationships/slide" Target="slides/slide485.xml"/><Relationship Id="rId489" Type="http://schemas.openxmlformats.org/officeDocument/2006/relationships/slide" Target="slides/slide486.xml"/><Relationship Id="rId490" Type="http://schemas.openxmlformats.org/officeDocument/2006/relationships/slide" Target="slides/slide487.xml"/><Relationship Id="rId491" Type="http://schemas.openxmlformats.org/officeDocument/2006/relationships/slide" Target="slides/slide488.xml"/><Relationship Id="rId492" Type="http://schemas.openxmlformats.org/officeDocument/2006/relationships/slide" Target="slides/slide489.xml"/><Relationship Id="rId493" Type="http://schemas.openxmlformats.org/officeDocument/2006/relationships/slide" Target="slides/slide490.xml"/><Relationship Id="rId494" Type="http://schemas.openxmlformats.org/officeDocument/2006/relationships/slide" Target="slides/slide491.xml"/><Relationship Id="rId495" Type="http://schemas.openxmlformats.org/officeDocument/2006/relationships/slide" Target="slides/slide492.xml"/><Relationship Id="rId496" Type="http://schemas.openxmlformats.org/officeDocument/2006/relationships/slide" Target="slides/slide493.xml"/><Relationship Id="rId497" Type="http://schemas.openxmlformats.org/officeDocument/2006/relationships/slide" Target="slides/slide494.xml"/><Relationship Id="rId498" Type="http://schemas.openxmlformats.org/officeDocument/2006/relationships/slide" Target="slides/slide495.xml"/><Relationship Id="rId499" Type="http://schemas.openxmlformats.org/officeDocument/2006/relationships/slide" Target="slides/slide496.xml"/><Relationship Id="rId500" Type="http://schemas.openxmlformats.org/officeDocument/2006/relationships/slide" Target="slides/slide497.xml"/><Relationship Id="rId501" Type="http://schemas.openxmlformats.org/officeDocument/2006/relationships/slide" Target="slides/slide498.xml"/><Relationship Id="rId502" Type="http://schemas.openxmlformats.org/officeDocument/2006/relationships/slide" Target="slides/slide499.xml"/><Relationship Id="rId503" Type="http://schemas.openxmlformats.org/officeDocument/2006/relationships/slide" Target="slides/slide500.xml"/><Relationship Id="rId504" Type="http://schemas.openxmlformats.org/officeDocument/2006/relationships/slide" Target="slides/slide501.xml"/><Relationship Id="rId505" Type="http://schemas.openxmlformats.org/officeDocument/2006/relationships/slide" Target="slides/slide502.xml"/><Relationship Id="rId506" Type="http://schemas.openxmlformats.org/officeDocument/2006/relationships/slide" Target="slides/slide503.xml"/><Relationship Id="rId507" Type="http://schemas.openxmlformats.org/officeDocument/2006/relationships/slide" Target="slides/slide504.xml"/><Relationship Id="rId508" Type="http://schemas.openxmlformats.org/officeDocument/2006/relationships/slide" Target="slides/slide505.xml"/><Relationship Id="rId509" Type="http://schemas.openxmlformats.org/officeDocument/2006/relationships/slide" Target="slides/slide506.xml"/><Relationship Id="rId510" Type="http://schemas.openxmlformats.org/officeDocument/2006/relationships/slide" Target="slides/slide507.xml"/><Relationship Id="rId511" Type="http://schemas.openxmlformats.org/officeDocument/2006/relationships/slide" Target="slides/slide508.xml"/><Relationship Id="rId512" Type="http://schemas.openxmlformats.org/officeDocument/2006/relationships/slide" Target="slides/slide509.xml"/><Relationship Id="rId513" Type="http://schemas.openxmlformats.org/officeDocument/2006/relationships/slide" Target="slides/slide510.xml"/><Relationship Id="rId514" Type="http://schemas.openxmlformats.org/officeDocument/2006/relationships/slide" Target="slides/slide511.xml"/><Relationship Id="rId515" Type="http://schemas.openxmlformats.org/officeDocument/2006/relationships/slide" Target="slides/slide512.xml"/><Relationship Id="rId516" Type="http://schemas.openxmlformats.org/officeDocument/2006/relationships/slide" Target="slides/slide513.xml"/><Relationship Id="rId517" Type="http://schemas.openxmlformats.org/officeDocument/2006/relationships/slide" Target="slides/slide514.xml"/><Relationship Id="rId518" Type="http://schemas.openxmlformats.org/officeDocument/2006/relationships/slide" Target="slides/slide515.xml"/><Relationship Id="rId519" Type="http://schemas.openxmlformats.org/officeDocument/2006/relationships/slide" Target="slides/slide516.xml"/><Relationship Id="rId520" Type="http://schemas.openxmlformats.org/officeDocument/2006/relationships/slide" Target="slides/slide517.xml"/><Relationship Id="rId521" Type="http://schemas.openxmlformats.org/officeDocument/2006/relationships/slide" Target="slides/slide518.xml"/><Relationship Id="rId522" Type="http://schemas.openxmlformats.org/officeDocument/2006/relationships/slide" Target="slides/slide519.xml"/><Relationship Id="rId523" Type="http://schemas.openxmlformats.org/officeDocument/2006/relationships/slide" Target="slides/slide520.xml"/><Relationship Id="rId524" Type="http://schemas.openxmlformats.org/officeDocument/2006/relationships/slide" Target="slides/slide521.xml"/><Relationship Id="rId525" Type="http://schemas.openxmlformats.org/officeDocument/2006/relationships/slide" Target="slides/slide522.xml"/><Relationship Id="rId526" Type="http://schemas.openxmlformats.org/officeDocument/2006/relationships/slide" Target="slides/slide523.xml"/><Relationship Id="rId527" Type="http://schemas.openxmlformats.org/officeDocument/2006/relationships/slide" Target="slides/slide524.xml"/><Relationship Id="rId528" Type="http://schemas.openxmlformats.org/officeDocument/2006/relationships/slide" Target="slides/slide525.xml"/><Relationship Id="rId529" Type="http://schemas.openxmlformats.org/officeDocument/2006/relationships/slide" Target="slides/slide526.xml"/><Relationship Id="rId530" Type="http://schemas.openxmlformats.org/officeDocument/2006/relationships/slide" Target="slides/slide527.xml"/><Relationship Id="rId531" Type="http://schemas.openxmlformats.org/officeDocument/2006/relationships/slide" Target="slides/slide528.xml"/><Relationship Id="rId532" Type="http://schemas.openxmlformats.org/officeDocument/2006/relationships/slide" Target="slides/slide529.xml"/><Relationship Id="rId533" Type="http://schemas.openxmlformats.org/officeDocument/2006/relationships/slide" Target="slides/slide530.xml"/><Relationship Id="rId534" Type="http://schemas.openxmlformats.org/officeDocument/2006/relationships/slide" Target="slides/slide531.xml"/><Relationship Id="rId535" Type="http://schemas.openxmlformats.org/officeDocument/2006/relationships/slide" Target="slides/slide532.xml"/><Relationship Id="rId536" Type="http://schemas.openxmlformats.org/officeDocument/2006/relationships/slide" Target="slides/slide533.xml"/><Relationship Id="rId537" Type="http://schemas.openxmlformats.org/officeDocument/2006/relationships/slide" Target="slides/slide534.xml"/><Relationship Id="rId538" Type="http://schemas.openxmlformats.org/officeDocument/2006/relationships/slide" Target="slides/slide535.xml"/><Relationship Id="rId539" Type="http://schemas.openxmlformats.org/officeDocument/2006/relationships/slide" Target="slides/slide536.xml"/><Relationship Id="rId540" Type="http://schemas.openxmlformats.org/officeDocument/2006/relationships/slide" Target="slides/slide537.xml"/><Relationship Id="rId541" Type="http://schemas.openxmlformats.org/officeDocument/2006/relationships/slide" Target="slides/slide538.xml"/><Relationship Id="rId542" Type="http://schemas.openxmlformats.org/officeDocument/2006/relationships/slide" Target="slides/slide539.xml"/><Relationship Id="rId543" Type="http://schemas.openxmlformats.org/officeDocument/2006/relationships/slide" Target="slides/slide540.xml"/><Relationship Id="rId544" Type="http://schemas.openxmlformats.org/officeDocument/2006/relationships/slide" Target="slides/slide541.xml"/><Relationship Id="rId545" Type="http://schemas.openxmlformats.org/officeDocument/2006/relationships/slide" Target="slides/slide542.xml"/><Relationship Id="rId546" Type="http://schemas.openxmlformats.org/officeDocument/2006/relationships/slide" Target="slides/slide543.xml"/><Relationship Id="rId547" Type="http://schemas.openxmlformats.org/officeDocument/2006/relationships/slide" Target="slides/slide544.xml"/><Relationship Id="rId548" Type="http://schemas.openxmlformats.org/officeDocument/2006/relationships/slide" Target="slides/slide545.xml"/><Relationship Id="rId549" Type="http://schemas.openxmlformats.org/officeDocument/2006/relationships/slide" Target="slides/slide546.xml"/><Relationship Id="rId550" Type="http://schemas.openxmlformats.org/officeDocument/2006/relationships/slide" Target="slides/slide547.xml"/><Relationship Id="rId551" Type="http://schemas.openxmlformats.org/officeDocument/2006/relationships/slide" Target="slides/slide548.xml"/><Relationship Id="rId552" Type="http://schemas.openxmlformats.org/officeDocument/2006/relationships/slide" Target="slides/slide549.xml"/><Relationship Id="rId553" Type="http://schemas.openxmlformats.org/officeDocument/2006/relationships/slide" Target="slides/slide550.xml"/><Relationship Id="rId554" Type="http://schemas.openxmlformats.org/officeDocument/2006/relationships/slide" Target="slides/slide551.xml"/><Relationship Id="rId555" Type="http://schemas.openxmlformats.org/officeDocument/2006/relationships/slide" Target="slides/slide552.xml"/><Relationship Id="rId556" Type="http://schemas.openxmlformats.org/officeDocument/2006/relationships/slide" Target="slides/slide553.xml"/><Relationship Id="rId557" Type="http://schemas.openxmlformats.org/officeDocument/2006/relationships/slide" Target="slides/slide554.xml"/><Relationship Id="rId558" Type="http://schemas.openxmlformats.org/officeDocument/2006/relationships/slide" Target="slides/slide555.xml"/><Relationship Id="rId559" Type="http://schemas.openxmlformats.org/officeDocument/2006/relationships/slide" Target="slides/slide556.xml"/><Relationship Id="rId560" Type="http://schemas.openxmlformats.org/officeDocument/2006/relationships/slide" Target="slides/slide557.xml"/><Relationship Id="rId561" Type="http://schemas.openxmlformats.org/officeDocument/2006/relationships/slide" Target="slides/slide558.xml"/><Relationship Id="rId562" Type="http://schemas.openxmlformats.org/officeDocument/2006/relationships/slide" Target="slides/slide559.xml"/><Relationship Id="rId563" Type="http://schemas.openxmlformats.org/officeDocument/2006/relationships/slide" Target="slides/slide560.xml"/><Relationship Id="rId564" Type="http://schemas.openxmlformats.org/officeDocument/2006/relationships/slide" Target="slides/slide561.xml"/><Relationship Id="rId565" Type="http://schemas.openxmlformats.org/officeDocument/2006/relationships/slide" Target="slides/slide562.xml"/><Relationship Id="rId566" Type="http://schemas.openxmlformats.org/officeDocument/2006/relationships/slide" Target="slides/slide563.xml"/><Relationship Id="rId567" Type="http://schemas.openxmlformats.org/officeDocument/2006/relationships/slide" Target="slides/slide564.xml"/><Relationship Id="rId568" Type="http://schemas.openxmlformats.org/officeDocument/2006/relationships/slide" Target="slides/slide565.xml"/><Relationship Id="rId569" Type="http://schemas.openxmlformats.org/officeDocument/2006/relationships/slide" Target="slides/slide566.xml"/><Relationship Id="rId570" Type="http://schemas.openxmlformats.org/officeDocument/2006/relationships/slide" Target="slides/slide567.xml"/><Relationship Id="rId571" Type="http://schemas.openxmlformats.org/officeDocument/2006/relationships/slide" Target="slides/slide568.xml"/><Relationship Id="rId572" Type="http://schemas.openxmlformats.org/officeDocument/2006/relationships/slide" Target="slides/slide569.xml"/><Relationship Id="rId573" Type="http://schemas.openxmlformats.org/officeDocument/2006/relationships/slide" Target="slides/slide570.xml"/><Relationship Id="rId574" Type="http://schemas.openxmlformats.org/officeDocument/2006/relationships/slide" Target="slides/slide571.xml"/><Relationship Id="rId575" Type="http://schemas.openxmlformats.org/officeDocument/2006/relationships/slide" Target="slides/slide572.xml"/><Relationship Id="rId576" Type="http://schemas.openxmlformats.org/officeDocument/2006/relationships/slide" Target="slides/slide573.xml"/><Relationship Id="rId577" Type="http://schemas.openxmlformats.org/officeDocument/2006/relationships/slide" Target="slides/slide574.xml"/><Relationship Id="rId578" Type="http://schemas.openxmlformats.org/officeDocument/2006/relationships/slide" Target="slides/slide575.xml"/><Relationship Id="rId579" Type="http://schemas.openxmlformats.org/officeDocument/2006/relationships/slide" Target="slides/slide576.xml"/><Relationship Id="rId580" Type="http://schemas.openxmlformats.org/officeDocument/2006/relationships/slide" Target="slides/slide577.xml"/><Relationship Id="rId581" Type="http://schemas.openxmlformats.org/officeDocument/2006/relationships/slide" Target="slides/slide578.xml"/><Relationship Id="rId582" Type="http://schemas.openxmlformats.org/officeDocument/2006/relationships/slide" Target="slides/slide579.xml"/><Relationship Id="rId583" Type="http://schemas.openxmlformats.org/officeDocument/2006/relationships/slide" Target="slides/slide580.xml"/><Relationship Id="rId584" Type="http://schemas.openxmlformats.org/officeDocument/2006/relationships/slide" Target="slides/slide581.xml"/><Relationship Id="rId585" Type="http://schemas.openxmlformats.org/officeDocument/2006/relationships/slide" Target="slides/slide582.xml"/><Relationship Id="rId586" Type="http://schemas.openxmlformats.org/officeDocument/2006/relationships/slide" Target="slides/slide583.xml"/><Relationship Id="rId587" Type="http://schemas.openxmlformats.org/officeDocument/2006/relationships/slide" Target="slides/slide584.xml"/><Relationship Id="rId588" Type="http://schemas.openxmlformats.org/officeDocument/2006/relationships/slide" Target="slides/slide585.xml"/><Relationship Id="rId589" Type="http://schemas.openxmlformats.org/officeDocument/2006/relationships/slide" Target="slides/slide586.xml"/><Relationship Id="rId590" Type="http://schemas.openxmlformats.org/officeDocument/2006/relationships/slide" Target="slides/slide587.xml"/><Relationship Id="rId591" Type="http://schemas.openxmlformats.org/officeDocument/2006/relationships/slide" Target="slides/slide588.xml"/><Relationship Id="rId592" Type="http://schemas.openxmlformats.org/officeDocument/2006/relationships/slide" Target="slides/slide589.xml"/><Relationship Id="rId593" Type="http://schemas.openxmlformats.org/officeDocument/2006/relationships/slide" Target="slides/slide590.xml"/><Relationship Id="rId594" Type="http://schemas.openxmlformats.org/officeDocument/2006/relationships/slide" Target="slides/slide591.xml"/><Relationship Id="rId595" Type="http://schemas.openxmlformats.org/officeDocument/2006/relationships/slide" Target="slides/slide592.xml"/><Relationship Id="rId596" Type="http://schemas.openxmlformats.org/officeDocument/2006/relationships/slide" Target="slides/slide593.xml"/><Relationship Id="rId597" Type="http://schemas.openxmlformats.org/officeDocument/2006/relationships/slide" Target="slides/slide594.xml"/><Relationship Id="rId5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9539-ACC9-4FDB-9AA4-4CA9ED3C51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9.xml.rels><?xml version="1.0" encoding="UTF-8"?>
<Relationships xmlns="http://schemas.openxmlformats.org/package/2006/relationships"><Relationship Id="rId1" Type="http://schemas.openxmlformats.org/officeDocument/2006/relationships/slide" Target="../slides/slide589.xml"/><Relationship Id="rId2" Type="http://schemas.openxmlformats.org/officeDocument/2006/relationships/notesMaster" Target="../notesMasters/notesMaster1.xml"/>
</Relationships>
</file>

<file path=ppt/notesSlides/notesSlide5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019-FCC9-4D14-81DA-CA4AFF220D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E54-A48A-4915-82FB-91930520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2D3-0638-43C1-BFA1-9BC952A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F5B-A0F2-42E1-8651-7E14395C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C4D-EB9C-41EB-A127-DE5FFA45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7DE-6FEA-4873-BF65-1244EA4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99E-DC3C-41C4-878C-1E91250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885-034B-4852-90B9-B6ED0C5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FEE-288C-47BF-A9D9-00A87C1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1D8-B8D5-4B32-AFE6-2666B185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CAC-3A6A-4603-943B-5993AA5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E36-CF6A-4344-8F9D-236450D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894-A80F-4BFF-8F99-4DC6194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9885-B20D-429B-9969-2A4CFA198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2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岩にできるみつ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岩にできる蜜と 最良の小麦を与えよう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全ての敵を　私が滅ぼ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に　みちびこう　イエスの御名により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wa ni dekiru mitsu to sai ryo no komugi o ataeyo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subeno teki o watashi ga horo bo s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hie ni michibikoo iesu no mina ni yo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わにできるみつ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0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全能の主来るべき主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　全能の主　来たるべき主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使いらも　ほめうたう　御座にいます　主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zennou no shu kitarubeki shu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ukairamo homeuta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 ni imasu shu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ぜんのうのしゅきたるべきしゅ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9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なんとうるわしいあなたの御すがた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uan bello es el SeNor, Cuan hermoso es el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uan bello es el SeNor, hoy le quiero ado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La belleza de mi SeNor nunca se agota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 hermosura de mi SeNor siempre resplandecer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なんとうるわしいあなたのみすが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0 G W "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サナホサナホサナ王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,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よみがえりの君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ホザナ　ホザナ　王に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歌おう　よみがえりの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　いと高き　ほむべき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　いと高き　ほむべきイエ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 hosanna hosanna  oo ni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 utaoo yomigageri no ki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 yo ito takaki  homubeki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 yo ito takaki  homubeki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さなほさなほさなお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1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むべき御名全地の上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むべき御名　全地の上で　天で大いなる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むべき御名　全地の上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誉れ　主にささ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他に主はない　キリストの御名の他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他に主はない　栄光　誉れ　賛美　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の　ほむべき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 beki mina zenchi no we de ten de ooi naru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 beki mina zenchi no ued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homare shuni sasage y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hoka ni shu wa nai kirisuto no mina no hok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hoka ni shu wa nai eikoo homare sanbi chi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 noo no homubeki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むべきみなぜんちのうえ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歌え踊れ主にあって喜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歌え　踊れ　主にあって喜べ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　歌え　主に　賛美の中に住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と力の主　さあ主を　ほめたたえ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e  odore  shu ni atte yorokobe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 utae  shu ni sanbi no naka ni sum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to chikara no shu saa shu o  hometataeyo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たえおどれしゅにあってよろこ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3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たましいの　羊飼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わがたましいの　羊飼い　あなたに全て　ゆだねます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の声に聞き従い　どこまでもついてゆく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静かな牧場　流れのそばも　主は私ととも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けわしい山も　暗い谷間も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が　私をみちび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28"/>
          <p:cNvSpPr/>
          <p:nvPr/>
        </p:nvSpPr>
        <p:spPr>
          <a:xfrm>
            <a:off x="119160" y="68580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gatamashiino hitsujikai anatani subete yudanemas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nokoeni kikishitagai dokomademo tsuiteyuku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izukana makiba nagarenosobamo shuwa watashitotomo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ewashiiyamamo kurai tanimamo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hga watashio michibik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のひつじか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3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たましいの　羊飼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SHEPHERD OF MY SOUL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GIVE YOU FULL CONTR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VER YOU MAY LEAD I WILL FOLLOW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HAVE MADE THE CHOIC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TO LISTEN FOR YOUR VO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VER YOU MAY LEAD I WILL G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 IT IN A QUIET PASTUR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R BY A GENTLE STREA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SHEPHERD OF MY SOUL IS BY MY SID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OULD I FACE A MIGHTY MOUNTAI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R A VALLEY DARK AND DEEP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SHEPHERD OF MY SOUL WILL BE MY GUID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のひつじか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わが命はあなたにあ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わが命は  あなたにあ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わが力は  あなたにあ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わが思いは  あなたにあ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わが望みは  あなたにある　その御手の中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は   ひれ伏し 主をほめたた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命  わが力 　　わが望み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手に主の御手に主の御手の中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inochi wa  anata ni 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chikara wa anata ni 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omoi wa anata ni 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nozomi wa anata ni aru sono mite no naka 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wa  hirefushi  shu o hometat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inochi  waga chikara  waga nozomi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te ni  shu no mite ni  shu no mite no naka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わがいのちはあなたにあ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7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愛はうるわし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は   うるわしい　主の愛は  とこしえま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  主イエス　真実な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wa  uruwashii shu no ai wa  tokoshie ma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 shu iesu shinjitsu na 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いはうるわ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8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歌えシオンに住むも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歌え   シオンに住む者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スラエルの  聖なるかた　わが内に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スラエルの   聖なるかた　大いなる方   大いなる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utae  shion ni sumu mon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suraeru no  seinaru kata waga uchini o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suraeru no  seinaru kata ooinaru kata   ooinaru 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うたえしおんにすむ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99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スラエルの主大いなる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スラエルの主　大いなる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強い　主に向かって　ほめうたを　歌おう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力　祝い歌おう　よろこび　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山に　さあのぼって　主の力　祝お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srael no shu ooi nuru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zuyoi shu ni mukatte home uta o uta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chikara iwai utaoo yorokobi 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yama ni saa nobotte shu no chikara iwa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すらえるのしゅおおいなる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0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全能の主来るべき主の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oly Holy, God Almighty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o was, who is, and is to come.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 the angels are crying Ho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the Lamb who sits upon the thron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ぜんのうのしゅきたるべきしゅ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0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の冠罪と死への勝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の冠  罪と死への勝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  高く  ひびか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悪しき霊  主の御名にふる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は  世に勝つ  教会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御名  力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にまさる  偉大な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様  わが主  わが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ori no kanmuri  tsumi to shi eno sho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 takaku  hibika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ashiki rei  shu no mina ni furu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wa  yo ni katsu  kyook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mina  chikara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i masaru  idai na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sama  waga shu  waga  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ょうりのかんむりつみとしへのしょう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0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の冠罪と死への勝利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You have won the victor's crown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have triumphed over sin and dea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name is lifted high and ring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rough all the ear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very demon spirit of hell trembl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m Your mighty Name is hear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e Your church enfor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victory in the Worl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repeat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 the glory of your name, the splendour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Name And none can compare with the power of that Name You are Jesus, You are Lord, You are God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ょうりのかんむりつみとしへのしょう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1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あがめ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あがめて　主の力をたた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で主を仰いで　主の愛の前に拝し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　主イエスよ　うるわしい主　みもとにひれ伏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主イエスよ　とおとい愛　あなたをあがめ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agamete  shu no chikara o ta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 de shu o aoide  shu no ai no mae ni haish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 shu iesu yo uruwashii  mimoto ni hirefu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 shu iesu yo tootoi ai  anata o agam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あがめてしゅのちからをた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2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私はここにい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   私は   ここにい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のすべて   ささげます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  私を  みこころのため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ちびいてください  わが主 イエス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オー主よ   足に 口づけさせ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永遠の水   飲ませ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をいやし  きよめてくださ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声が   聞こえるように  主よ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yo  watashi wa  kokoni i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 no subete  sasag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yo watashi o  mikokoro no tame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chibiite kudasai  waga shu  ie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o shu yo  ashi ni kuchizuke sase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en  no mizu  nomase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o iyashi  kiyomete kudasa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koe ga  kikoeru yooni  shu y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わたしはここにい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を祝おうキリストによ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を祝おう　キリストにより　我らは　勝利者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よって　どんなことでもでき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われら勝利者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いつもわれらの味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われら勝利者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よっていつも勝利者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われら勝利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ori o iwaoo  kirisuto ni yori warera wa  shoorisha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yotte  donna kotodemo dekiru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wa  shoorish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itsumo warera no mikata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shoorish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yotte itsumo shoorisha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 shoori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ょうりをいわおうきりすとによ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はほむべき主賛美を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027"/>
          <p:cNvSpPr/>
          <p:nvPr/>
        </p:nvSpPr>
        <p:spPr>
          <a:xfrm>
            <a:off x="152280" y="635040"/>
            <a:ext cx="88693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あなたは　ほむべき主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賛美を　ささげます　</a:t>
            </a:r>
            <a:r>
              <a:rPr b="0" lang="en-US" sz="4000" spc="-1" strike="noStrike">
                <a:solidFill>
                  <a:srgbClr val="ffffff"/>
                </a:solidFill>
                <a:latin typeface="ＭＳ Ｐゴシック"/>
              </a:rPr>
              <a:t>×</a:t>
            </a: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栄光と　全能の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賛美を　ささげます　</a:t>
            </a:r>
            <a:r>
              <a:rPr b="0" lang="en-US" sz="4000" spc="-1" strike="noStrike">
                <a:solidFill>
                  <a:srgbClr val="ffffff"/>
                </a:solidFill>
                <a:latin typeface="ＭＳ Ｐゴシック"/>
              </a:rPr>
              <a:t>×</a:t>
            </a:r>
            <a:r>
              <a:rPr b="0" lang="ja-JP" sz="4000" spc="-1" strike="noStrike">
                <a:solidFill>
                  <a:srgbClr val="ffffff"/>
                </a:solidFill>
                <a:latin typeface="ＭＳ Ｐゴシック"/>
              </a:rPr>
              <a:t>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028"/>
          <p:cNvSpPr/>
          <p:nvPr/>
        </p:nvSpPr>
        <p:spPr>
          <a:xfrm>
            <a:off x="119160" y="1168560"/>
            <a:ext cx="8796240" cy="59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ＭＳ Ｐゴシック"/>
              </a:rPr>
              <a:t>ANATA WA HOMU BEKI SH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ＭＳ Ｐゴシック"/>
              </a:rPr>
              <a:t>SANBIO SASAEGE MA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ＭＳ Ｐゴシック"/>
              </a:rPr>
              <a:t>EI KOO TO ZEN NOO NO SH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ＭＳ Ｐゴシック"/>
              </a:rPr>
              <a:t>SAN BI O SASAGEMA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031"/>
          <p:cNvSpPr/>
          <p:nvPr/>
        </p:nvSpPr>
        <p:spPr>
          <a:xfrm>
            <a:off x="0" y="-53352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はほむべきしゅさんびを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7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せよわれらを導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感謝せよ　われらをみちび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感謝せよ　勝利の神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の上のイエスの血しお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ゆるされて　きよめ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勝利と愛を告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世界に　叫ぼう　イエスは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　イエスは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sha seyo  warera o michibi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sha seyo  shoori no kami 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uika no ueno iesu no chishio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 yurusarete  kiyome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shoori to ai o tsug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kai ni sakeboo iesu wa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o  iesu wa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んしゃせよわれらをみちび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08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様のおくりも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027"/>
          <p:cNvSpPr/>
          <p:nvPr/>
        </p:nvSpPr>
        <p:spPr>
          <a:xfrm>
            <a:off x="152280" y="304920"/>
            <a:ext cx="886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様のおくりもの　永遠の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028"/>
          <p:cNvSpPr/>
          <p:nvPr/>
        </p:nvSpPr>
        <p:spPr>
          <a:xfrm>
            <a:off x="119160" y="635040"/>
            <a:ext cx="879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sama no okurimono  eien no ino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さまのおくり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2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霊で主に歌おう霊で主を賛美し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霊で主に歌おう　霊で主を賛美し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ェシュワ　イェシュワ わが救い主　わたしの神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右の座に　上げられた主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られた主　我らの救い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rei de shu ni utaoo  rei de shu o sanbi shi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huwa  ieshuwa waga sukuinushi  watashi no kam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migi no za ni  agerareta shu 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gaerareta shu  warera no sukuinu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れいでしゅにうた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3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キリストつくり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・キリスト　造り主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唯一の主　世界を統べ治め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は　イエスの名の他には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名はイエス　主の名はイエ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tukurinushi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uitsu no shu sekaiwo subeosa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 wa iesu no nano hokaniwa 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nawa iesu shuno nawa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きりすとつくり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1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聖なる栄光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せいなるえいこう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31"/>
          <p:cNvSpPr/>
          <p:nvPr/>
        </p:nvSpPr>
        <p:spPr>
          <a:xfrm>
            <a:off x="152280" y="7621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聖なる　聖なる栄光の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聖なる　聖なる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全地は輝く　主の栄光に満ち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聖なる　聖なる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2"/>
          <p:cNvSpPr/>
          <p:nvPr/>
        </p:nvSpPr>
        <p:spPr>
          <a:xfrm>
            <a:off x="119160" y="1217520"/>
            <a:ext cx="8796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seinaru seinaru eikou no s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seinaru seinaru s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zenchi wa kagayaku shu no eikou ni mich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seinaru seinaru s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4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目を上げてみ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目を上げて見よ  しゅうかくの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時が熟し  穂がみのっ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雄々しくあれ  さあ立ち上がれ　世につげよう イエスは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  全地にみちあふ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水が  海を  おおうよう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名のほかに 救いは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・キリスト  唯一の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me o agete miyo  shuukaku no to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i ga jukushi  ho ga minot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shiku are  saa  tachiagare yo ni tsugeyoo  iesu wa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 zenchi ni michiafu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u ga umi o oouyoo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na no hokani  sukui wa 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 yuitsu no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あめをあげてみ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4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目を上げてみ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lza tus ojos y mira la cosecha est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s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tiempo ha llegado la mies est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du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fuerzate y s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aliente levantate y predic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todas las naciones que Cristo es la vid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sera llena la tierra de Su gl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 cubrira como las aguas cubren la mar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, no hay otro nombre, dado a los hombr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cristo, es el Seny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さあめをあげてみ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6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強い主の軍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強い主の軍勢  敵の城壁打ち壊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今声あげる 軍勢の先頭で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角笛ふきならせ 主の聖なる山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角笛ふきならせ  シオン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zuyoi shu no gunzei  teki no joheki uchi kow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ima koe ageru  gunzei no sentoo d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nobue fukinarase  shu no seinaru yama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nobue fukinarase  sio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づよいしゅのぐんぜ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7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いやし主よき羊飼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いやし主　良き羊飼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　わが岩　私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します　主イエスよ　あがめます　私の神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iyasinushi  yoki hitsujik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 waga iwa  watashi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shimasu  shu iesu yo agamemasu  watashi no 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いやしぬしよきひつじか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19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愛する者たち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愛する者たち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あって   喜べ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   義なる者たち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盾のように   とりかこむ 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aisuru mono tachi 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atte yorokob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gi naru mono tach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e no youni tori kakomu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あいするものたち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0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歌え踊れ喜ぼう もっともっ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うたえ　おどれ　喜ぼう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っと　もっと　主をほめ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座の前で　喜ぼ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と恵みの中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e  odore  yorokobo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tto  motto  shu o hom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za no maede  yorokob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to megumi no nak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たえおどれよろこぼ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1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前で叫び歌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前で　叫び歌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どれ　喜びにあふれ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　生きてる王イエス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ラララ、、、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 de  sakebi u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dore  yorokobi ni afur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 ni  ikiteru oo ies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a la la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まえでさけび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タンバリンをもって喜ぼ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ンバリンをもって喜ぼ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ンバリンをもって主に踊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の主の御前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ンバリンをもって主に踊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nbalin o motte yorokob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nbalin o motte shu ni od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no shu no mimae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nbalin o motte shu ni od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んばりんをもってよろこぼ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5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心　なやむとき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　なやむとき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みなを　よびもとめ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ちびい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よりも　高い岩に　高い岩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 nayamu toki 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 yobimoto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chibi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yorimo  takai iwa ni  takai iwa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こころなやむとき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ギターとタンバリンで歌お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ギターとタンバリンで歌お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キリストをほめ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真理のもろ刃の剣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恐れず　敵を滅ぼそ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ハレルヤ　ハレルヤ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gitaa to tan barin de utao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kirisuto o home 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nri no moroha no tsurug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sorezu tekio horo bo s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eluya  haleluya  haleluya halel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ぎたーとたんばりんでうた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  楽しみ   神をほめ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  楽しみ   神をほめたたえ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小羊の婚姻の   時がきた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がやく衣を    身にまと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花嫁は  ととの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王となられた   喜び叫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ぼ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tanoshimi kami wo hometataey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hitsuji no konin no toki ga kita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gayaku koromo wo mini mato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nayomewa totono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shu wa ooto narareta yorokobi sakeb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たのしみかみをほめ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7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角笛吹き鳴らせシオンの山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角笛　吹き鳴らせ　シオンの山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角笛　吹き鳴らせ　主の日が来たか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ハレルヤ　全能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ハレルヤ　イエスは王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､､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nobue  fukinarase  shion no yama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nobue  fukinarase  shu no hi ga kitakar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 hallelujah  zennoo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 hallelujah  iesu wa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のぶえふきならせしおんのやま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8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つまずくことなく傷なきものと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つまずくことなく  傷なき者と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御前に  立たせる方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・キリストにより  唯一の神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と 尊厳と 支配と 権威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あるように アーメ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azuku kotonaku  kizunaki mono tosh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minae ni  tataseru kat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ni yori  yuitsu no kam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to  songen to  shihai to  keni g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 ni aruyoo ni  a-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まずくことなくきずなきものとし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 叫べよ   主は 希望  栄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 叫べよ   主は 希望  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  立ち上がれ 主の勇士たち　声を   あげ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   この地に  今出て行こう　聖徒の足なみ   そろ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みちびく  勝利への道を　さあ  ともに  歩こ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私達を  もちい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わざを  なしとげ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すくいを  全地に伝えよ　さあ  心あわせ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sakebeyo shuwa kibou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tachiagare shuno yuushitachi koewo ag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ima konochini deteikou setono ashinamisoro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gamichibiku shourieno michiwo saa tomoni aru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wa watashitachiwo mochiite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wazawo nashitoge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sukuiwo zennchini tsutaeyo saa kokoroawas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さけべよしゅはきぼうえい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 叫べよ   主は 希望  栄光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027"/>
          <p:cNvSpPr/>
          <p:nvPr/>
        </p:nvSpPr>
        <p:spPr>
          <a:xfrm>
            <a:off x="152280" y="15228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"Rejoice! Rejoice! Christ is in You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the hope of glo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n our hearts. He lives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He lives! His breath is in you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rise a mighty army, we aris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1.Now is the time for us to march upon the land, into our hand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He will give the ground we claim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He rides in majesty, to lead us into victor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the world shall see that Christ is Lord! (repeat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2.God is at work in us, His purpose to perform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building a kingdom of power not of word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Where things impossible by faith shall be made possibl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Let's give the glory to Him now. (repea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3.Though we are weak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His grace is every thing we need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We're made of clay but this treasure is withi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He turns our weakness into His opportuniti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so that the glory goes to Him. (repeat)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さけべよしゅはきぼうえい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0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栄光 宮に　主の平和うち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 宮に　主の平和うち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喜びが　みちあふ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みなにより　罪きよめら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聖霊が　心に　住まわ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miya ni  shu no heiwa uch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yorokobi ga michi afu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mina ni yori  tsumi kiyomer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 seirei ga kokoro ni  sumaw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えいこうみやにしゅのへいわうち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0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栄光 宮に　主の平和うち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IS PRAISE FILLS THE TEMPL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PEACE FILLS MY HEA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JOY AND HIS GLORY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DID WONDROUSLY IMPA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BLEST NAME OF JESU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ROUGHT ME FREEDOM FROM S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W HIS PRAISE FILLS THE TEMP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IS SPIRIT DWELLS  WITHI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えいこうみやにしゅのへいわうち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2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向かい声をあ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向かい　声を上げ　いつも　たたえよう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しよう　あがめよう　偉大な　主の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素晴しい　主の御名　素晴しい　主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地で大いなる主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mukai  koe o age itsumo  tata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shiyoo  agameyoo idai na  shu no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arashii  shu no mina subarashii  shu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chi de ooinaru sh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むかいこえをあ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3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前にひざまづき心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前に    ひざまずき　心から   賛美   ささげ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   とこしえに　わたしの  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ae ni  hizamazuki kokoro kara  sanbi  sasag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 tokoshie ni watashi no  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まえにひざまづきこころ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4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の名によりわが全て主にゆだね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名により　わが全て  主にゆだね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とこしえまで　あなたに  ついてゆきた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  心のうちに 主を信頼している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したを   主にゆだねて　約束  信じ   生きてゆこ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mina ni yori waga subete  shu ni yudan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tokosie made anata  tsuite yukit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 kokoro no uchi ni shu o sinrai siteiru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ita o  shu ni yudanete yakusoku sinji  ikite yuk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のなによりわがすべてしゅにゆだね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6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平和と義聖霊の喜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と義　聖霊の喜び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と義と喜び　それが　神の国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も　来ませんか　あなたも　来ません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国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 wa to gi seirei no yorokob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 wa to gi to yorokobi sure ga kami no ku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mo kimasenka anata mo kimasen ka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u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へいわとぎせいれいのよろこ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ほめ歌おうとわ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ほめ歌おう　とわに　主は　力の神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パロの戦車も　軍勢も　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よりて　投げ込まれる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海の深みに　投げ込まれる　ラララ．．．．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方こそ　わが神  とこしえに　ほめたたえん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homeutaou towa ni shu wa chikara no kam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paro no sensha mo gunzei m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yorite nagekomarer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mi no fukami ni nagekomarer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a la la .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kata koso waga kam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ie ni hometata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ほめうたおうとわ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8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御前にすすみゆき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御前ににすすみゆき 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このいのちを ささげ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こめてつたえたい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 あなたは わたしの全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御名をかかげ たたえ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あわれみ とこしえまで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手をあげ 御前で あがめ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うるわしきお方 主イエス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 yo mimaeni susumiyuki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no inochi wo sasag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komete tutaeta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 yo anata wa watashi no sube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 no mina wo kakage tata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 no awaremi tokoshie mad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 wo age mimaede agam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uruwashiki okata syu ies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みまえにすすみゆ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3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をたたえよう主の御名かかげ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を　たたえよう　主の御名　かか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に　ほめよう　賛美を　ささげ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う　イエスを　誉れと　さかえあ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う　イエスを　賛美ささげよう　主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o tatae yoo shu no mina kakage 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 shie ni homeyoo sambio sasage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yoo iesuo homareto sakae 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 yoo iesuo sambi sasageyoo shu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をたたえようしゅのみなかかげ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0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を主よあがめ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なたを   主よ　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を　いやすかた   すべてゆだねます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nata o  shu  agame 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o  iyasu kata  subete yudan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をしゅよあが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が望むのは　主とともに住むこ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が望むのは　主とともに住むこ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そば近くにいて　ほめたたえた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が望むのは　とわに主と住むこ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引き寄せて下さい　あなたのそば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とともにいて　主の中でいこ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栄光に満ちた　食卓を囲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れだけが　いつも願うこ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そばで　生きてゆきた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ga nozomunowa shutotomoni sumuko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soba chikakuniite hometataeta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ga nozomunowa towani shutotomoni sumuko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ikiyosetekudasai anatanosoba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to tomoniite shunonakade iko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unimichita shokutakuwo kakom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redakega itsumo negauko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nosobade ikite yukit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がのぞむのはしゅとともにすむこ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が望むのは　主とともに住むこと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27"/>
          <p:cNvSpPr/>
          <p:nvPr/>
        </p:nvSpPr>
        <p:spPr>
          <a:xfrm>
            <a:off x="152280" y="30492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"I JUST WANT TO BE WHERE YOU AR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DWELLING DAILY IN YOUR PRESENC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DON'T WANT TO WORSHIP FROM AFAR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DRAW ME NEAR TO WHERE YOU AR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 WHERE YOU AR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N YOUR DWELLING PLACE FOREVER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TAKE ME TO THE PLACE WHERE YOU AR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 WITH YOU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WANT TO BE WHERE YOU AR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DWELLING IN YOUR PRESENC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FEASTING AT YOUR TABL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SURROUNDED BY YOUR GLORY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N YOUR PRESENC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THAT'S WHERE I ALWAYS WANT TO B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 WITH YOU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 WHERE YOU ARE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TO ENTER BOLDLY IN YOUR PRESENC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DON'T WANT TO WORSHIP FROM AFAR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DRAW ME NEAR TO WHERE YOU AR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OH, MY GOD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YOU ARE MY STRENGTH AND MY SONG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AND WHEN I'M IN YOUR PRESENC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THOUGH I'M WEAK YOU'RE ALWAYS STRONG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ＭＳ Ｐゴシック"/>
              </a:rPr>
              <a:t>I JUST WANT TO BE I JUST WANT TO BE WITH YOU"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がのぞむのはしゅとともにすむこ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2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まちのぞも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　まちのぞもう　みまえで　心しず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よるのでなければ　すべて　むなし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　まちのぞも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 machi mozomoo mimae de  kokoro shizum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yorunode nakereba subete  munashi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 machi mozom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をまちのぞも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心から思いを込め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から　思いをこ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王　わが主に　うたを　ささげ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うるわしい　わが主  うるわしい　主の愛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いのちの　泉　心から　したいます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kara  omoi o kom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oo  waga shu ni uta o  sasager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ruwashii  waga shu uruwashii  shu no 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inochi no  izumi kokoro kara  shitaimas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こころからおもいをこめ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4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たしはこの地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はこの地に 火を投げ込む為に来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その火が 心に 燃え続けているよう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を 燃やして 主の御名 のべ伝え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油の注ぎを 油の注ぎ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の心を 燃やし続け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油の注ぎを 油の注ぎ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の心に 満たして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a  kono chi ni hi o nagekomu tameni ki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hi ga  kokoro ni moetsuzukete iruyo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o  moyasite  shu no mina  nobe tsutae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ura no sosogi o  abura no sosog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no kokoro o  moyasi tsuzuk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ura no sosogi o  abura no sosog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no kokoro ni  mita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このちにひをなげこむためにき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5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手を高く上げ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手をたかくあげて  主イエスをほめ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にみたされ   身をささ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あなただけに 心をささげ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みまえにふして  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子  主イエスに　栄光と   ほまれあ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 o takaku agete  shu iesu o hom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 ni mitasarete  mi o sas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natadake ni  kokoro o sasag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 ni fusite  aga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o  shu iesu ni eikoo to  homar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をたかくあげ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5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手を高く上げ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Quiero levantar mis manos quiero levantar mi vo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freciendo a Ti mi vida en santidad y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dre solo a Ti te ofrezco mi vida y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me postro en Tu presencia en ador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jo de Dios, recibe h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a la gloria, la honra y ho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jo de Dios, recibe h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a la gloria, la honra y hon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てをたかくあげ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ほめ歌おうとわ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27"/>
          <p:cNvSpPr/>
          <p:nvPr/>
        </p:nvSpPr>
        <p:spPr>
          <a:xfrm>
            <a:off x="152280" y="68580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ほめうたおうとわ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小羊のうた歌お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小羊の歌　歌おう　大いなる主のみわざをたたえ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道は　正しく真実 御名を あがめ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オー　ハレルヤ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hitsuji no uta  utaoo ooinaru shu no miwaza o tata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chi wa  tadashiku shinjits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 o  agame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oo  hallelujah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ひつじのうたうた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8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ダビデがしたよう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027"/>
          <p:cNvSpPr/>
          <p:nvPr/>
        </p:nvSpPr>
        <p:spPr>
          <a:xfrm>
            <a:off x="152280" y="15228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さあ　ダビデがしたよう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力の限り踊れ　主の御前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さあ　ミリアムがしたよう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タンバリンをもって歌え　主の御前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さあ　ユダがしたよう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よろこびの声あげよ　主の御前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さあ　ヨシュアがしたよう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叫び勝利せよ　主の御前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ほめよ　たたえよ　イエスは主と  とどけ　賛美よ　主の御座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28"/>
          <p:cNvSpPr/>
          <p:nvPr/>
        </p:nvSpPr>
        <p:spPr>
          <a:xfrm>
            <a:off x="119160" y="4046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a  dabide ga shita yoo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chikara no kagiri odore  shu no mimae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a  miliamu ga shita yoo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nbalin o motte utae  shu no mimae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a  yuda ga shita yooni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rokobi no koe ageyo  shu no mimae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a  yoshua ga shita yoo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ebi shoori seyo  shu no mimae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omeyo  tataeyo  iesu wa shu to todoke  sanbi yo  shu no miza 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あだびでがした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8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ダビデがしたよう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S DAVID DID IN JEHOVA'S SIGH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DANCE WITH ALL MY MIGH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FORE THE KING OF KINGS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AS MIRIAM DID WITH THE TAMBOURI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CLAP MY HANDS AND S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FORE THE KING OF KINGS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JUDAD DID ON THE BATTLE GROU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MAKE A JOYFUL SOU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FORE THE KING OF KING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JOSHUA DID AT JERICH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SHOUT TO DEFEAT THE FO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FORE THE KING OF KING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WE CAN COME BEFORE HI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ORSHIP HIM TODA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CAN NOW ADORE HIM JESUS MADE A WAY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あだびでがした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48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ダビデがしたよう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omo hizo David delante de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dazare y me gozare delante de mi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hizo Maria con Tambor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aplaudire y catare delante de mi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hizo Juda cuando fue a pele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re un grito de aclamacion delante de mi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hizo Josue en Jeric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itare y conquistare delante de mi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hora puede yo venir ante ti y alabarte mi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 psotrare y adorare a Cristo , mi re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さあだびでがしたよう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御言葉はわが足のともし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なたのみことばは  わが足のともしび  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なたのみことばは  わが道の光  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くらやみに  道を失い おそれるその時に 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よ あなたはそばに近づき 私を励ます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なたのみことばは  わが足のともしび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なたのみことばは わが道の光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はかりしれない あなたの愛に　心開く   その時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よあなたは 御手をのばし 私をみちび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028"/>
          <p:cNvSpPr/>
          <p:nvPr/>
        </p:nvSpPr>
        <p:spPr>
          <a:xfrm>
            <a:off x="119160" y="635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nata no mikotoba wa  waga ashi no tomoshib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nata no mikotoba wa  waga michi no hikar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urayami ni michi o ushinai osoreru sono toki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yo  anata wa soba ni chikazuki watashi o hagemas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nata no mikotoba wa  waga ashi no tomoshib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nata no mikotoba wa  waga michi no hikar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hakarishirenai  anata no ai ni kokoro hiraku  sono toki ni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yo anata wa  mite o nobashi  watashi o michibiku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みことばはわがあしのともし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油を今注いでくだ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油を今　注いで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を今　もやし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ぼう　たのしもう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救いの  よろこびの　衣をまと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ぼう　たのしも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がて　こられる　わが王の　みまえで　おどろう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bura o ima  sosoid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o ima  moyash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oo  tanoshim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sukui no  yorokobi no koromo mato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oo  tanoshim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gate  korareru  waga oo no mimae de  odor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ぶらをいまそそいでくださ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油を今注いでくださ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Pon aceite en mi vida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Tu fuego en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n aceite en mi vida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lampara aviva h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me gozare y me alegr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me ha vestido de lino fi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l gozo de su salv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 me gozare y me alegr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vidado he sido a las boda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mi Rey pronto v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あぶらをいまそそいでくだ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3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きよい御霊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 聖い御霊よ この私を 満たし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御座から流れ この私を聖め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霊にあふれ 生きる  主の栄光あおい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霊にあふれ 生きる  主のみわざ あおい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028"/>
          <p:cNvSpPr/>
          <p:nvPr/>
        </p:nvSpPr>
        <p:spPr>
          <a:xfrm>
            <a:off x="119160" y="635040"/>
            <a:ext cx="864396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 kiyoi mitama yo  kono watashi o mitash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ｋｏｎｏ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 kara nagare  kono watashi o kiyome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ni afure  ikiru  shu no eikoo aoi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ni afure  ikiru  shu no miwaza ao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まきよいみたま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4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にあがなわれ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　あがなわれて　今はイエスをほめたた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のくさりとかれ　今はイエスをほめたたえ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だから　手をうちならし　ハレルヤ　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手を　うちならし　ハレルヤ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　主の主　王の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aganawarete ima wa iesu o hometat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 no kusari tokare ima wa iesu o hometata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kara te o uchi narashi hallelujah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o uchi narashi hallelujah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h no on shu no shu oh no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にあがなわれ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5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を　今　主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を　今　主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つかわしたまえ　主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　ゆかん　主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ずさえて　国々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wo ima shu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kawashitamae shu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rukan shuno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zusaete kunigu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をいましゅよつかわしたまえ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ほめ歌おうとわ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antare al Senyor por siemp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u diestra es todo pod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 echado a la mar los que persegui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inete y caballo, ha echado a la m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cho a la mar los carros de Fara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i, lai, lai, lai, lai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i, lai, lai, lai, lai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Padre es Dios y yo le alab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Padre es Dios y l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ch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la mar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にほめうたおうとわ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5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を　今　主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eme aqui yo ire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me aqui yo ire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viame a mi, que dispuesto esto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levare tu Gloria a las nacion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われをいましゅよつかわしたまえしゅ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主にささげます主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主に   ささげます  主に   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主に   力ある神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海にうかぶ   島々にすむ人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世界のはてまで   叫べ  歌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むかって  すべての国々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新しい歌を  叫べ  歌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shu ni sasagemasu sh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shu ni chikara aru kam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mi ni urakabu shimajama ni sumu hito kara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kai no hate made sakebe uta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mukatte subete no kuniguni kara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hi i utao sakebe u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こうしゅにささげます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主にささげます主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051"/>
          <p:cNvSpPr/>
          <p:nvPr/>
        </p:nvSpPr>
        <p:spPr>
          <a:xfrm>
            <a:off x="152280" y="68580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2052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2053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054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こうしゅにささげます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尊厳力は主のも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そんげん　力は主のもの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ほまれ　さんびは主のもの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songen chikara wa shu nomon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homare sambi wa shu no m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そんげんちからはしゅの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8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Ｅ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 "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ｵｰｵｰ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,,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国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027"/>
          <p:cNvSpPr/>
          <p:nvPr/>
        </p:nvSpPr>
        <p:spPr>
          <a:xfrm>
            <a:off x="152280" y="304920"/>
            <a:ext cx="8869320" cy="12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ｵｰｵｰｵｰｵｰｵｰｵｰ 神の国が  ｵｰｵｰｵｰｵｰｵｰｵｰ  心にある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主がすべおさめる  神の国が　キリストによって  心にある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主にある喜び  神の国が　イエスの愛  光   心にある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罪から救われ  神の国が　キリストによって  心にある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永遠のいのち  神の国が　イエスの勝利  力 心にある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われらは主の宮  神の国が　キリストによって  心にある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マラナタとうたえ  神の国が　イエスを待つ望み  心にある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028"/>
          <p:cNvSpPr/>
          <p:nvPr/>
        </p:nvSpPr>
        <p:spPr>
          <a:xfrm>
            <a:off x="119160" y="635040"/>
            <a:ext cx="8796240" cy="12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o-o-o-o-o-o-  kami no kuni ga  o-o-o-o-o-o-  kokoro ni aru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shu ga sube osameru kami no kuni ga kirisuto ni yotte kokro ni aru 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shu ni aru yorokobi kami no kuni ga iesu no ai hikari kokoro ni aru 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tsumi kara sukuware kami no kuni ga kirisuto ni yotte kokoro ni aru 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eien no inochi kami no kuni ga iesu no shoori chikara kokoro ni aru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warera wa shu no miya kami no kuni ga kirisuto ni yotte kokoro ni aru 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maranata to utae kami no kuni ga iesu o matsu nozomi kokoro ni aru 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おおおおかみのくに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5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主にささげ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主に　ささげよう　かんしゃのうたを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力のかぎ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主にささげ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主の　みまえで　よろこびおどろう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力のかぎ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よろこびおどろ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shu ni  sasageyo  kansha no uta 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 chikara no kagi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 shu ni sasage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shu no  mimae de  yorokobi odoro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 chikara no kagi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ulujah  hallelujah  yorokobi odor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あしゅにささげ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0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サナ＊４　王の王に誉れあ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ホザナ　ホザナ　ホザ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に　ほまれあ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と高き　主の御名に　ホザ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hosanna hosanna hosan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o oo ni homare 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o takaki shi no mina ni hosa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さなほさなほさなほさなほさ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1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Ｅ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世界中どこでで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せかいじゅう  どこででも　あたらしい  歌を   ささげ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うたえ   ほめたたえよ　みすくいの  知らせを  つげ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ことに主は   大いなる方　賛美されるべきか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威光と尊厳と栄誉　こうえいと   力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だ  主だけを  れいはいせ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をつくり   ささえている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kai juu  dokode demo atarashii  uta o  sasag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utae  hometataeyo misukui no  shirase o tsug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koto ni shu wa  ooinaru kata sanbi sareru beki 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oo to songen to eiyo kooei to  chikara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da  shu dake o  reihai  s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o tsukuri  sasaete iru  s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かいじゅうどこでで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2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シオンの民よほめ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オンの民よ  ほめたたえよ　大いなる神（＊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あわれみとみわざは くすしい　感謝をささ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みまえで  おどろう 主をよろこぼう  ほめたたえ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の  主をほめよ （＊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の神  大いなる御名 （＊２）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on no tami yo  hometataeyo ooinaru  kami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awaremi to miwaza wa  kusushii kansha o sasag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 de  odoro shu o yorokobo hometata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oo no  shu o homey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oo no kami  ooinaru min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おんのたみよほめ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4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の血潮わが身をきよ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血しお わが身をきよ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を   朱にそめ　わが身  あがな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雪より 白く白くきよめたもうイエス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血しお 十字架の血し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をあがない罪きよめたも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chishio  waga mi o kiyo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jika o  shu ni some waga mi  agan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uki yori  shiroku shiroku kiyome tamoo iesu 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chishio  jujika no chishi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o aganai tsumi kiyome tam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のちしおわがみをきよ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霊よ来てくだ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霊よ　来てください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霊よ　われらのもとに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天を造り　主は大地を造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生き物を　造られた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れらの王　主はわれら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の神　わが救い主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tama yo  kite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tama yo  warera no moto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ten wo tsukuri  shu wa daichi wo tsuk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ikimono wo  tsukurareta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rera no ou  shu wa warera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ou no kami  waga sukuinush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たまよきてくださ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5 E P "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の血潮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,,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をあらう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　血しお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つみを　あら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われを　すく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３われを　いや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 chishi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1 tsumi o  ara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2 ware o  suku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3 ware o  iy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のちし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御座におられる聖なるお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は　御座におられる　聖なるおかた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の愛をうけて　賛美をささげ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　臨在の中で　大いなる勝利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ほふられた子羊に　心からさけぼう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*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に　ハレルヤ　ハレルヤ　ハレルヤ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聖なる宮に　今　我らは行こ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聖徒らと　ともに主の　御前で　あがめよ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a  miza ni orareru  seinaru okat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o ai o ukete  sanbi o sasage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rinzai no naka de  ooinaru shoori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ofurareta kohitsuji ni  kokoro kara sakebo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* shu ni hallelujah  hallelujah  hallelujah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seinaru miya ni  ima  warera wa yuk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eitora to tomoni shu no mimae de agamey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みざにおられるせいなるお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7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よ 主をほめ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よ  主をほめよ  主をほめ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えず主は  あなたにも 与えよう  勝利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血により  みな勝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血により  みな勝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血により   みな勝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だから主を   高らかに 心から たたえ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yo  shu o homeyo  shu o hom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ezu shu wa  anata nimo  ataeyo  shoori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chi ni yori  mina sho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chi ni yori  mina sho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chi ni yori  mina sho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kara shu o  takaraka ni  kokoro kara tata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よしゅ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7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よ 主をほめ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GIVE GOD THE GLORY, GIVE GOD THE GLOR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IVE GOD THE GL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E WILL GIVE YOU, AND HE WILL GIVE YOU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E WILL GIVE YOU THE VICT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ATAN THE BLOOD OF JESUS IS AGAINST YOU) *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LET US GIVE GOD) *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 OF THE PRAI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よしゅ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8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涙とともに種をまくもの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なみだとともに   種をまくもの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   叫びながら   かりとろ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がて  かわいた  この地に  大雨がふ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がて  かわいた  この地に　リバイバルが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mida to tomoni  tame o maku mono w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 sakebi nagara  karitor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gate  kawaita  kono  chi ni  ooame ga f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gate  kawaita  kono  chi ni revival  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なみだとともにたねをまくも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ファミリー君はファミリ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ファミリー　きみは　ファミリー イエス　われら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ぼう　ひとつの家族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ぼう　父なる神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family kimiwa family iesu warera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 boo hitotsu no kazo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 boo chichi naru kamin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ふぁみりーみきはふぁみり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0 A P "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サナ聖なる主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,,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ダビデの子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せいなる主  ホザナ 造り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ダビデの子　オーホザナ　イエスは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に　あがなわれて　せいれいで　みたさ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　そして平和　かいほう　与えてく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 seinaru shu hosanna  tsukuri n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davide no ko oh hosanna  iesu wa 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i agana warete sei rei de mitas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soshite heiwa kaihoo ataete ku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さなせいなるしゅほさなつくり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たたえ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（あなたを）たたえます（たたえます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（あなたを）あいします（あいします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に（あなたに）つかえます（つかえます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に（あなたに）したがいます（したがいます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なただけが　賛美されるべきおか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なただけを　わたしは　ほめたた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tata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 aishi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tsuka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shitagai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anatadake ga sambi sareru beki o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anatadake o watashi wa hometata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たたえ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たたえます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027"/>
          <p:cNvSpPr/>
          <p:nvPr/>
        </p:nvSpPr>
        <p:spPr>
          <a:xfrm>
            <a:off x="0" y="533520"/>
            <a:ext cx="8869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worship With all of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praise You With all of my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seek You All of my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follow Follow all of Your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&lt;Choru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 will give You all my wo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 will give You all my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You alone I long to wo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You alone are worthy of my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 will bow down And hail You as 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serve You I'll give You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lift up My eyes to Your th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And I will trust You I will trust You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たたえ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2 Em P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油をたやすことな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油をたやすことな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まえに　ともしびを　もや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やすことなく　主の来られる日まで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燃やせ　互いに　愛を　互いに支え　互いに励ましあ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やせ　聖霊の火を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もしび　もや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ura o tayasu koto n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ae ni tomoshibi o moy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yasu koto naku shu no korareru hi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yase tagai ni aio tagai ni sasae tagai ni hagemash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yase sei rei no hi o tomoshibi moy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ぶらをたやくことな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嘆きを踊りに変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嘆きを　おどりにかえ喜びの衣を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向かって　うたおう主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向かって　おどろう主の栄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アドナイ　オーアドナイ　永遠の神　造り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では主への　賛美が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我らも　賛美し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geki wo  odori ni kae yorokobi no koromo w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mukatte  utaou shu no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mukatte odorou shu no eik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adonai  oo adonai eien no kami  tsukurimush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dewa shu eno  sanbi ga 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warera mo sanbi shi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なげきをおどりにか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わが王賛美で迎え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わが王　賛美でむかえん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　主の御座を　もうけたまえ　主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は神のもの　ゆえに神にささげん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こころのままに　おさめよ主イエス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ga oo sambi de muka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shu no mizao mooketamae shu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wa kami no mono yueni kami  ni sasag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okoro no mama ni osameyo shu ies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わがおうさんびでむかえ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わが王賛美で迎えん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"JESUS WE ENTHRONE YOU. WE PROCLAIM YOU OUR KING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STANDING HERE IN THE MIDST OF U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WE RAISE YOU UP WITH OUR PRAISE.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AS WE WORSHIP BUILD A THRONE,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AS WE WORSHIP BUILD A THRON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AS WE WORSHIP BUILD A THRONE,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OME LORD JESUS AND TAKE YOUR PLACE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わがおうさんびでむかえ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聖なる主わが賛美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　聖なる主　わが賛美　ささげます（＊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が　宮にみち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かおを仰ぎ　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が　宮にみち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　とこし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seinaru shu waga sambi sasagemas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 ga miyani michi afur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ao aogi agame 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ga miya ni michi afur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tokoshie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せいなるしゅわがさんび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6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王　わが神　わが主イエ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王　わが神　わが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　主の主　みなをたたえ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義なる　御座の上に　主イエス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権威ある　みことば　とわに　おさめ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ou wagakami waga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noou shunoshu minawo tataey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ginaru mizano ueni shu iesuno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enniaru mikotoba towani osamer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おうわがかみわがしゅいえ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8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谷川の流れをしたう鹿のよう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谷川の流れをしたう　鹿のよう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わがたましいは　あなたをした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あなたこそわが盾 あなたこそわがちから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あなたこそわが望み われは主をあがめん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友わが王なる　わがすべて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から何よりもあなたを愛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nikawa no nagare wo shitau shika noyou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tanashii wa anata wo shita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koso waga tat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koso waga chikara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koso waga nozomi ware wa shu wo aog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omo waga oo naru waga subete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kara nani yorimo anata wo ais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にがわのながれをしたうしかの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8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谷川の流れをしたう鹿のよう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S THE DEAR PANTETH FOR THE W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MY SOUL LONGETH AFTER YOU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LONE ARE MY HEART'S DESI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LONG TO WORSHIP YO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LONE ARE MY STRENGTH, MY SHIEL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YOU ALONE MAY MY SPIRIT YIEL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LONE ARE MY HEART'S DESI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LONG TO WORSHIP YO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RE MY FRIEND AND YOU ARE MY BROTH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VEN THOUGH  YOU ARE A K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LOVE YOU MORE THAN ANY OTHE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MUCH MORE THAN ANYTHING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にがわのながれをしたうしかの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7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と喜びを今主の前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感謝と　喜びを　今主の前に　今主の前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の　いけにえを　今主の前に　ささげ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が　流された　血しおで　きよめら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に　私の名が　しるされている　喜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shato  yorokobio ima shu no maeni  ima shuno mae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no  ikenie o ima shu no mae ni  sasag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ga  nagasareta chishio de  kiyomer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ni  watashi no na ga sirusareteiru yoro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んしゃとよろこびをいましゅのまえ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悲しみが喜びに変えられた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なしみが　喜びに　かえられた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賛美　せずに　いられ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のきずに　いやしの御手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のいたみに　主のなぐさめ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が  やみをけしさ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朝日のように喜びが あふれだ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ashimi ga  yorokobi ni  kaerareta im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sanbi sezuniwa  irare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no kizu ni  iyashi no mite g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no itami ni  shu no nagusame g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ga  yami o kesis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ahi no yooni  yorokobi ga  afured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なしみがよろこびにかえられたい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悲しみが喜びに変えられた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 He's turned my mourning into dancing agai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lifted my sorrow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can't stay silen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must sing for His joy has come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 there once was only hu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gave His healing h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 there once was only pa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brought comfort like a fri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feel the sweetness of H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ve piercing my darkn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see the bright and morning su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it ushers in His joyful gladness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なしみがよろこびにかえられたい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四方から吹いてき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が四方からふいてき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国をいかして くださ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北も  南  東  西から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はじまるリバイバル  この国に　ここ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 ga  sihoo kara fuitek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kuni o ikasite  kudas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ta mo minami  higasi   nisi kara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hajimaru revival  kono kuni ni koko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れいがしほうからふいてき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嘆きを踊りに変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as cambiado mi lamento en bai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 ceNiste todo de aleg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cambiado mi lamento en bai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 ceNiste todo de aleg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tanto a Ti cantare Gloria mia, gloria m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solo a Ti danzare Gloria mia, gloria mi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なげきをおどりにか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四方から吹いてき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HERE'S GON-NA BE A REVIVAL IN THE LAND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RE'S GON-NA BE A REVIVAL IN THE LAND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NORTH, THE SOUTH, THE EA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THE WEST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RE'S GON-NA BE A REVIVAL IN THE LAND!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れいがしほうからふいてき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四方から吹いてき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a a haber un avivamiento en mi pa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a a haber un avivamiento en mi pa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sde el Norte hasta el Su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sde el Este hasta el Oes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a a haber un avivamiento en mi pa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a a haber un avivamiento en mi 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せいれいがしほうからふいてき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シャウト喜びシャウト叫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ウト 喜び シャウト  叫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はすでに主のもの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どんな敵も  どんな武器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役にたたなくな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れらの救いの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小羊の血で 打ち勝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ut  yorokobi  shout  sakeb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ori wa  sudeni  shu no mon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onna teki mo  donna buki m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ku ni tatanaku n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 warera no sukui no iw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hitsuji no chi de  uchika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ゃうとよろこびしゃうとさけ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シャウト喜びシャウト叫べ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027"/>
          <p:cNvSpPr/>
          <p:nvPr/>
        </p:nvSpPr>
        <p:spPr>
          <a:xfrm>
            <a:off x="152280" y="6858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"SHOUT, SHOUT FOR JOY, SHOUT, SHOUT FOR JO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THE LORD HAS GIVEN YOU THE VICTORY)*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 WEAPON FORMED AGAINST YOU SHALL PROSP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 KINGDOM RAISED AGAINST YOU SHALL STAN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THE LORD IS THE ROCK OF OUR SALV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WE HAVE OVERCOME BY THE BLOOD OF THE LAMB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HOUT, SHOUT FOR JOY, SHOUT, SHOUT FOR JO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THE LORD HAS GIVEN YOU THE VICTOR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 WEAPON FORMED AGAINST YOU SHALL PROSP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 KINGDOM RAISED AGAINST YOU SHALL STAN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THE LORD IS THE ROCK OF OUR SALV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WE HAVE OVERCOME BY THE BLOOD OF THE LAMB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1030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ゃうとよろこびしゃうとさけ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3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栄光の王にハレルヤ小羊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   栄光の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   小羊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むべき方   心こ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  小羊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eikoo no oo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kohitsuj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beki kata  kokoro kom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kohitsuji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えいこうのおうにはれるやこひつじ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3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栄光の王にハレルヤ小羊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to the king of gl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to the Lamb of G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worthy to be prai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ur hearts to Him we prai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to the Lamb of G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えいこうのおうにはれるやこひつじ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求める一つの事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もとめる  ひとつのこと　主の家に  住むこ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いのちの  つづくかぎり　主とともに   住む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主のうるわしさを  うるわしさを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 主の宮で  思いめぐら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もとめる  ひとつのこと　主の家に  住むこ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いのちの  つづくかぎり　主とともに   住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motomeru  hitotsu no koto shu no ie ni  sumukot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inochi no  tsuzuku kagiri shu to tomoni  sum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uruwasisa o  uruwasisa o mi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ya de  omoi megur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motomeru  hitotsu no koto shu no ie ni  sumu kot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inochi no  tsuzuku kagiri shu to tomoni  sum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もとめるひとつのこと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求める一つの事を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ONE THING HAVE I DESIRED OF THE LOR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WILL I SEEK AFTE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I MAY DWELL IN THE HOUSE OF THE LOR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 THE DAYS OF MY LIF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BEHOLD THE BEAUTY, THE BEAUTY OF THE LOR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INQUIRE IN HIS TEMPLE, THE TEMPLE OF THE LORD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もとめるひとつのこと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5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私のよき羊飼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イエス私のよき羊飼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イエス 私を 緑の牧場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休ませてくれ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水のほとりへ ともなわ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がたましい なぐさめ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愛と義の道へ わたし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御名により みちびく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イエス 私のよき羊飼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watasi no yoki hitsujika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watasi o  midori no makiba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asumasete ku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zu no hotori e  tomonaware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ga tamasii  nagusam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i to gi no michi e  watasi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na ni yori  michibik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watasi no yoki hitsujik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わたしのよきひつじか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小羊イエス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座に　おられる　小羊イエス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と　尊厳と  力よとわ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　偉大な　その御名　たたえ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を　おさめる　王なる　小羊　主イエ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 ni  orareru  kohitsuji ies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to  songen to  chikara yo towa 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 idai na  sono mina  tata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o  osameru  oo naru kohitsuji  shu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ざにおられるこひつじいえす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2 Em W 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岩にできるみつと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dare lo mejor del trig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la miel de la roca te d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rribare a tus adversar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s buscara y no los halla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cera en todos tus camin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iempre en el nombre de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いわにできるみつ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7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オーアドナ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アドナイ　オーアドナ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神　造り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では主への　賛美が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我らも　賛美し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adonai  oo ado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 no kami  tsukurinu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dewa shu eno  sanbi ga 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 warera mo sanbi si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ーあど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小羊イエス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O THE LAMB UPON THE THRO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 THE PRAISE FOR EVERM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 THE POWER, AND THE GL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 THE STRENGTH AND MAJES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ORSHIP THEE O LAMB OF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LIVING WORD. WE LIFT UP YOUR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ORSHIP THEE ANCIENT OF DA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GIVE YOU PRAI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 LAMB UPON THE THRON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ざにおられるこひつじいえす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小羊イエス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aquel que esta sobre el tro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al Verbo de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a gloria y honra poder y alaban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si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みざにおられるこひつじいえす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7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愛が今あなたをつつ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愛が  今   あなたを つつ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うたれた傷も   いやされ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愛が  今   あなたをつつ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なげき  悲しみ  にげさ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傷ついた主の  愛の手がうごき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上に  とどま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全能の主の   愛の手がつつみ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心を  いやされる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ai ga  ima  anata o tsutsum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utareta kizu mo  iyasa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ai ga  ima  anata o tsutsum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ageki kanashimi  nigesa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izutsuita shu no  ai no te ga ugok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 no ue ni  todoma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zennoo no shu no  ai no te ga tsutsum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 no kokoro o  iyasare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いがいまあなたをつつ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8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谷川の水の流れをしたい求める鹿のよう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谷川の　水の流れ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したいもとめる　鹿のよう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も　朝に夕に 主を　もとめ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みたしてください　もっと　あなたの愛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わき　もとめます　わが　主　イエ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nigawa no  mizu no nagare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tai motomeru  shika no yo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mo  asa ni yuu ni shu o  motom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mitashite kudasai motto  anata no a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waki  motomemasu waga  shu 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にがわのながれをしたうしかの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8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谷川の水の流れをしたい求める鹿のよう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omo el ciervo, busca por las agu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i clama mi alma, por Ti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ia y noche, yo tengo sed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solo a Ti buscare Llename, llename SeNo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me mas, mas de Tu amo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tengo sed, solo de Ti llename, SeN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たにがわのながれをしたうしかのよう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9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は　王である祭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は　王である祭司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国民　神の　所有の民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正義と　愛を　この世に　つたえるた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みから　光へと　われらは　すくわ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けべ　われら　主の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wa oudearu sai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kokuminn kamino shoyuuno tam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no segito aiwo konoyoni tsutaeru t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ikara hikarieto warerawa sukuwaret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kebe warera shuno tam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はおうであるさい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89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は　王である祭司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027"/>
          <p:cNvSpPr/>
          <p:nvPr/>
        </p:nvSpPr>
        <p:spPr>
          <a:xfrm>
            <a:off x="152280" y="68580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Somos pueblo, pueblo adquirido por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acion santa, real sacerdoci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naje escogido, por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mos pueblo, pueblo adquirido por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acion santa, real sacerdoci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naje escogido, por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anunciar las virtudes de Aquel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nos llamo de tinieblas a lu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anunciar las virtudes de Aquel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nos llamo de tinieblas a lu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dmirable, somos los hijos de luz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われらはおうであるさい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0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御言葉を伝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たたえ　みことばを　伝え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日が　その時　立ち上が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を　  賛美せよ　キリスト　 たたえ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　日本の民よ　イエスこそ　主なる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　叫ぼう　宣言せよ　リバイバル　この国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tatae mikotoba o tsutaey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you ga sonotoki tatiagar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o sanbi seyo kirisuto tataey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nihon no tami yo iesu koso shunaru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sakebou sengen seyo rivaivalu kono kuni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たたえみことばをつ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0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御言葉を伝えよ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oy es tiempo de comparti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el dia no hay que espe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y yo debemos hablar es tiempo de actu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Cristo debemos levant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Cristo debemos exalata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(Japon) todos tienen que sab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Jesucristo es Dios y El es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 vamos a predicar, lo vamos a proclam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JApon), vamos a cambia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みなをたたえみことばをつ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2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武具を身につけ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武具を身につけ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かいの主がよんでい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めしを受け　さあ　たちあが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は　主の御名にあり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　神の民　われら　集め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正義を　この世に　しめすた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地を　敵から　とりもどすた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bugu o mi ni tsuk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kai no shu ga yondei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eshi o uke  saa  tachiag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ri wa  shu no mina ni ar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 kami no tami  warera  atsume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gi o  konoyo ni  simesu tame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chi o  teki kara  torimodosu t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ぶぐをみにつけ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めよイエスの御名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   イエスの御名を　栄光あふれる力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  王なるイエスを　力が  流れる  御座より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  その愛  とこしえ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拝せん  あがめよう  聖なる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   イエスの御名を　十字架の  みわざを  たたえ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 iesu no minawo eikou afureru chikara 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ounaru iesu wo chikara ga nagareru miza yor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sono ai tokoshie n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isen agameyou seinaru sh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 iesu no mina wo jujika no miwaza wo tatae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めよいえすのみな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2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武具を身につけ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Dios esta llmando a la guer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s esta impulsando hacia afue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cudiremos al llamado del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maremos las armas que El nos preparo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y yo, somos un puebl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y yo, prepara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mostrar las grandezas del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tomar la tierra que El nos entrego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みのぶぐをみにつけ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3 A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カド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　聖なる　聖なる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なる　神　全能者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むかしいまし　つねにいまし　やがて　こられる　おかた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カードシュ　カードシュ　カードシュ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アドナイ　エロヒム　ツェバオーット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アシェエハア　ヤヴェホ　ベヴェヤボ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 seinaru  seinaru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aru  kami  zennoosha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ukasi imasi  tsuneni imasi yagate  korareru  oka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-doshu  ka-doshu  ka-doshu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donai  erohim  tsueba-to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heeha  yaveho  beveyabo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ど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4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の勝利  われらの勝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勝利  われらの勝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罪の鎖をくだく 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  わが主  全地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  わが主  全能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  わが主  全地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  わが主  全能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   たたえ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shoori  warera no sho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tsumi no kusari o kudaku 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 waga shu  zenchi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 waga shu  zennoo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 waga shu  zenchi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 waga shu  zennoo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 tataey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のしょうりわれらのしょう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4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の勝利  われらの勝利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ganado la vict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 victoria para mi al pecado has venci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ganado la batalla Tus por mi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Tu eres mi Dios en los ciel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Tu eres mi Dios en la tierra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eres mi Dios y te ala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いえすのしょうりわれらのしょう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5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セレブレイト　ジーザス　セレブレイト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った　主イエス　とわに　生きて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った　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祝おう　復活のイエスを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erebrate  jesus  cerebrate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gaetta  shu iesu towa ni  ikit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gaetta 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iwaoo  fukkatsu no iesu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れぶれいとじーざ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5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LEBRATE JESUS CELEBRATE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RISEN HE IS RISEN AND HE LIVES FOREVERM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RISEN HE IS RISEN COME ON AND CELEBR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RESURRECTION OF OUR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RISEN HE IS RISEN AND HE LIVES FOREVERM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RISEN HE IS RISEN COME ON AND CELEBR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 ON AND CELEBRATE COME ON AND CELEBR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RESURRECTION OF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れぶれいとじーざ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5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レブレイ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eleblad a Cristo Celebl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eleblad a Cristo Celebl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isto vive, Cristo viv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por siempre reinar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isto vive, Cristo vive,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gan a celeb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gan a celeb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gan a celeb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Jesucristo vive ho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せれぶれいとじーざ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全てに感謝しようわが主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に感謝しよう　わが主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と　喜びもっ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声高らかに　ほめうたおう　ハレルヤ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　主　ハレルヤ　オー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　主　ハレルヤ　オー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i kansha shiyou waga sh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mbi to yorokobi mot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e takarakani home utawo haleluy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mbi shu hareruya o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mbi shu hareruya o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el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べてにかんしゃしようわが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全てに感謝しようわが主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'gala puji syukur hanya bagi-mu tuh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bab kau yang layak di puj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Kami mau bersorak tinggikan nama-m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y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raklah Halleluya  Halleluy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べてにかんしゃしようわが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8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夜明けにあなた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夜明けに　あなたを　心から　さがしもとめ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と　力をみせてくだ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が助け　みつばさのかげで　喜ぼ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たましいは　主にす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右手が　私を　ささえる（主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ake ni  anata o kokoro kara  sagasi moto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to  chikara o mise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 waga tasuke mitsubasa no kage de  yorokob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sii wa  shu ni sug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gite ga  watasi o  sasaeru  (shu y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あけにあなた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めよイエスの御名を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MAJESTY, WORSHIP HIS MAJES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UNTO JESUS BE ALL GLORY, HONOR AND PRAIS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JESTY, KINGDOM AUTHO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LOWS FROM HIS THRONE, UNTO HIS OW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ANTHEM RAIS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EXALT, LIFT UP ON HIGH, THE NAME OF JES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Y, COME GLORIFY CHRIST JESUS THE KING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JESTY, WORSHIP HIS MAJES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WHO DIED, NOW GLORIF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KING OF ALL KINGS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めよいえすのみな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99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民がへりくだりへりくだり祈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027"/>
          <p:cNvSpPr/>
          <p:nvPr/>
        </p:nvSpPr>
        <p:spPr>
          <a:xfrm>
            <a:off x="152280" y="30492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028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みがへりくだりへりくだりいの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0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ともし火の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ともしびのために　油を　あたえたま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夜の明け行くまで主よ　もえつづけさせたま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主イエスに　ホザナとうた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主イエスに　ホザナとうた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omosibi no tame ni abura o ataetam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 no akeyuku made shu yo moetsuzuke sase tama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aru shu iesu ni  hosanna to u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aru shu iesu ni  hosanna to u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ともしびのため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1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川があふれ流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川が　あふれなが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を　つくりかえる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今　いのちの水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かわき　いやし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今　いのちの水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　みた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awa ga  afure nag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o  tsukuri kaer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ima  inochi no mizu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kawaki  iyas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ima  inochi no mizu d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 mita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かわがあふれなが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2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手をたたけすべての国々の民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手をたたけ　すべての国々の民よ　オー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さけべ　うたをうたえ　よろこびの　こえ　あ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ちからづよい主は　われらの　中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ある　主は　くにぐにを　とりかこ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 o tatake subete no kuniguni no tamiyo o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sakebe uta o utae yorokobi no koe ag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zuyoi shu wa warera no nak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aru shu wa kuniguni o torikako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をたたけすべてのくにぐにのたみ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栄光あれ主に栄光あ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栄光あれ   主に栄光あ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敵は   主に  やぶれさ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は    万軍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ちからづよい   王の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にまさるものは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  尊厳   力の    勝利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eikoo are  shu ni eikoo 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teki wa  shu ni  yabures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wa  bangun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zuyoi  oo no 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masaru mono wa 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 songen  chikara no  shoori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えいこうあれしゅにえいこうあ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栄光あれ主に栄光あれ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ificate Senyor Glorificate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que todos tus enemigos caigan ante Ti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ien es ese Rey  que se viste de poder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Jehova de los ejercitos Es varon de guer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uerte y valiente Es el poderoso venced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batall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ien es ese Rey que se viste de amor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Jesus el Cristo vino como siervo pe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uelve como Rey en caballo blanco 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pada y a juzg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にえいこうあれしゅにえいこうあ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心からあふれ流れる主への賛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　   心から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ふれ　ながれる　主への　賛美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の　泉が　今　あふ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ささげます　わが賛美を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 kokoro 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fure  nagareru shu eno  sanb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no izumi ga  ima  afu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sasagemasu  waga sanbi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こころからあふれながれるしゅへのさん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心からあふれ流れる主への賛美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y una fuente en m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esta brotan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esta influyendo dentro de m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un rio de alabanza y de adorac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irigido hacia Ti Senyor Jesus recib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わたしのこころからあふれながれるしゅへのさん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6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はこの地に火を投げ込む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027"/>
          <p:cNvSpPr/>
          <p:nvPr/>
        </p:nvSpPr>
        <p:spPr>
          <a:xfrm>
            <a:off x="152280" y="30492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028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このちにひをなげこむためにき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8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一つ声高らかに歌お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027"/>
          <p:cNvSpPr/>
          <p:nvPr/>
        </p:nvSpPr>
        <p:spPr>
          <a:xfrm>
            <a:off x="152280" y="22860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われらひとつ　声高らかに歌お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に栄光　ほまれささげるため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みなを　たかくかかげよ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喜びがここに今　みちあふれ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たたえよう　たたえよう　イエスを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がめよう　あがめよう　主なる神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栄光のみなを　宣言しよ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の愛　力　ほめうたお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たたえよう　あがめよう　王なるイエ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1028"/>
          <p:cNvSpPr/>
          <p:nvPr/>
        </p:nvSpPr>
        <p:spPr>
          <a:xfrm>
            <a:off x="119160" y="53352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rera hitotsu  koe takaraka ni utao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i eikoo  homare sasageru tame 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mina o  takaku kakage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rokobi ga koko ni ima  michiafu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taeyo  tataeyo  iesu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gameyo  agameyo  shu naru kam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eikoo no mina o  sengen siyo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no ai  chikara  home utao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taeyo  agameyo oo naru  i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ひとつこえたからかにうた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19  W "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お方と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,,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小羊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ざにおられる　お方と　みざにおられる　小羊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と誉れとわにあるように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力　とわにあるよう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わが神　わが王　わが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だから主を　ほめたたえる　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ni orareru okata to miza ni orareru kihitsuji 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mbi to homare towani aru youn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chikara towa ni aru you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wa wagakami wagaoo waga chi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kara shu wo home tataeru halel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ざにおられるおかたとみざにおられるこひつじ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09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私をもやして下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わたしを　もやし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　ささげます　全焼のいけにえと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　心　たまし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を　もやしてください　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watasi o  moyas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 sasagemasu  zenshoo no ikenie tos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 kokoro  tamasi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o  moyasite kudasai  sh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わたしをもやしてくださ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0 A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特 きよしこの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きよし　このよる　ほしは　ひか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のみこは　まぶねのな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ねむりたもう　    いとやす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yosi  kono yoru  hosi wa  hika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 no miko wa  mabune no nak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emuri tamoo  ito yasu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よしこの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0 A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特 きよしこの夜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LENT  NIGHT  HOLY  NIGH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  IS  CALM  ALL  IIS  BRIGH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OUND YON VIRGIN MOTH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 CHILD HOLY INFA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TENDER  AND MIL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LEEP  IN HEAVENLY PE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LEEP  IN HEAVENLY PE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よしこの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闇に光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らやみに光り  かがやきのぼ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きよい光   神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らやみを照らす  まことの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真理のみことば  神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  ここに  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  ここに  おら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yami ni hikari kagayaki nobo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kiyoi hikari kami no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yami o terasu makoto no hika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nri no mikotoba kami no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koko ni o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koko ni or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くらやみにひか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戦をふれ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027"/>
          <p:cNvSpPr/>
          <p:nvPr/>
        </p:nvSpPr>
        <p:spPr>
          <a:xfrm>
            <a:off x="152280" y="30492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   聖戦をふれよ  聖戦をふれよ　勇士たちよ  たて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すべての戦士を  あつめて　のぼらせ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すべての戦士を  のぼらせ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   すきをつるぎに  かまをやりに  打ち直せ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弱いものに私は勇士だと言わせ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弱いものに  勇士だと言わせ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sen o fureyo  seisen o fureyo yuusitachi yo  tate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subete no sensi o  atsumete noboras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subete no sensi o  noboras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i o tsurugi ni  kama o yari ni uchi naose 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 yowai nomo ni  watasi wa yuusi dato iwas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 yowai nomo ni  yuusi dato iwase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せんをふれ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方の御元にひれふ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座に  おられる方の　みもとに   ひれ伏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   唯一の君　ならぶものはな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   小羊イエスを　とわに  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さげよ  賛美の冠　その名は    勝利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 ni  orareru kata 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oto ni  hirefu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 yuitsu no kimi narabu mono wa n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yo  kohitsuji iesu o towa ni  o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sageyo  sanbi no kamuri sono na wa  shoori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ざにおられるかたのみもとにひれふ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座におられる方の御元にひれふし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 borde de tu gran tron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 postrare hoy a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reinas sobre principa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ntado al diestra de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xaltate oh gran corde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vives y vivir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ronate con mi alaban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nombre es el venced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みざにおられるかたのみもとにひれふ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5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霊の注ぎ世界の国々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1027"/>
          <p:cNvSpPr/>
          <p:nvPr/>
        </p:nvSpPr>
        <p:spPr>
          <a:xfrm>
            <a:off x="152280" y="17784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１    御霊のそそぎ  世界の人々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息子  娘も  預言をかた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夢と幻   ときあかされてゆく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来たるべき主を　天高く   ほめたたえ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＊ 大いなる目ざめの時  地にひろがるリバイバルが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 全てのもの  目ざめる  イエスを呼ぶものは救われ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２　　御霊のそそぎ 全ての国々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主の栄光に おそれかしこむ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全能の力  天も地もゆるがす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　われ待ち望む　主がふたたび来る日まで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28"/>
          <p:cNvSpPr/>
          <p:nvPr/>
        </p:nvSpPr>
        <p:spPr>
          <a:xfrm>
            <a:off x="119160" y="444600"/>
            <a:ext cx="879624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1  mitama no sosogi  sekai no hitobito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musuko musume mo  yogen o katar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yume to maborosi  tokiakasarete yuk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kitarubeki shu o ten takaku  hometataey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* ooinaru mezame no toki chi ni hirogaru rivaivalu g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 subete no mono  mezameru iesu o yobumono wa sukuwarer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2  mitama no sosogi  subete no kuniguni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shu no eikoo ni  osore kasikom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zenno no chikara  ten mo chi mo yurugas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ware machinozomu shu ga futatabi kuru hi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たまのそそぎせかいのくにぐ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6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どんな時も主のそばで御手の中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3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どんなときも　主のそばで　みての中を　歩みた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つのときも　主とともに　歩み　つづけた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を　砕いて　主の　愛で　みた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々の民に　伝えたい　あなたのあい　そして救い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onnna toki mo syu no soba de mite no naka wo ayumit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uno toki mo syu to tomoni ayumi tuzuket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o kudaite syu no ai de mitas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guni no tami ni tutaetai anata no ai sosite suk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どんなときもしゅのそば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7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キリスト 王 勝利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キリスト   王   勝利者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 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ます  聖なる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キリスト   王なる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risuto  oo  shoorish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ga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mas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risuto  oo naru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りすとおうしょうりし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2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きよくうるわし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きよく　うるわしい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金より　とおと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　ほめたたえよう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たたえよう　主よ　わが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kiyoku  uruwashi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kin yori  tooto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wo  hometataey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tataeyou  shu yo  waga kam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きよくうるわ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8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 すべての名にまさる主の御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　すべての名にまさる　主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主　あがない主　いのちの水　救い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愛します　いつまで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だけを　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の主イエス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subete no na ni masaru  shu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shu  aganai nusi inochi no mizu  sukuinus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isimasu  itsumade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dake o  aga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no shu ies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すべてのなにまさるしゅのみ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19 A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勝利万軍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1027"/>
          <p:cNvSpPr/>
          <p:nvPr/>
        </p:nvSpPr>
        <p:spPr>
          <a:xfrm>
            <a:off x="152280" y="304920"/>
            <a:ext cx="8869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イエス　勝利　万軍の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カウンセラー　平安　来たる王　とわの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主をほめよ　主をほめ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全地の上で　万物はあがめ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</a:rPr>
              <a:t>ほめよ　主をほめよ　とわに　主をほめ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1028"/>
          <p:cNvSpPr/>
          <p:nvPr/>
        </p:nvSpPr>
        <p:spPr>
          <a:xfrm>
            <a:off x="119160" y="762120"/>
            <a:ext cx="902484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iesu shoori bamgun no s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kauseraa hei an kitaru oo towa no k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shu o homeyo shu homey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zen chin no uede bambutsu wa shu o ag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ＭＳ Ｐゴシック"/>
              </a:rPr>
              <a:t>homeyo shu o homeyo towa o homey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しょうりばんぐん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0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方に感謝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大いなる方に　感謝ささげ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子キリストの愛のゆえ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聖なる方に　感謝ささげ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子キリストの愛のゆえ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今　弱い者よ　さけべ　勇士だ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勝利の主が　ともにおられ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今　貧しい者よ　さけべ　富んでいる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恵みの主が　ともにおられる　感謝　します　　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oinaru kata ni  kansha sasag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ko  kirisuto no  ai no yue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ei naru kata ni  kansha sasag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ko kirisuto no ai no yue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ma  yowai mono yo  sakebe  yuusi da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oori no shu ga  tomoni  ora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ma  mazusii mono yo  sakebe  tonde iru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egumi no shu ga  tomoni orareru kansha  simas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かたにかんしゃ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0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方に感謝ささげ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ive thanks with a grateful hea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ive thanks to the Holy o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ive thanks because He's given Jesus Christ His S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now let the weak say I am stro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the poor say I am ri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cause of what the Lord has done for 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かたにかんしゃ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1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時はめぐ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時はめぐり　風はめぐ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地を　みたす　主の栄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こそ　その時　のべつたえよう　主の　みわざ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花はしぼみ　草は　かれて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　みことば　とこし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i wa meguri  kaze wa meg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chi o  mitasu  shu no eik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* ima koso  sono toki  nobetsutaeyoo shu no  miwaza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na wa sibomi  kusa wa  karete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 mikotoba wa  tokosie n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ときはめぐ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1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時はめぐ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iempo de vivir, tiempo de mori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empo de llorar, tiempo de rei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empo de animar y redarguir, hoy es tiemp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empo de aprender, tiempo de enseNa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empo de hablar, tiempo de calla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empo de sembrar y de cosechar, hoy es tiemp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y es tiempo que seamo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e pueblo glorioso, fiel y victorioso de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y es tiempo que seamo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e pueblo glorioso, fiel y victorioso de Dio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ときはめぐ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2 G W JesusX4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王の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  聖なる　王の王　ＪＥＳＵＳ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  よみがえられた主よ　ＪＥＳＵＳ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まくかおる　主の御名　心うるおす　みたま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みを照らす　みことば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I love you I lov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( *4)   seinaru oo no oo jesu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( *4)   yomi gae rareta shu yo jesu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maku kao ru shu no mina kokoro uruosu mitama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io terasu mikotoba jesus i love you  i lov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じーざすじーざすじーざすせいな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2 G W JesusX4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王の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JESUS,JESUS,HOLY AND ANOINTED ONE,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JESUS,RISEN AND EXALTED ONE,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NAME IS LIKE HONEY ON MY RIP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SPIRIT LIKE WATER TO MY SO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WORD IS A LAMP UNTO MY FE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I LOVE YOU,I LOVE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じーざすじーざすじーざすせいな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注ぎたまえ主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そぎたまえ　主よ　恵みとあわれみを   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天が開くため　祈る　聖霊のみわざ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御霊よ　ふれたま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わが心に　主の教会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雨を　ふらせ　リバイバル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きたらせたまえ　この地のうえ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受ける価値なきわれら　みまえに　すすみ　祈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ああ　栄光の　みわざ　見させたま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sogi tamae  shu yo  megumi to awaremi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n ga hiraku tame inoru  seirei no miwaza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*  shu no mitama yo  furetama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 waga kokoro ni  shu no kyookai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 ame o furase  revival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 kitarase tamae  konochi no ue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ukeru kachinaki warera mimae ni  susumi  ino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a  eikoo no  miwaza  misase tama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そぎたまえ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注ぎたまえ主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Lord we need Your grace and merc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need to pray like never bef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need the power of Your holy spiri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open heavens door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irit touch Your church stir the hearts of m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vive us Lord with Your passion once ag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ant to care for others like Jesus cares for 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Your rain fall upon 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Your rain fall upon m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Lord we humbly come before You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don't deserve of You what we 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ut we yearn to see Your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store this dying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そぎたまえ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3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わに変わらぬ主のあわれ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変わらぬ　主のあわれみ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命よりも  とおとい愛　とわに変わらぬ　主のあわれみ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海より広く　天より高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変わらぬ　主のあわれ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kawaranu  shu no awarem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chi yorimo  tootoi ai towani kawaranu  shu no awarem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mi yori hiroku  ten yori tak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kawaranu  shu no awar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とわにかわらぬしゅのあわれ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をほめ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を　ほめたたえよう　主の御名を　あがめ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　そのみことば　この心の　かわきをいや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何とうるわしい　主の愛は　何と美し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を導く　この光は　主からのもの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する父よ　受けとめて　この賛美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o home tatae yoo shu no mana o agame 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sono mikotoba kono kokoro no kawaki o iy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reruya nanto uruwashi i shu no ai wa nanto utsukushi 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o michimiku kono hikari wa shu  karano mon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 suru chi chi yo uketomete kono s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をほめたたえようしゅのみなをあがめ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5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とともに歩むこの一日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とともに　　歩むこの一日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から　はなれてた　千日にもまさ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は　ただあなたを知りたくて　御前に　すすみで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ような　神がほかに いるだろう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御名ただひとつを 高くあげ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to tomo ni ayumu kono ichinichi w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kara hanareteta senn nichi  nimo masaru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wa tada anata o shiritakute mimae ni susumid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yoona kami ga hoka ni irudarook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mina tada hitotsuo takaku agey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とともにあゆむこのいちにち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6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歌えシオンの娘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歌え  シオンの娘よ  叫べよイスラエル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から  喜べ  エルサレム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1 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はあなたの敵を   追い払われた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 イスラエルの王主があなたとともにいる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2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の日に主は言われる恐れるなシオン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あなたの神主はともにおられる力強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３  主は救いの勇士  その愛に安らぎ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高らかに歌ってあなたのことを喜ばれ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028"/>
          <p:cNvSpPr/>
          <p:nvPr/>
        </p:nvSpPr>
        <p:spPr>
          <a:xfrm>
            <a:off x="119160" y="635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utae  sion no musume yo  sakebe yo isuraeru 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kara  yorokobe  erusaremu 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1  shu wa anata no teki o  oiharawaret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isuraeru no oo shu ga anata to tomoni i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2  sono hi ni shu wa iwareru  osoreruna sion 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anata no kami shu wa tomoni orareru chikara zuyo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3  shu wa sukui no yuusi  sono ai ni yasurag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   takaraka ni utatte anata no koto o yorokobare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たえしおんのむす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6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歌えシオンの娘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Roni, Roni Bart Sion jariu Ysra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mjiveal si vejol lev Bart yerushalai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anta, Canta oh hija de S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gocijate Israel canta y danz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todo el corazon hija de Jerusal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ues Hashem quito tu castig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enemigo huya Rey de Israel, Adona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medio de Ti, poderoso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Senyor tu Dios en medio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deroso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se gozara cantntara por Ti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allara de amor, y te salv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うたえしおんのむすめ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7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はいのち  ハレル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はいのち  ハレル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れを愛す  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a inochi  halleluja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re o aisu 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はいのちはれる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8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来れ主を賛美せ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きたれ  主を賛美し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きたれ  主をあがめ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さあ  喜びおどろう  主の愛にみたさ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喜びもって  主の前でおどろ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賛美もって  主の前でうたお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ホザナ  ホザナ  ホザナたたえ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は主 イエスは主 栄光主にあ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は主 イエスは主 栄光主にあ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1028"/>
          <p:cNvSpPr/>
          <p:nvPr/>
        </p:nvSpPr>
        <p:spPr>
          <a:xfrm>
            <a:off x="119160" y="635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itare  shu o sanbi si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itare  shu o agame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a  yorokobi odoroo  shu no ai ni mitas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orokobi motte  shu  no mae de odoro  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nbi motte  shu no mae de uta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osanna  hosanna  hosanna tatae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wa shu  iesu wa shu  eikoo shu ni 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wa shu  iesu wa shu  eikoo shu ni 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たれしゅをさんびし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8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来れ主を賛美せ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imos trayendo alaban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imos trayendo ador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tamos en sus atrios muy content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nzando con gran gozo para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jubilo nos gozaremos en e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a (*3) a nuestro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hova es nuestro Rey(*2) Gloria y alabanza para 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hova es nuestro Rey(*2) Gloria y alabanza para 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きたれしゅをさんびし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9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心から主をたたえ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027"/>
          <p:cNvSpPr/>
          <p:nvPr/>
        </p:nvSpPr>
        <p:spPr>
          <a:xfrm>
            <a:off x="152280" y="206280"/>
            <a:ext cx="886932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心から主をたたえます 主よあなたを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義なる聖徒のただ中で主をたたえよ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栄光のみわざゆえ偉大な力ゆ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全ての主のみわざ  真実と信頼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聖であり恐るべき  その名は主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栄光と尊厳  真実と力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偉大なる主の名に　とこしえに  ハレルヤ  アーメン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全能の ほむべき方  大いなる神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御国と力と栄えは  とこしえま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028"/>
          <p:cNvSpPr/>
          <p:nvPr/>
        </p:nvSpPr>
        <p:spPr>
          <a:xfrm>
            <a:off x="119160" y="457200"/>
            <a:ext cx="879624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koro kara shu o tataemasu  shu yo anata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gi naru seito no tadanaka de shu o tataeyo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eikoo no miwaza yue idai no chikara yu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ubete no shu no miwaza  sinjitsu to sinra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ei de ari osorubeki  sono na wa sh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eikoo to songen  shinjitsu to chikar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dai naru  shu no na ni tokosie ni  hallelujah  am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zennoo no homubeki kata  ooinaru kam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kuni to chikara to sakae wa  tokosi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ころからしゅをたたえ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9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心から主をたたえ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labare con el corazon en la congreg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compania de los rectos te alabare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gloria y hermosu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n Tus obras y maravil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s obras de tus man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n verdad y juici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anto y temible es Tu 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こころからしゅをたたえ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0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ールハレハレルハレルー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ハレル  オー ハレハレルー ハレル  ハレルヤー （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１  主の雨  ふらせてください　主の愛で  心あらっ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新しく   つくりかえて　主の器に  してください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２   強めてください　主への賛美でみたし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 主イエスの勝利により　主の道をあゆみたい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３   主の御名  高くあげよ　目を上げて見よ  イエス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   全ての主なる神よ  聖なるかた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allelu  oo  halle hallelu hallelu  hallelujah 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ame  furasete kudasai shu no ai de  kokoro arat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tarasiku  tsukuri kaete shu no utsuwa ni  sitekudasai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suyomete kudasai shu eno sanbi de mitasi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no shoori ni yori shu no michi o ayumitai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na  takaku ageyo me o agete miyo  iesu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bete no shu naru kami yo seinaru k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おーはれはれる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3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わに変わらぬ主のあわれみ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Porque para siempre Dios Tu misericordia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para siempre Dios Tu misericordia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jor que la vida es, mi alma lo sabe bi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para siempre Dios Tu misericordia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s vasta que el ancho ma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s alta que el cielo est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para siempre Dios Tu misericordia 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とわにかわらぬしゅのあわれ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1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向かい手を上げ主の御名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向かい手を上げ  主の御名たたえよう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歌え おどれ 力のかぎり 主の御前で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    わが神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たたえ  主の力を知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にふれて 喜び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叫べ   歌え    主の前で （ヘイ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mukai te o age  shu no mina tataeyo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e  odore  chikara no kagiri  shu no mimae de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waga kam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tatae  shu no chikara o si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ni furete  yorokobi 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kebe  utae  shu no mae de  (h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むかいてをあげしゅのみな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1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向かい手を上げ主の御名たたえよ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id y alegraos tambien goza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lante de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gan y alegrense vengan y gosen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gan y alegrense en e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aos(*3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aosiglesia mia levantaosesposa m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aos amada mia levantaospaloma m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aos y alegraos siempre en el Sen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にむかいてをあげしゅのみな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2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あわれみ変わら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  主のあわれみ   かわらない　とこしえま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朝ごとにイエスを  待ち望みます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信頼します   わが主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  主のかわらぬ   義の道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喜びもって  あるいてゆき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あなたのまことで  みちびいてください  わが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waremi  kawaranai tokoshie mad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agotoni iesu o machinozomima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nrai shimasu  waga shu 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kawaranu gino michi 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motte aruite yukima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o makoto de michibiite kudasai  wag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われみかわら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3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スラエルの神の栄光現れ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スラエルの神の 栄光あらわ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音は おおみずの とどろきの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 かがやきでる　主の栄光  みちみち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こは  主の玉座  主の足のふむとこ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こは  主の玉座  永遠のすま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srael no kami no eikoo araw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ne wa oomizu no todorokino 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kagayaki deru shuno eikoo michi 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 wa shu no gyokuza shu no ashi no fumu tokor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 wa shu no gyokuza eien no suma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すらえるのかみのえいこうあらわれ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4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の神イエス イエスキリス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の神イエス　イエス・キリス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らの王イエス　イエス・キリスト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暗闇の王国　悪魔の支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御名により　うちやぶ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御国　主イエスの支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御名により　とこしえ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urino kami iesu iesu kirisut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no ou iesu iesu kirisut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yamino ookoku akumano shih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no minaniyori uchiyabu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no mikuni iesuno shih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no minaniyori tokoshiemade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ょうりのかみいえすいえすきりす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愛する君　イエス永久に離れ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　愛する君　イエス　とわに　はなれ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　大きな御手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どろ沼から　われをすくわれた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　愛します　何があっても　あなただけ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友　救い主　いのちあるかぎり　礼拝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aisuru kimi iesu towa ni hanare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ookina mited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oronuma kara ware o sukuware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aishimasu mani ga attemo anatadake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tomo sukui nushi inochi arukagiri reihai shimas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あいするきみいえすとわにはなれ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愛する君　イエス永久に離れな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JESUS, LOVER OF MY SOU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 I WILL NEVER LET YOU G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VE TAKEN ME FROM THE MIRY CLA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VE SET MY FEET UPON THE ROC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NOW I KN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LOVE YOU, I NEED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OUGH MY WORLD MAY FA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'LL NEVER LET YOU G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Y SAVIOR, MY CLOSEST FRI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WORSHIP YOU UNTIL THE VERY EN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あいするきみいえすとわにはなれ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6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 主をほめよ死をうちやぶ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    主をほめ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死を打ち破り  よみがえ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おられる  主はいきてる　今ここ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アルファでオメガ  全能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ののろいは   打ち砕か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小羊   主は生きてる  今ここ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（ハレルヤ  主に歌お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28"/>
          <p:cNvSpPr/>
          <p:nvPr/>
        </p:nvSpPr>
        <p:spPr>
          <a:xfrm>
            <a:off x="119160" y="635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 o uchiyaburi yomigae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orareru shu wa ikiteru ima koko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arufa de omega zennou 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 no noroi wa uchikudak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ohitsuji shu wa ikiteru ima kok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(hallelujha shu ni utao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しゅをほめよしをうちやぶ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6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 主をほめよ死をうちやぶ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ALLELUJAH JESUS IS ALIV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ATH HAS LOST ITS VICT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THE GRAVE HAS BEEN DEN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LIVES FOREVE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ALIVE, HE'S AL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THE ALPHA AND OMEG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FIRST AND LAST IS 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CURSE OF SIN IS BROK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E HAVE PERFECT LIBER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LAMB OF GOD HAS RISE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ALIVE, HE'S ALL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, JESUS IS ALIVE!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しゅをほめよしをうちやぶ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8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唯一の神  造り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唯一の神  造り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名にまさる主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の神  主の臨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敵 恐れ退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  力ある御名　恐るべき  主の御名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恐るべき  主の御名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uitsu no maki  tsukurimu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na ni masaru  shu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oo no kami  shu no rinz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teki  osore sirizok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chikara aru mina osorubeki  shu no min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sorubeki  shu no 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ゆいいつのかみつくり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がめます全能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　全能の主　あなただけ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主　あなたを　慕い求める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から　ほめ歌ささ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　全能の主　あなただけ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zen noo no shu anata dake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shu anatao shitai moto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kara homeuta sasa 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zen noo no shu anata dake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がめますぜんのう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39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は敵を押し返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敵を　押しかえし　敵を踏みつけ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御名に　勝利あり 　神によって　ほこ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勝利を　勝ち取られ　すべおさめ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に満ちた　王なる主イエス　 御名をほめたたえ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teiki o oshi kaeshi teki o fumi tsuk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minani shoori ari kami ni yotte hoko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shoori o kachi torare sube osame 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ni michita oo naru shu iesu mina o home tatae y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はてきをおしかえ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0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子なるイエ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子なるイエス われらのもと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られ 十字架へ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れゆえ 主の御名 高くあげ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キリストは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う 主イエスの御名　あがめよう  キリストは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よう 主イエスの御名　あがめよう  キリストは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o naru iesu  warera no mon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rare  juujika et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eyue  shu no mina  takaku age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wa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yoo  shu iesu no mina agameyoo  kirisuto wa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yoo  shu iesu no mina agameyoo  kirisuto wa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こなるいえ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の主をほめ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の主をほめ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と地を 造られた主 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あわれみ とこしえまで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no shu o homey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to chi o  tsukurareta shu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waremi  tokosie made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(shu ies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のしゅ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2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小羊に栄えあ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1027"/>
          <p:cNvSpPr/>
          <p:nvPr/>
        </p:nvSpPr>
        <p:spPr>
          <a:xfrm>
            <a:off x="152280" y="304920"/>
            <a:ext cx="8869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小羊に 栄えあれ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ます  主の御名 とこしえまで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1028"/>
          <p:cNvSpPr/>
          <p:nvPr/>
        </p:nvSpPr>
        <p:spPr>
          <a:xfrm>
            <a:off x="119160" y="635040"/>
            <a:ext cx="879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kohitsuji ni  sakae are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masu  shu no mina  tokosie made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（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こひつじにさかえあ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神主はわが力わが救い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神　主はわが力　わが救い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神　力あるみうで　わが救い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の限り　叫べ 喜ぼ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神　わが力　主 わが神　とこしえまで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ru kami shu wa waga chikara waga sukui nu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 no kami chikara aru miude wagasukui nush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no kagiri sakebe yorokob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ru kami waga chikara shu waga kami tokosiemad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だいなるかみしゅはわがちからわがすくい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神主はわが力わが救い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mi canto y fortaleza es el Senyor Dios poderos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l es mi salv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u diestra es sublime y poderosa Dios eter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es mi salvac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zare mi voz con jubilo, con los justo me alegr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taleza y refugio Dios altisim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eres mi Dios siempre te exalta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いだいなるかみしゅはわがちからわがすくいぬ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4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王の王わが主イエス永遠の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  わが主イエス　永遠の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座の前  たたえよう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  とこしえに   喜ぼ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の賛美たずさえ　ほめたたえよう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みたされ 踊ろう　主を  喜ぼ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o oo  waga shu iesu eien  no i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za no mae  tata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 tokosie ni yorokob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no sanbi tazusae hometata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ni mitasare  odoroo shu o  yoroko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うおおうわがしゅいえすえいえんのい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輝く日をあおぐと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輝く日を仰ぐ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月星ながむると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かづち鳴りわたると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ことのみ神をおも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たまいざたたえよ 大いなるみ神を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gayaku hi wo aogu tok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kihoshi nagamuru to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azuchi nariwataru tok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kotono mikami wo om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 iza tataeyo ooinaru mikami wo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がやくひをあおぐ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平安安らぎあなたの臨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安やすらぎ あなたの臨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愛は　恐れを　けしさ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臨在　主の御手の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主の栄光　わたしをつくりかえ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an  yasuragi anata no rinz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aiwa osoreo keshisa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rin zai shu no mite no chi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 naru shu no eikoo watashi o tsukuri kaer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へいあんやすらぎあなたのりんざ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平安安らぎあなたの臨在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HERE IS A PEACE, THERE IS A R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SETTLES HERE, IN YOUR PRES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YOUR FACE IS VERY NEA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LOVE ERASES EVERY FE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T'S THE POWER OF YOUR PRES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T'S THE STRENGTH OF YOUR HAND IN M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T'S THE GLORY OF YOUR GREATN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HAS THE POWER TO CHANGE MY LIF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へいあんやすらぎあなたのりんざ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愛しますイエスあがめ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  　愛します 　イエス　 あがめ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偉大な　全能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君なる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aishimasu iesu aishi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idaina zen noo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 wa no kimi naru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あいしますいえすあが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道をそれ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1027"/>
          <p:cNvSpPr/>
          <p:nvPr/>
        </p:nvSpPr>
        <p:spPr>
          <a:xfrm>
            <a:off x="152280" y="152280"/>
            <a:ext cx="8869320" cy="90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よ　あなたの道をそれず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このままずっと　まっすぐ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みちびいて　あなたのいる天までと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歩きつづけてゆく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暗いこの世では　あなただけがひかり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どこまでも行く　主イエスとならば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こわいものなど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これからずっと　あなたの    みすがた求め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とこしえまで　賛美する　全知　  全能の主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1028"/>
          <p:cNvSpPr/>
          <p:nvPr/>
        </p:nvSpPr>
        <p:spPr>
          <a:xfrm>
            <a:off x="119160" y="45720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yo  anata no michi o sorezu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nomama zutto massug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chibiite  anata no iru ten made t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ruki tsuzukete yuk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rai kono yo dewa  anata dake ga hikar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dokomade mo yuku  shu iesu tonarab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wai mono nado na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rekara zutto  anata no  misugata moto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kosie made  sanbi suru     zenchi zennoo no shu 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みちをそれ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がなされた御わざを見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なされた　みわざを見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いやし　主はふれ　救いをなされた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名をほめよ　変わらない主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よ　主のみわざを見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ga nasareta  miwaza o mi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iyasi  shu wa fure  sukui o nasare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 o homeyo  kawaranai shu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yo  shu no miwaza o mi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がなされたみざわをみ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がなされた御わざを見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OK WHAT THE LORD HAS DONE X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EALED MY BOD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TOUCHED MY MI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SAVED ME JUST IN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 I'M GONNA PRAISE HIS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ACH DAY HE'S JUST THE S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 ON AND PRAISE HI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OK WHAT THE LORD HA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がなされたみざわをみ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49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から離れて何をすることも出来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027"/>
          <p:cNvSpPr/>
          <p:nvPr/>
        </p:nvSpPr>
        <p:spPr>
          <a:xfrm>
            <a:off x="152280" y="30492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028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からはなれてなにもすることもでき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1 D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エルサレムの平和をわれは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エルサレムの平和をわれは祈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おまえを愛する人々に栄えあれ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おまえの城壁のうちに平和あれ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おまえの宮殿のうちに栄えあれ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わたしの兄弟  友のためにわれは言おう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おまえの城壁のうちに平和あれ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私の神 主の家のため  われは求む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エルサレムの平和と栄え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1028"/>
          <p:cNvSpPr/>
          <p:nvPr/>
        </p:nvSpPr>
        <p:spPr>
          <a:xfrm>
            <a:off x="119160" y="60948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erusalem no heiwa o ware wa ino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omae o aisuru hitobito ni sakae ar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omae no jooheki no uchi ni heiwa ar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omae no kyuuden no uchi ni sakae ar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tasi no kyoodai  tomo no tameni ware wa ioo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omae no jooheki no uchi ni heiwa ar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tasi no kami  shu no ie no tame ware wa motom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erusalem no heiwa to sakae 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るされむのへいわはわれはいの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エルサレ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X2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ｼｬﾙｰｼｬﾛﾝｴﾙｼｬﾗｲ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ルサレムエルサレムの平和のために祈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ルサレムエルサレムの平和のために祈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まえを愛する人々が 栄えるよう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ンエルシャライ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ンエルシャライ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ンエルシャライ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ンエルシャライ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rusamu erusamu no hei wa no tameni in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rusaremu erusaremu heiwa no tameni in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mae o aisuru hitobito ga sakaeru yoo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yelushalai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yelushalai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yelushalai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yelushalaim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るされむえるされむのへいわのためにいの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3 B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見よ私は多くの漁師を送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027"/>
          <p:cNvSpPr/>
          <p:nvPr/>
        </p:nvSpPr>
        <p:spPr>
          <a:xfrm>
            <a:off x="152280" y="304920"/>
            <a:ext cx="8869320" cy="9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見よ私は多くの漁師を送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民を集める主の御つげ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れゆえ見よその日が来る  その日にはもは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ジプトから上らせた主は  生きているとは言わ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peat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だイスラエルの民を北の国や地方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上らせた主は生きているというよう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cccc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yo watashi wa ooku no ryoushi o ok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waga tami o atsumeru shu no mitsu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cc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eyue miyo sono hi ga kuru sono hi niwa mohay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jiputo kara noboraseta shu wa ikite iru towa iwa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*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da isuraeru no tami o kita no kuni ya chihou 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oboraseta shu ha ikiteiru to iuyou ni n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よわたしはおおくのりょうしをおく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4 B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遠くから私にあらわ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遠くから私に現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の愛をもって私を愛した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とめイスラエルよ再び立て直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とめイスラエルよ帰れ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再びあなたはタンバリンで身を飾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踊りの輪に出て行こう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tooku kara watashi ni araw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 no ai o motte watashi o aishi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tome isuraeru yo futatabi tatenaos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tome isuraeru yo kaer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futatabi anata wa tanbarin de mi o kaza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odori no wa ni deteik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とおくからわたしにあらわ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5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愛にふれるた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愛に ふれるたび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みわざを 見るたび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ときめき あなたを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をつくして たたえます 主よ （あなた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にひれ伏し 御名をあが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身の全てをささげます 主よ（あなた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aini fureru tab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wazao miru tab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tokimeki anata o om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o tsukushite tataemasu shu yo ( anata o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ni hirefu shi mina o ag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mino subete o sasagemasu shu yo (anata ni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あいにふれるた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6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心を注いで主にほめ歌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027"/>
          <p:cNvSpPr/>
          <p:nvPr/>
        </p:nvSpPr>
        <p:spPr>
          <a:xfrm>
            <a:off x="152280" y="206280"/>
            <a:ext cx="886932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心をそそいで 主にほめうた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はげしいいなづま 大水のよう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キリスト全能の神 わが主 （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全地をゆるがす 賛美のとどろき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叫べハレルヤ 主のみまえ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ハレルヤ ハレルヤ 全ての民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ハレルヤ ハレルヤ 声あげ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ハレルヤ ハレルヤ 闇を砕け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ハレルヤ ハレルヤ 主に栄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028"/>
          <p:cNvSpPr/>
          <p:nvPr/>
        </p:nvSpPr>
        <p:spPr>
          <a:xfrm>
            <a:off x="119160" y="533520"/>
            <a:ext cx="879624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koro o sosoide  shu ni homeuta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gesii inazuma  oomizu no yoo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irisuto zennoo no kami  waga shu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zenchi o yurugasu  sanbi no todorok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ebe  hallelujah  shu no mimae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llelujah  hallelujah  subete no tami 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llelujah  hallelujah  koe o age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llelujah  hallelujah  yami o kudak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llelujah  hallelujah  shu ni eik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ころをそそいでしゅにほめ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2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を愛してくれる  友が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 私を愛してくれる  友がい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私を愛してくれる  友は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やさしい愛で  つつんでくれる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私を愛する  友はイエス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  あなた    ３ われ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1 watasi o aisite kureru  tomo ga i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watasi o aisite kureru  tomo wa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yasasii ai de  tsutsunde kureru 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watasi o aisuru  tomo wa ie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2  anat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3  wa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をあいしてくれるともがい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6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心を注いで主にほめ歌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027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Derramando nuestros corazon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lante del tro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antemos como estruen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grandes agu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/Porque el Senyor Todopoderoso reina/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la tierra se estremezc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un rio de alaban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antando aleluya, postrados ante el tro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/Porque el Senyor Todopoderoso reina/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, Aleluya, pequenyos y gran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, Aleluya, levanten su vo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, Aleluya, destruyan tinieb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, Aleluya, den gloria a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/Porque el Senyor Todopoderoso rein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こころをそそいでしゅにほめうた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だけが私の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だけが　わたし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にみちた　うるわしいおかた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　イエス　うるわしい 主イエ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dakega watashi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ni michita uruwashi i okata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 iesu uruwashii shu ies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だけがわたしの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だけが私の神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LORD THERE IS NONE LIKE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THERE IS NONE LIKE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RE PRECIOUS AND YOU'RE GLORIO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 BEAUTIFUL AND MARVELO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, LORD, MY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WEET PRECIOUS LORD, OH, OH, O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だけがわたしの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だけが私の神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hay nadie como t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hay nadie como t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recioso y glorios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an bell y tan herm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あなただけがわたしのか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8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お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にみちたお方　賛美にふさわしい主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手をあげて主をあがめ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　神の小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大いなる御名たたえよう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神　   大いなる主　イエス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ni michita okata sanbini fusawashii sh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oagete shu o agame y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kamino komitsuj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ooinaru tatae y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 no kami ooinaru shu iesu 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にみちたお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8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お方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//Al que es digno de recibir la gl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 que es digno de recibir el honor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emos nuestras manos y adorem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Jesus, Cordero de gl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xaltemos Su incomparable majes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 que vive por siemp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 gran Yo Soy A Jesu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えいこうにみちたおか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5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教会が声上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教会が　声あげ　主を賛美すると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から　力はなた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　子供たちが　みことばつげると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こに　主の臨在くだ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よ　力づよい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光をてらし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yookai ga koe age  shu o sanbi suru to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kara  chikara hanat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no  kodomo tachi ga  mikotoba tsugeru to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ko ni  shu no rinzai kuda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 naru shu yo  chikara zuyoi i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ikari o terasite 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ょうかいがこえあ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川のようにわが内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川のように　わが内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川のように　ながれてゆ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イエス　信頼します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のちの水が　川のように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ふれ　なが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こそ　聖霊が　そそがれ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wa no yooni  waga uch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wa no yooni  nagareteyu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aru iesu  sinrai simas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chi no mizu ga  kawa no yoon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fure  nag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koso  seirei ga  sosogarer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わのようにわがうち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川のようにわが内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//Como corren rios por todo mi ser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Es que yo confio en Cristo mi Rey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Como rios de agua viva que salta p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ﾕ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rib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llevo dentro confirma, confirm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este momen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piritu Santo en derramamiento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Como corren rios por todo mi ser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Es que yo confio en Cristo mi Rey//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わのようにわがうち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2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かかげよ主の敵はちりうせ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みなかかげよう　主の敵は　ちりうせよ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暗闇の王国に 賛美をもって　せめのぼれ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山に登り　さけべ国々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暗闇の王国は　くずれおちる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ずれおちる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 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ずれおちた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no mina kakageyoo syuno tekiha tiriusey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yamino ookokuni sannbio motte semenobore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yamani nobori sakebe kunigun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yamino ookokuwa kuzureotir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zureotiru   ( kuzureotiru  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かかげよしゅのてきはちりうせ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全能のほむべき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　全能のほむべき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みわざ　告げよう　今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・キリストは王　イエス・キリストは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御前に　ひれ伏そう　イエス・キリストは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zennouno homubeki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miwaza tsugeyou im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wa oo iesu kirisuto wa 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o mimaeni hirefusou iesu kirisuto wa 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ぜんのうのほむべき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0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エホバエレそなえ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ホバ・エレ　備え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恵みはあふる　わが身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ホバ・エレ　備え主　主の恵みはあふ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必要は満たされ　主の栄光の富も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使いたちをおくって　エホバ・エレ　まもりたも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身を　エホバ・エレ　備え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hoba ere  sonae nush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egumi wa afuru  wagam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hoba ere  sonae nushi shu no megumi wa afu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hitsuyoo wa mitasare shu no eikoo no tomi mo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sukai tachi o okutte ehoba ere  mamori tam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mi o ehoba ere  sonae nu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ほばえれそなえ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造り主の父よその計画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1027"/>
          <p:cNvSpPr/>
          <p:nvPr/>
        </p:nvSpPr>
        <p:spPr>
          <a:xfrm>
            <a:off x="152280" y="387360"/>
            <a:ext cx="8869320" cy="11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造り主の父よ　その計画を  選びの　民を　おこし　知らせたまえ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全地はあなたの　力　待ち望む　油注ぎ　たまえ　今この国に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ながれよ栄光　この地から　世界に　あふれよ　主の香り　われらの中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支配者なる　主よ　その約束を　ときはなち　教会に　勝利を与え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私達を　主に　立ちかえらせて　あなたの力により強めたまえ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王なる主に　栄光あれ　全地の主に　栄光あれ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見させたまえ　栄光あれ　主イエスの栄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1028"/>
          <p:cNvSpPr/>
          <p:nvPr/>
        </p:nvSpPr>
        <p:spPr>
          <a:xfrm>
            <a:off x="119160" y="635040"/>
            <a:ext cx="8796240" cy="11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tsukurinusi no chichi yo sono keikaku oerabi no tami o okosi sirase tamae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zenchi wa anata no chikara machinozomu abura sosogitamae ima kono kuni n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nagare yo eikoo kono chi kara sekai ni afureyo shu no kaori warera no naka ni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sihaisha naru shu yo sono yakusoku o toki hanachi kyookai ni shoori o atae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watasi tachi o shu ni tachikaerasete anata no chikara niyori tsuyome tamae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oo naru shu ni  eikoo are zenchi no shu ni  eikoo are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misase tamae  eikoo are shu iesu no eiko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くりぬしのちちよそのけいかく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造り主の父よその計画を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1027"/>
          <p:cNvSpPr/>
          <p:nvPr/>
        </p:nvSpPr>
        <p:spPr>
          <a:xfrm>
            <a:off x="152280" y="297000"/>
            <a:ext cx="8869320" cy="9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"FATHER OF CREATION, UNFOLD YOUR SOVEREIGN PLA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RAISE UP A CHOSEN GENERATION 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THAT WILL MARCH THROUGH THE L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ALL OF CREATION IS LONGING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FOR YOUR UNVEILING OF POWE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WOULD YOU RELEASE YOUR ANOINTING 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OH GOD LET THIS BE THE HOU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LET YOUR GLORY FALL IN THIS RO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LET IT GO FORTH FROM HERE TO THE NATIONS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LET YOUR FRAGRANCE REST IN THIS PLAC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AS WE GATHER TO SEEK YOUR FAC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RULER OF THE NATIONS THE WORLD HAS YET TO SE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THE FULL RELEASE OF YOUR PROMIS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THE CHURCH IN VICTOR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TURN TO US LORD AND TOUCH US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MAKE US STRONG IN YOUR MIGH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OVER COME OUR WEAKNESS  THA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WE COULD STAND UP AND FIGH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(LET YOUR KINGDOM COME)*2 (LET YOUR WILL BE DONE) *2   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(LET US SEE ON EARTH) *2 (THE GLORY OF YOUR SON) *2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くりぬしのちちよそのけいかく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4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イエス様唯一の救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私のイエス様  唯一の救い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いつでも  賛美を 主の愛のゆえ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なたは 慰め 隠れ場   力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息あるものみな  たえず  あがめよ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全地よ  叫び歌え 力と威光  賛美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山は伏し  海うなる　主の御名のひびきで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の御手のわざ歌う とわに愛しとわに立つ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他にない  御約束  主よ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1028"/>
          <p:cNvSpPr/>
          <p:nvPr/>
        </p:nvSpPr>
        <p:spPr>
          <a:xfrm>
            <a:off x="119160" y="603360"/>
            <a:ext cx="879624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tashi no iesusama yuiitsuno sukui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itsudemo sambiwo syunoaino yu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natawa nagusame kakureba chikara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ikiaru monomina taezu agame yo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zenchi yo sakebi utae chikara to ikou sanbi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yamawa fushi umi unaru shuno minano hibikide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no mite no waza utau towani aishi towani tats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hokani nai mi yakusoku shu yo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いえすさまゆいいつのすく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4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イエス様唯一の救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1027"/>
          <p:cNvSpPr/>
          <p:nvPr/>
        </p:nvSpPr>
        <p:spPr>
          <a:xfrm>
            <a:off x="152280" y="5335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"MY JESUS, MY SAVIOU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LORD, THERE IS NONE LIKE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LL OF MY DAYS, I WANT TO PRAISE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HE WONDERS OF YOUR MIGHTY LOV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MY COMFORT, MY SHELTER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OWER OF REFUGE AND STRENGTH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LET EVERY BREATH, ALL THAT I AM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EVER CEASE TO WORSHIP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HOUT TO THE LORD, ALL THE EARTH LET US SING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POWER AND MAJESTY, PRAISE TO THE K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MOUNTAINS BOW DOWN AND THE SEAS WILL ROAR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T THE SOUND OF YOUR NAM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SING FOR JOY AT THE WORK OF YOUR HAND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EVER I'LL LOVE YOU, FOREVER I'LL STAN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THING COMPARES TO THE PROMISE I HAVE IN YOU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いえすさまゆいいつのすく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の声を上げよ主はほむべき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の声をあげよ　主はほむべき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霊でうたえ　手をたたけ　主をほめたたえ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 む べ き　  ほむべきお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 レ ル ヤ   　主をほめたたえよう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no koe ageyo  shu wa homubeki 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rei de utae  te o tatake  shu o hometata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beki   homubeki o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shu o hometataeyoo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のこえをあげよしゅはほむべき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の声を上げよ主はほむべき方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MAKE A JOYFUL NOISE UNTO THE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HE IS WORTHY TO BE PRAI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NG WITH YOUR SPIRI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LAP WITH YOUR HA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UR GOD IS GREATLY TO BE PRAI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ORTHY, WORTHY, HE IS WORTHY TO BE PRAI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, OUR GOD IS WOTHY TO BE PRAISE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のこえをあげよしゅはほむべき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求めいつまで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求め いつまでも　とも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わがうちに みちて下さい　日毎に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わが心　くだいて下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　ゆだねます主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全ては　あなたのもので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うちに　みちて下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motome itumademo tom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uchi ni michite kudasai mi goto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waga kokoro kudasa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yudane masu sh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ubete wa anata no mono d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uchi ni michite kudasa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もとめいつまでもとも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7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臨在の中で われらはひざをかが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1027"/>
          <p:cNvSpPr/>
          <p:nvPr/>
        </p:nvSpPr>
        <p:spPr>
          <a:xfrm>
            <a:off x="152280" y="220680"/>
            <a:ext cx="886932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１ 主の臨在の中で われらはひざをかがめ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あなたの御名を おそれます 力づよい主の御名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主の臨在の中で われらは 心を主に向け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今 御前にすすみゆき 賛美を ささげます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＊ ほむべきかな あなたの御名は 偉大なかみ 栄光の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ほむべきかな ただひとり 賛美を受ける方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２  主の臨在の中で われらは 主に手をあげ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今すべての思いわずらい あなたにゆだねます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主の御座から流れる 恵みとあわれみの泉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主よわたしは うえかわいて あなたを求めま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1028"/>
          <p:cNvSpPr/>
          <p:nvPr/>
        </p:nvSpPr>
        <p:spPr>
          <a:xfrm>
            <a:off x="119160" y="457200"/>
            <a:ext cx="8796240" cy="11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 rinzai no naka de    warera wa hiza o kagam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nata no mina o  osoremasu  chikara zuyoi shu no min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 rinzai no naka de warera wa kokoro o shu ni muk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ma  mimae ni susumi yuki  sanbi o  sasagemas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* homubeki kana  anata no mina wa  idai na kami  eikoo no o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homubeki kana tada hitori sanbi o ukeru kata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no rinzai no naka de warera wa  shu ni te o ag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ma subete no omoi wazurai  anata ni yudane mas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no miza kara nagareru megumi to awaremi no izum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yo watasi wa  ue kawaite anata o motomemasu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りんざいのなか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み子　救い主　イエスさ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1027"/>
          <p:cNvSpPr/>
          <p:nvPr/>
        </p:nvSpPr>
        <p:spPr>
          <a:xfrm>
            <a:off x="152280" y="387360"/>
            <a:ext cx="8869320" cy="11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神のみ子　救い主　イエスさま　呼ばせてください　そのおなまえを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いつでもどこでもイエスさまと　罪の許しの　み救いは　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あなた　だけから　くるのです　おすがりさせて　くださいイエス様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もうしわけありません　イエスさま  呼ばせてください　そのおなまえを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いつでもどこでもイエスさまと  わたしの弱さも　あやまちも</a:t>
            </a:r>
            <a:br>
              <a:rPr sz="2300"/>
            </a:br>
            <a:br>
              <a:rPr sz="2300"/>
            </a:br>
            <a:r>
              <a:rPr b="0" lang="ja-JP" sz="2300" spc="-1" strike="noStrike">
                <a:solidFill>
                  <a:srgbClr val="ffffff"/>
                </a:solidFill>
                <a:latin typeface="ＭＳ Ｐゴシック"/>
              </a:rPr>
              <a:t>すべてをその身に背負われた  おしたいさせてください　イエス様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1028"/>
          <p:cNvSpPr/>
          <p:nvPr/>
        </p:nvSpPr>
        <p:spPr>
          <a:xfrm>
            <a:off x="119160" y="662040"/>
            <a:ext cx="879624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kami no miko sukuinushi iesu sama yobasete kudasai sono onamae o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itsudemo dokodemo iesu sama to tsumi no yurushi no misukui wa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anata dake kara kurunodesu osugari sasete kudasai iesu sama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moushiwake arimasen iesu sama yobasete kudasai sono onamae o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itsudemo dokodemo iesu sama to watashino yowasamo ayamachimo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ccccff"/>
                </a:solidFill>
                <a:latin typeface="ＭＳ Ｐゴシック"/>
              </a:rPr>
              <a:t>subete sonomini sewo wareta oshitai sasete kudasai iesu sam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みこすくいぬしいえすさ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と家族は　主に仕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と家族は　主に仕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と家族は　主に仕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仕える　主に仕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to kazokuwa shunitsuk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to kazokuwa shunitsuk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itsukaeru shunitsukaer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とかぞくはしゅにつか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1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永遠の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岩　真実な方　約束を守る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岩　正義の神　いつも　主を信頼します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 en no iwa shinzitsu na kata yakusoku o mamoru 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 en no iwa sei gi no kami itsumo shu o shinrai sh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えんのい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6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と家族は　主に仕え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for me and my house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serve the Lord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for me and my house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serve the Lord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serve the Lord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ill serve the Lor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とかぞくはしゅにつか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御父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にみちた　み父の　右の座につき治める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燃えるようなまなざし　声のひびき　おおみずの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いなる　全能の神　主の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いなる　全能の神　勝利者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冠うけ　こひつじ主イエス　勝利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生きてる　わが主　ひれふして　あがめ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ni michita michichi no migi no zani tsuki osamaru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eru yoona manazashi koe no hiniki oomizu no 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 naru zen noo no kami shuno eik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 naru zen noono kami shoori sh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kamuri uke kohi tsuji iesu shoori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ikiteru waga shuo hirefu shite agame yo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にみちたみちち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0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ほまれ小羊イエス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ほまれ 小羊イエス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ほまれ わが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のいけにえを主に携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が身の全てで主をたたえ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homare kohitsuji ies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homare waga o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mbi no ikenie o shuni tazus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mino subete de shuo tatae 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ほまれこひつじいえす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ほまれ小羊イエス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Gloria y honor demos al Corde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ia y honor dad a nuestro Rey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Sacrificio te ofrezco mi canto te d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mi vida proclamo Tu grandeza Senyor/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えいこうほまれこひつじいえす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2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このままずっとあなたと共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1027"/>
          <p:cNvSpPr/>
          <p:nvPr/>
        </p:nvSpPr>
        <p:spPr>
          <a:xfrm>
            <a:off x="152280" y="30492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このままずっと　あなた共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離れたくない　離さない　主の臨在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の御霊　われに触れ　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心から礼拝　ささげます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愛伝える　言葉も尽きて　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ただ捧げる　主への賛美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ただ一人　御そばにて　あがめます　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よ　あなただけ　主よ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onomama zutto anata tomo 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hanaretaku nai hanasanai shu no rinza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no mitama ware ni fure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okoro kara reihai sasage mas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i tsutaeru kotoba mo tsukite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tada sasageru shu e no sanb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tada hitori misoba nite agamemas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yo anata dake shu y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のままずっとあなたととも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主の御前に進み出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の御前に　進み出て 求めます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盾 わが砦　たたえます とこしえ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望み 御前に立ちて　あおぎみたい あなたの御顔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喜び 御前でいこい 　たたえたい 主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  いと高き 方　すべてに まさる 主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望み  主よ  信頼しま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 naru shu no mimae ni susumidete moto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te  waga  toride  tataemasu  tokosie n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nozomi  mimae ni tachite aogi mitai  anata no mika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yorokobi  mimae de ikoi tataetai  shu 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 ito takaki  kata subete ni  masaru  shu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nozomi  shu yo  sinrai sim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しゅのみまえにすすみでてもと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4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わが望み賛美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2051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わが望み賛美ささげ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わが希望したい求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御名たたえよ　みすくいを喜ぼ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をもって主の御名たたえ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たえます  栄光主にあれ　あがめます  主イエス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（いつもどんな時も　主の御名をたたえ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2052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aga nozomi sanbi sasag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aga kiboo sitai moto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mina tataeyo misukui o yorokob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motte shu no mina tata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masu  eikoo shu ni are agamemasu  shu ie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（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sumo donna toki mo shu no mina o tatae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わがのぞみさんび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5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わが望み賛美ささげ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res tu la unica razon de mi adoracion oh 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res tu la esperanza que anhele tener oh 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fie en ti me has ayuda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salvacion me has regalad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y hay cozo en mi coraz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mi canto t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labare Te glorificare Te alabare mi buen 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todo tiempo te alabare En to do tiempo te adora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いえすわがのぞみさんび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5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よう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Magnify Je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　たたえよう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賛美に　ふさわし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賛美に　　ふさわしいお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 tataeyo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sanbi ni  fusawasi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sanbi ni  fusawasii o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s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5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よう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Magnify Jesu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MAGNIFY JESUS MAGNIFY THE LORD (*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HE IS WORTHY (3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BE PRAISED, TO BE PRAI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3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賛美の冠主に携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の冠　主にたずさえ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力　ささげよう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王の王　主の主勝利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君　全能の主　王の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no kanmuri  shu ni tazusa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chikara  sasageyoo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oo no oo  shu no shu shoori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kimi  zennoo no shu  oo no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んびのかんむりしゅにたずさ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5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よう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Magnify Jesus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027"/>
          <p:cNvSpPr/>
          <p:nvPr/>
        </p:nvSpPr>
        <p:spPr>
          <a:xfrm>
            <a:off x="152280" y="68580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aba a Cristo Alaba a Senor(2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el es digno (3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adoracion de ado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みなを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7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うるわしい主の臨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麗しい　主の臨在　主イエス　救いぬ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生かし　やしなう　みことばと　愛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前に 進み　安らぎ 憩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 油と力　わたしを満た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麗しい　主の臨在　主イエス　救いぬ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ruwasii  shu no rinzai  shu iesu  sukuinu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ikasi  yasinau  mikotoba to  a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e ni  susumi  yasuragi  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 abura to chikara  watasi o mit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ruwasii  shu no rinzai  shu iesu  sukuinu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るわしいしゅのりんざ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79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主に向かい手をあ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主に向かい　手を上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が身のすべて　ささげ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と恵み　受けてあなたと　ともに　生き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臨在　抱きし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平安　わが身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必要は　満たさ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あいの　ゆ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hu ni nukai  te o ag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mi no subete  sasag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to megumi  ukete anata to tomoni iki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rinzai  dakisim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heian  waga m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hitsuyoo wa  mitas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no  yu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しゅにむかいてをあ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2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御前にひれ伏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御前にひれ伏し　したい求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の賛美 たずさえ　たたえます 心か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は私を満たし　日ごとに あなたを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臨在の中で　わが愛をささげ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mae ni hirefu shi shu yo shitai motome 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no sambi tazusae tataemasu kokoro kar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wa watashi o mitashi hi goto ni anata o om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rin zai no naka de waga ai o sasage mas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みまえにひれふ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3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と喜び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1027"/>
          <p:cNvSpPr/>
          <p:nvPr/>
        </p:nvSpPr>
        <p:spPr>
          <a:xfrm>
            <a:off x="152280" y="30492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感謝と喜び  ささげます  カルバリの御わざ　たたえ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死の力　ほろぼし　血潮によりて  とこしえの命　与える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真実をつくし　たたえます  感謝をもって　たたえ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わが命　こころ  すべてをもって  あなただけを　たたえます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たたえます　主よ  たたえ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たたえます　主よ  たたえ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二人だけの　麗しいとき　わが心　ささげ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1028"/>
          <p:cNvSpPr/>
          <p:nvPr/>
        </p:nvSpPr>
        <p:spPr>
          <a:xfrm>
            <a:off x="119160" y="635040"/>
            <a:ext cx="879624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nsya to yorokobi sasage masu karubari no miwaza tatae 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 no chikara horoboshi chishio ni yorite tokoshie no inochi ataer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njitsu o tsukushi tatae masu kansya o motte tatae 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ga inochi kokoro subete o motte anata dake o tatae mas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tae masu shu yo tatae 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tae masu shu yo tatae 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futari dake no uruwashii toki waga kokoro sasage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んしゃとよろこびささげ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3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と喜びささげ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Por la gracia de tu nombre t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la historia del Calvario te ador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tu vida, por tu mert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tu sangre en la cruz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tu amor inexplicable te alabare Con toda la devocion te alabare con toda mi gratitu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exaltare con mi vida con mi ment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mi alma y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todas mis fuerzas t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Te alabare Senyor t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labare Senyor te alab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ada ni nadie entre Tu y y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y y siempre te alabare/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んしゃとよろこびささげ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4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がめますわが心ささ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　我が  心　ささ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は　あなたのもの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避けどころ　なぐさ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ます　御前にひれ伏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身を　主は生かす　わが避けどころ　なぐさ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ことの　命　あなたの　臨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愛　恵みは注ぐ　私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waga kokoro sas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wa anata no mon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akedokoro nagus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masu mimae ni hire fu sh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mi o shu wa ikasu waga sakedokoro nagus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koto no inochi anata no rin z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ai megumi wa soso gu watashi n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がめますわがこころささ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4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がめますわが心ささげ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e alabo, mi vida depende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o mi ser se perfecciona en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sido mi refugio en mi ca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doro, mi corazon se postra ant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a mi vida te pertenece a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sido mi refugio en mi ca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eres real en mi vid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eres real en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mor a cada instan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mor inagotable para m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あがめますわがこころささ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5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今生きておられ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Because He live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今、生きて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が内に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は主の御手にあ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明日も生きよう　主がおら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wa ima ikiteorarer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uchini o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wa shuno miteni a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umo ikiyou shuga or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いまいきてお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5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今生きておられ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Because He lives1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BECAUSE HE LIVES. I CAN FACE TOMORROW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CAUSE HE LIVES, ALL FEAR IS GON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CAUSE I KNOW HE HOLDS THE FUTUR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LIFE IS WORTH THE LIV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UST BECAUSE HE LIVES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いまいきてお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4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正義の道は夜明けの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ＭＳ Ｐゴシック"/>
              </a:rPr>
              <a:t>正義の道は　夜明けの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ＭＳ Ｐゴシック"/>
              </a:rPr>
              <a:t>輝き増して　真昼となる</a:t>
            </a:r>
            <a:r>
              <a:rPr b="0" lang="en-US" sz="4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ＭＳ Ｐゴシック"/>
              </a:rPr>
              <a:t>キリスト　キリストは主</a:t>
            </a:r>
            <a:r>
              <a:rPr b="0" lang="en-US" sz="48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ＭＳ Ｐゴシック"/>
              </a:rPr>
              <a:t>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28"/>
          <p:cNvSpPr/>
          <p:nvPr/>
        </p:nvSpPr>
        <p:spPr>
          <a:xfrm>
            <a:off x="0" y="914400"/>
            <a:ext cx="9144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ＭＳ Ｐゴシック"/>
              </a:rPr>
              <a:t>seigi no miti wa yoake no hika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ＭＳ Ｐゴシック"/>
              </a:rPr>
              <a:t>kagayaki masite mahiru to naru (*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ＭＳ Ｐゴシック"/>
              </a:rPr>
              <a:t>kirisuto kirisuto wa syu (*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ぎのみちはよあけのひか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ほめ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X3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その御わざ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ほめよ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ほめ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ほめよ　そのみわざ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を罪より　救いあが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ほめよ　そのみわざ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o hom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o hom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o homeyo sono miwaza 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wo tsumiyori sukui aga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o homeyo sono miwaz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ほめ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X3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その御わざを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O GOD BE THE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GOD BE THE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GOD BE THE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THE THINGS HE HAS DON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HIS BLOOD, HE HAS SAVED 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HIS POWER,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AS RAISED 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GOD BE THE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THE THINGS HE HAS DONE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7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 ハレルヤ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イエスは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ハレルヤ　イエスは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ハレルヤ　主治めたも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をあらわし　勝利え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に打ち勝たれた　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鎖解き放ち　自由とされた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らは救わ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hallelujah  iesu wa sh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hallelujah shu asametam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o arawashi shouri a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 ni uchi katareta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sarai tokohanachi  jiyuu to saret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wa sukuwaret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はれるやはれるやいえすは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7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 ハレルヤ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イエスは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ALLELUJAH, HALLELUJAH, HALLELUJA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LORD REIG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, HALLELUJAH, HALLELUJA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LORD ALMIGHTY REIG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AS SHOWN HIS AWESOME POW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AS TRIUMPHED MIGHTI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'S THE VICTOR OVER DARKNESS AND THE GRA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AS BROAKEN CHAINS THAT BOUND 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HAS SET THE PRISONER FRE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Y HIS OWN GREAT MERCY WE ARE SAVE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はれるやはれるやいえすは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8 Bb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一羽のすずめに主のまなざ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027"/>
          <p:cNvSpPr/>
          <p:nvPr/>
        </p:nvSpPr>
        <p:spPr>
          <a:xfrm>
            <a:off x="152280" y="304920"/>
            <a:ext cx="886932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羽のすずめも主は目に留め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の御手は　あたたかいなぐさめ与え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恵みあわれみ　心に満ち　　    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こころをなすために　主は私を呼ぶ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みもとへ走ります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自分の力でなく　主の霊によっ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みかおを仰ぐまで　栄光の中で生き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栄光の中で　その恵みの中で　生きていけるように祈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chi wano suzumemo shuwa menitom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no mite wa atatakai nagusame ata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egumi awaremi  kokoro ni mich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 kokoro o nasutameni shu wa  watashi o yob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moto e hashiri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jubun no chikara de naku shu no rei ni yot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kao o aogumade eikou no naka de iki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 no nakade sonomegumi no nakade ikite ikeruyouni ino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ちわのすずめにしゅのまなざ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89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息よ四方から吹いてこ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息よ 四方から 吹いてこ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国の民を 生かすために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霊が 民にいのちを与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民はみな たちあ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息よ 四方から 今この地に吹いてこい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i yo shiho kara fui teko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kuni no tami o ikasutame ni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no rei ga tami ni inochi wo at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mi wa mina tachiag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i yo shiho kara ima kono chi ni fuiteko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きよしほうからふいてこ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の勝利をたたえ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の　　勝利をたたえよう　ともに　　よろこぴ歌お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は　　血を流しわれらに　いのちあたえられた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罪の＜びき　もう負うことはない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ときはなつ　主の解奴の御業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勝利を叫べ　高らかに　イエスの愛に答え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霊にあふれ　主にゆだねるとき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恐れ悩みすぺて　かなたに消えてゆ＜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を見上げて　御座に進み行き　イエスの愛に答えよ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o shoori tatayoo tomo ni yorokobi uta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wa chi o nagashi warera ni inochi ataeraret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sumino kumiki moo ou koto wa na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tokihanatsu shuno kaihoo no miwaz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oorio sakebe takaraka ni iesu no ai ni kotae 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tama ni afure shu ni yudaneru tok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sore nayami subete kana ni kiete yuk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o miagete miza ni susumiyuki iesu no aini kotaeyoo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のしょうりをたたえ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1 E W Jesus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御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すばらしい御名　われをあがなう　小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それふきけす　主イエスの　めぐみ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すばらしい御名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すばらしい御名　わが心は　いやさ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それふきけす　主イエスの　ぬくも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　すばらしい御名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subarashi i mina ware o aganau kohituj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sorobe hukikesu shu iesu no megu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subara shi i min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subarashi i mina waga kokoro wa i ya s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sore hu kikesu shuiesu no nukumo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subara shi i min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すばらしいみ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1 E W Jesus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御名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Jesus , What a beautiful n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n of God , Son of M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mb that was sl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oy and peace , strength and hop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ce that blows all fear aw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, What a beautiful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, What a beautiful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ruth revealed my future seal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led my pa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ve and freedom , life and warm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ce that blows all fear aw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, What a beautiful nam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すばらしいみ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聖なる主イエ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　聖なる　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だけが　聖なる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　ほむべき　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だけが　ほむべき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 seinaru 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dake ga  sei naru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 homubeki 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dake ga  homubeki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せいなるしゅいえ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5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主の家に行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主の家に行き  賛美をささ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にすすみ   感謝をささ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のうたと   感謝にみち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のうたを  御前にささげよ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shu no ie ni yuki  sanbi wo sasag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 ni susumi  kansha wo sasag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no uta to  kansha ni michi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no uta wo mimae ni sasage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あしゅのいえにゆ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聖なる主イエス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027"/>
          <p:cNvSpPr/>
          <p:nvPr/>
        </p:nvSpPr>
        <p:spPr>
          <a:xfrm>
            <a:off x="152280" y="68580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OLY,ONLY YOU ARE HO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NLY YOU ARE HO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NLY YOU MY GO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せいなるしゅいえ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炎で燃やして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炎で　もや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炎で　もや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炎で　わが心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　愛し 主に　従い　主に仕えるため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　求め　主を　賛美し　主とともに　いるために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onoo de  moyas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onoo de  moyas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onoo de  waga kokoro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 aisi shu ni  sitagai shu ni  tsukaeru tame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 motome shu o  sanbi si shu to tomoni  irut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ほのうでもやし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炎で燃やして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X2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enda tu fuego en mi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enda tu fuego en mi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enda tu fuego en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amar 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seguir 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serivr te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buscar 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arabar 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sien por estar ante ti Sen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ほのうでもや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静まる時の中あなたはおら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静まる時の中　あなたはおら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さしく静かな御声につつまれ　時を過ご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求め  御声したい  あなたを知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に触れ  御顔したい  あなたを知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ただ目指し  栄冠  受け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ひたすら全てを投げ捨てただ行く　心  つく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zumaru toki no naka  anata wa or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sasiku sizukana mikoe ni tsutsumare toki o sugo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motome  mikoe sitai  anata o si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fure  mikao sitai  anata o si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tada mezasi  eikan  uk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tasura subete o nagesute tada iku kokoro tsuku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ずまるときのなかであなたはおら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静まる時の中あなたはおられ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027"/>
          <p:cNvSpPr/>
          <p:nvPr/>
        </p:nvSpPr>
        <p:spPr>
          <a:xfrm>
            <a:off x="152280" y="380880"/>
            <a:ext cx="886932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N THE SECRET IN THE QUIET PLAC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N THE STILLNESS YOU ARE THER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N THE SECRET IN THE QUIET HOUR I WAIT ONLY FOR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'CAUSE I WANT TO KNOW YOU MOR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KNOW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HEAR YOUR VIOC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KNOW YOU MOR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TOUCH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SEE YOU FAC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ANT TO KNOW YOU MOR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AM REACHING FOR THE HIGHEST GOAL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HAT I MIGHT  RECEIVE THE PRIZ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PRESSING ONWARD PUSHING EVERY HINDRANCE ASID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OUT OF MY WA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'CAUSE I WANT TO KNOW YOU M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ずまるときのなかであなたはおら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立ちあがり歌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立ち上がり歌え　偉大なる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弱いときに強い　信仰の人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ウト！　北と南に　歌え　東と西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は救い主　天と地との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立ち上がり歌え　傷付いた民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といやし伝え　誠の人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chiagari utae  idai na oo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wai toki ni tsuyoi  sinkoo no hito 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ut !  kita to minami ni  utae  higasi to nis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 sukuinusi  ten to chi tono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chiagari utae  kizutsuita tam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 to iyasi tsutae  makoto no hito y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ちあがり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9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あるみ言葉 神 その道は完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1027"/>
          <p:cNvSpPr/>
          <p:nvPr/>
        </p:nvSpPr>
        <p:spPr>
          <a:xfrm>
            <a:off x="152280" y="30492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力あるみことば　神その道は完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主は信じる者の　救いの盾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主はわが盾　わが力　戦いのため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私の腕を鍛えられる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主はわが神　わが岩　ほかにはない　唯一の神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ハレルヤ　ハレルヤ　ハレルヤ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さあ　打ち砕け　滅ぼせ　全ての敵は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主の御前で　立ち上がれな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1028"/>
          <p:cNvSpPr/>
          <p:nvPr/>
        </p:nvSpPr>
        <p:spPr>
          <a:xfrm>
            <a:off x="119160" y="635040"/>
            <a:ext cx="8796240" cy="9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chikararu mikotoba kami sonomichi wa kanzen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a shinjirumonono sukui no ta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a waga tate chikara tatakaino tame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 no ude o kitaera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a waga kami waga iwa hokaniwa nai yuitsu no kam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areruya hareruya hareruy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a uchi kudake horobose subeteno teki wa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mae de tachi agarenai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あるみことばかみそのみちはかんぜ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99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あるみ言葉 神 その道は完全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el camino del Senyor es perfec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u palabra del Senyor es po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el arma y escu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todos los que en El confi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isto es mi fortaleza, es mi escu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El paso enmedio de un batall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adiestra mis man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 prepara para guerre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?Quien es Dios sino el Senyor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?y quien es la Roca, sino nuestro Dios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 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ちからあるみことばかみそのみちはかんぜ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霊がここに御力あふ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1027"/>
          <p:cNvSpPr/>
          <p:nvPr/>
        </p:nvSpPr>
        <p:spPr>
          <a:xfrm>
            <a:off x="152280" y="304920"/>
            <a:ext cx="886932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霊がここに　御力あふれ  なにかが起こる　きっと起こ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とてもよいことが　よいことがここで　イエーイ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暗やみを消す光輝き  パワー全開　恐れ無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なにかが起こる　よいことがここで　イエーイ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れらはもえる教会　聖霊の炎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れらのあつき願い　イエスの名かかげ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もやされ　暗やみをたおせ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愛の炎もえよ　われらは　もえる主の教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1028"/>
          <p:cNvSpPr/>
          <p:nvPr/>
        </p:nvSpPr>
        <p:spPr>
          <a:xfrm>
            <a:off x="119160" y="63504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tama ga kokoni  michikara afure nanika ga okoru  kitto oko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temo yoi koto ga  yoikoto ga kokode  yeih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urayami o kesu hikari kagayaki power zenkai osore mu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anika ga okoru  yoi koto ga koko de  yeih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rera wa moeru kyookai  seirei no hon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rera no atsuki negai  iesu  no na kakage 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moyasare  kurayami o taose 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i no honoo moeyo warera wa  moeru kyook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たまがここにみちからあふ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霊がここに御力あふれ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027"/>
          <p:cNvSpPr/>
          <p:nvPr/>
        </p:nvSpPr>
        <p:spPr>
          <a:xfrm>
            <a:off x="152280" y="380880"/>
            <a:ext cx="886932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"THE HOLY SPIRIT IS HERE AND HIS POWER IS REAL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YTHING CAN HAPPEN AND IT PROBABLY WILL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SOMETHING VERY GOOD,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SOMETHING GOOD IS GOING ON AROUD HER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ERE'S LIGHT THAT SHINE TO MAKE THE DARK DISAPPEAR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 POWER AT WORK BUT THERE'S NOTHING TO FEAR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SOMETHING VERY GOOD,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SOMETHING GOOD IS GOING ON AROUD HER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IS IS A CHURCH ON FIR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IS IS THE HOLY SPIRIT FLAM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WE HAVE A BURNING DESIRE TO LIFT UP JESUS' NAM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ET FIRE BURN IN EVERY HEART  TO LIGHT THE WAY, DEFEAT THE DARK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ET THE FLAME OF LOVE BURN HIGHER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IS IS A CHURCH   THIS IS A CHURCH ON FIRE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たまがここにみちからあふ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シャローム兄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ローム兄弟　シャローム兄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ローム　シャロー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平安が　あなたととも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ローム　シャロー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om kyoodai  shalom kyooda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om  shal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eian ga  anata to tomon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om  sha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ゃろーむきょうだ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目覚めよ神の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目覚めよ　神の民　たちあがれ　全地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ふりかざせ御霊のつるぎ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ぶちこわせ敵の策略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キリストが　復活の主が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った日　すべての敵は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打ち負かされた　打ち負かさ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勝利　（ライズアップ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ezameyo  kami no tami  tachiagare  zench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furikazase  mitama no tsurugi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buchikowase  teki no sakuryaku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irisuto ga  fukkatsu no shu g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gaetta hi subete no teki w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chimakasareta  uchimakas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no shoori   ( rise up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めざめよかみのた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目覚めよ神の民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RISE UP,YOU PEOPLE OF POWER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ND UP, ACROSS THE L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AKE UP, THE SWORD OF THE SPIRI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ULL DOWN, THE ENEMY'S PLA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HE AROSE, WHEN HE AROS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JESUS AROSE,HE DEFEAT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FEATED ALL OF OUR FO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FEATED ALL OF OUR FO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FEATED ALL OF OUR FOES,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めざめよかみのた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2 G P Oh Happy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1027"/>
          <p:cNvSpPr/>
          <p:nvPr/>
        </p:nvSpPr>
        <p:spPr>
          <a:xfrm>
            <a:off x="152280" y="304920"/>
            <a:ext cx="886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ハッピーデ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1028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ーはっぴーで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2 G P Oh Happy da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 Happy day (Oh Happy day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 Happy day (Oh Happy day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Jesus washed (3X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ashed my sins away (Oh Happy day)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* He taught me how to watch fight and pr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and live rejoicing every every day (every day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ーはっぴーで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3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主全能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いなる  主　  ぜんのうの主　主のあいしたう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たしてください　主のあい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つまでもいたい 　あなたととも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としい主よ　  みたして　わがすべてを　ささげ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よき　ひつじかい　　わたしは  やすら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shu  zennoo no shu shu no ai sita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site kudasai  shu no a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sumademo itai  anata to tomo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osii shu yo  mitasite waga subete o  sasag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yoki  hitsujikai watasi wa  yasura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ぜんのう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4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主主の恵みとこしえま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主　主のめぐみ　とこしえまで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4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軍勢　前進せよ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敵に　たちむか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軍勢　前進せ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shuno megumi tokosie mad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gunzei zenshinseyo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tekini tachimuk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gunzei zenshinseyo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しゅしゅのめぐみとこしえま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4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主主の恵みとこしえまで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grande es el Senor y para siempre es s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sericor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ejercito de Dios marchando est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tra todo preincipado y potes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ejercito de Dios marchando es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おおいなるしゅしゅのめぐみとこしえま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御顔求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Tougching hea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1027"/>
          <p:cNvSpPr/>
          <p:nvPr/>
        </p:nvSpPr>
        <p:spPr>
          <a:xfrm>
            <a:off x="152280" y="30492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　あなたの　みかお　もとめ  いやしの　御手　いのり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新たな　命の　いぶきと  御国を　告げる　風　送っ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かかげよう　主の  御名　こころ　ひとつにし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天にふれ　地よ　変われ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OUCHING  HEAVEN  CHANGING  EARTH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　みもとへ　走りゆき　わたしの　すべて　ささげま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なみだの　うちに　種をまき　喜びもて　かりとろ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　いま　（送って）　この地に　（あなたの）  リバイバル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1028"/>
          <p:cNvSpPr/>
          <p:nvPr/>
        </p:nvSpPr>
        <p:spPr>
          <a:xfrm>
            <a:off x="119160" y="635040"/>
            <a:ext cx="8796240" cy="10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yo anatano mikao motome iyashi no mite inori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ratana inochi no ibuki to mikuni wo tsugeru kaze wo okut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akageyou shunomina kokoro hitotsunishi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n ni fure chi yo kaw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uching  heaven  changing  earth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yo mimotoni hashiri yuki watashino subete sasagem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amida no uchini tane wo maki yorokobi motte karitoro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yo ima (okutte) konochi ni (anata no) ribaibaru w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みかおもと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御顔求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Tougching heave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E WILL SEEK YOUR FACE ALMIGHTY GO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URN AND PRAY FOR YOU TO HEAL OUR LAN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ATHER LET REVIVAL START IN U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HEN EVERY HEART WILL KNOW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YOUR KINGDOM COM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LIFTING UP THE NAME OF THE LOR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N POWER AND IN UNIT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E WILL SEE THE NATIONS TUR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OUCHING HEAVEN CHANGING EARTH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EVER LOOKING BACK WE'LL RUN THE RAC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GIVING YOU OUR LIVES WE'LL GAIN THE PRIZ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E WILL TAKE THE HARVEST GIVEN U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HOUGH WE SOW IN TEARS WE'LL REAP IN JO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END REVIVAL(SEND REVIVAL)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END REVIVAL(SEND REVIVAL)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END REVIVAL TO 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みかおもと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8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引きよせていつまで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3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ひきよせて　いつまでも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を友と　呼ぶ声きかせ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とめます　　あなただけ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けがえのない　あたたかな腕に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う一度　もどらせて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　わたしのすべて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たえてそばにいる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kiyosete  itsumade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o tomo to yobu koe kikas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tomemasu  anata dak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kegae no nai  natatakana ude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o ichido  modorase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 watasi no sub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taete  soba ni ir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ひきよせていつまで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7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主の御顔を仰ぎ見つめれ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の御顔を 仰ぎ見つめれば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は輝きに つつまれます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  あがめます　主に生かされている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shu no mikao o  aogi mitsumereb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wa kagayaki ni  tsutsumare mas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agame masu shu ni ikasarete iruk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しゅのみかおをあおぎみつめれ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08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引きよせていつまでも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DRAW ME CLOSE TO YO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EVER LET ME G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LAY IT ALL DOWN AGAIN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HEAR YOU SAY THAT I'M YOUR FRIE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RE MY DESIRE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ONE ELSE WILL D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'CAUSE NOTHING ELSE COULD TAKE YOUR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FEEL THE WARMTH OF YOUR EMBR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LP ME FIND THE WAY ,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RING ME BACK TO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RE ALL I WANT YOU'RE ALL I'VE EVER NEED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'RE ALL I WANT HELP ME KNOW YOU ARE NE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ひきよせていつまで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0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をたたえるには数々あれど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2051"/>
          <p:cNvSpPr/>
          <p:nvPr/>
        </p:nvSpPr>
        <p:spPr>
          <a:xfrm>
            <a:off x="152280" y="68724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をたたえるには　かずかずあれど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はこのようにして　わが主を　ほめたたえよ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わりまわれ　まわりまわって　主イエスを　たたえ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わりまわれ　まわりまわって　主イエスを　賛美し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Text Box 2052"/>
          <p:cNvSpPr/>
          <p:nvPr/>
        </p:nvSpPr>
        <p:spPr>
          <a:xfrm>
            <a:off x="119160" y="1017720"/>
            <a:ext cx="879624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o tataeru niwa kazukazu aredo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wa konoyooni site waga syuo hometataey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mari maware  mawari mawatte shu iesu o  tata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wari maware  mawari mawatte shu iesu o  sanbi si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をたたえるにはかずかずあれど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1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主よ立ちあがって敵ども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1027"/>
          <p:cNvSpPr/>
          <p:nvPr/>
        </p:nvSpPr>
        <p:spPr>
          <a:xfrm>
            <a:off x="152280" y="20484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わが主よ　立ちあがって　てきども　けちらしたま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わが主よ　立ちあがって　てきども　けちらしたまえ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に立ち向かう  すべての敵　 いま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みまえで  恐れて消えされ　えいえん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すべての闇に  勝利する  わが主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すべての君を   打ちまかし  治める　イエスキリスト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恐れの霊   （でていけ）　不正の霊   </a:t>
            </a: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でていけ）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恨みの霊   （でていけ）　暗闇の霊   （でていけ）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病いの霊   （でていけ）　反抗の霊   （でていけ）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姦淫の霊   （でていけ）　空しさの霊  （でていけ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Text Box 1028"/>
          <p:cNvSpPr/>
          <p:nvPr/>
        </p:nvSpPr>
        <p:spPr>
          <a:xfrm>
            <a:off x="119160" y="457200"/>
            <a:ext cx="8796240" cy="9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ga shu yo  tachiagatte teki domo kechirasi tam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ga shu yo  tachiagatte teki domo kechirasi tam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ni tachimukau  subete no teki ima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no mimae de  osore kiesare  eien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bete no yami ni  shoori suru  waga sh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bete no kimi o  uchimakasi  osameru iesu kirisut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osore no rei   (deteike )  fusei no rei  (deteike 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urami no rei  (deteike )  kurayami no rei (deteike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yamai no rei  (deteike )  hankoo no rei  (deteike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an in no rei (deteike ) munasisa no rei (dete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しゅよたちあがっ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高くかかげ　この地にしめそ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高くかかげ　この地にしめ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方こそ　唯一の天国への道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　主イエスを　主イエスを高くかかげ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ップバイ　ステップ　前進して　この地を　とりもどそ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ある武器で　要塞はくずれる　ダウン　ダウン　ダウ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takaku kakage konochi ni shimes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kata koso yuiitu no tengoku e no mich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shu iesu o shu iesu o takaku kakage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tep by step zenshin shite kono chi o torimodos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aru buki de yousai wa kuzureru down dow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をたかくかかげこのちにしめそ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高くかかげ　この地にしめそ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1027"/>
          <p:cNvSpPr/>
          <p:nvPr/>
        </p:nvSpPr>
        <p:spPr>
          <a:xfrm>
            <a:off x="152280" y="68580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WE WANT TO SEE JESUS LIFTED HIG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BANNER THAT FLYS ACROSS THIS L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ALL MEN MIGHT SEE THE TRUTH AND KN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THE WAY TO HEAV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ANT TO SEE,WE WANT TO SE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ANT TO SEE JESUS LIFTED HIGH (2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EP BY STEP WE'RE MOVING FORWA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TTLE BY LITTLE TAKING GROU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VERY PRAYER A POWERFUL WEAP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RONG HOLDS COME TUMBL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OWN DOWN DOW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をたかくかかげこのちにしめそ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を高くかかげ　この地にしめそ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027"/>
          <p:cNvSpPr/>
          <p:nvPr/>
        </p:nvSpPr>
        <p:spPr>
          <a:xfrm>
            <a:off x="152280" y="68580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Queremos a Crist proclam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un estandarte levant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toda la gente pueda 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el es el camino al ciel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remos ver, Queremos ve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Jesucristo como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so a paso hacia el fren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co a poco a ga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la oracion los fortalez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as caen, todas caen y caen y ca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いえすをたかくかかげこのちにしめそ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7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ロー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6:19 S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omans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16:19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ays (*2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善にはさとく　悪にはうとく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神は　すみや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足で　踏み砕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神は　悪魔のかし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足で　踏み砕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romans  16 : 19  says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 niwa satoku  aku niwa utok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kami wa  sumiyaka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asi de  fumi kud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kami wa  akuma no kasi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asi de  fumi kud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ろー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8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賛美で進みゆこう主のそば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1027"/>
          <p:cNvSpPr/>
          <p:nvPr/>
        </p:nvSpPr>
        <p:spPr>
          <a:xfrm>
            <a:off x="152280" y="228600"/>
            <a:ext cx="886932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で　進みゆこう　主のそば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感謝の心をもって　主の前で祝お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天に目を向け　力受け  叫べ「ハレルヤ」賛美の　とどろきで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は高き御座に　ふさわしい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よささげます　この賛美を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わが全ては　主を求め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　恵み　あわれみ　力と権威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おどろう　歌おう　声をあげて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はわれらを　自由にされた 賛美で満たされる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1028"/>
          <p:cNvSpPr/>
          <p:nvPr/>
        </p:nvSpPr>
        <p:spPr>
          <a:xfrm>
            <a:off x="119160" y="53352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bi de susumi yukoo  shu no soba 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nsha no kokoro o motte  shu no mae ni iwao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en ni me o muke chikarauke sakebe hallelujah sanbi no todoroki d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wa takaki miza ni  fusawasii ka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yo sasagemasu  kono sanbi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ga subete wa  shu o motom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 megumi  awaremi  chikara to ken 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doro  utao  koe o aget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wa warera o jiyuu ni saret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bi de mitas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んびですすみゆ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8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賛美で　進みゆこう　主のそば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1027"/>
          <p:cNvSpPr/>
          <p:nvPr/>
        </p:nvSpPr>
        <p:spPr>
          <a:xfrm>
            <a:off x="152280" y="380880"/>
            <a:ext cx="8869320" cy="9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WE COME INTO YOUR PRESENCE WITH SING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COME INTO YOUR PRESENCE WITH PRAI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ENTER YOUR GATES WITH THANKFUL HEARTS</a:t>
            </a: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WE ARE GOING TO CELEBRAT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ALL OF HEAVENS WAITING POWER IS ON IT'S WAY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SO WE SHOUT ' HALLELUJAH'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LIFTING TO YOU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A MIGHTY ROAR OF PRAI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YOU DESERVE THE HIGHEST PRAI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THAT WE CAN GIVE AND MOR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LORD WE GIVE YOU OUR PRAIS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THAT'S WHAT WE CAME HERE FO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EVERYTHING WITHIN ME  REACHES OUT TO YOU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YOUR POWER AND MAJESTY  GRACE AND MERCY TOO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THERE'LL BE SINGING AND DANC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HEATS AND VOICES RAIS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YOU HAVE SET YOUR PEOPLE FRE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NOW THE HOUSE IS FILLED WITH PRAIS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んびですすみゆ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0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心造り変えたま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　心　　つくりかえ　たま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ふれでる　めぐみの　なか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よわさ　とりさり　たま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ちからづよい　あなたの愛で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そばに　抱き寄せ　たまえ　あなたの　愛の中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しのように　私はのぼ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抱かれ　　今羽ばたく　主イエスの　愛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tsukuri kae tama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fure deru megumi no nakad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yowasa torisari tam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zuyoi anatano aid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sobani dakiyose tamae anatano ainonak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shi no youni watashiwa nobo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i idakare imahabataku shi iesu no a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こころつくりかえたま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7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主の御顔を仰ぎ見つめれば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152280" y="68580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 look into Your holin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 gaze into Your lovelin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all things that surround become shadow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n the light of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've found the joy of reaching Your hea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my will become enthroned in Your lo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all things that suround become shadow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n the light of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orship You I worship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reason I live is to worship Yo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しゅのみかおをあおぎみつめれ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0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心造り変えたま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英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2051"/>
          <p:cNvSpPr/>
          <p:nvPr/>
        </p:nvSpPr>
        <p:spPr>
          <a:xfrm>
            <a:off x="152280" y="22860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"LORD, I COME TO YOU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ET MY HEART BE CHANGED, RENEWED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FLOWING FROM THE GRAC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AT I'VE FOUND IN YOU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ORD I'VE COME TO KNOW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E WEAKNESSES I SEE IN M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WILL BE STRIPPED AWAY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BY THE POWER OF YOUR LOV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HOLD ME CLOS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ET YOUR LOVE SURROUND M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BRING ME NEAR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DRAW ME TO YOUR SID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AS I WAIT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I'LL RISE UP LIKE THE EAGL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I WILL SOAR WITH YOU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YOUR SPIRIT LEADS ME ON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IN THE POWER OF YOUR LOVE.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2052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2053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2054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こころつくりかえたま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山と海を越えて神の川が流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1027"/>
          <p:cNvSpPr/>
          <p:nvPr/>
        </p:nvSpPr>
        <p:spPr>
          <a:xfrm>
            <a:off x="2746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山と海を超えて　神の川が流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開き神の　愛と癒し受け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真理の中に生きる　喜びを歌おう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両手を挙げて神の　愛を受け取ろう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よあなたの愛を　とこしえまで歌いたい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喜び踊ろう　愚かに見えても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真理の光　この世に示すために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1028"/>
          <p:cNvSpPr/>
          <p:nvPr/>
        </p:nvSpPr>
        <p:spPr>
          <a:xfrm>
            <a:off x="119160" y="63504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ama to umiwo koete kami no kawaga nag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hiraki kamino ai to iyashi uk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inri no nakani ikiru yorokobiwo utao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ryoute wo agete kamino aiwo uke torou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yo anatano aiwo tokoshie made utaitai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orokobi odorou orokani mietemo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inri no hikari konoyoni shimesu tame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まとうみをこえてかみのかわがなが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1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山と海を越えて神の川が流れ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1027"/>
          <p:cNvSpPr/>
          <p:nvPr/>
        </p:nvSpPr>
        <p:spPr>
          <a:xfrm>
            <a:off x="152280" y="43668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OVER THE MOUNTAINS AND THE SE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YOU RIVER RUNS WITH LOVE FOR M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I WILL OPEN UP MY HEAR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LET THE HEALER SET ME FRE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'M HAPPY TO BE IN THE TRUTH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I WILL DAILY LIFT MY HAND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I WILL ALWAYS S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OF WHEN YOUR LOVE CAME DOW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COULD SING OF YOUR LOVE FOREV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COULD SING OF YOUR LOVE FOREV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OH I FEEL LIKE DANC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T'S FOOLISHNESS I KNOW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BUT WHEN THE WORLD HAS SEEN THE LIGH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HEY WILL DANCE WITH JO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LIKE WE'RE DANCING N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まとうみをこえてかみのかわがなが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たたえよ主が来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ろびと　こぞりて　むかえまつ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ひさしく　まちに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きませり　主はきませ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　主はきませり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robito  kozorite  mukae mats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sasiku  machi ni 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kimaseri  shu wa kimase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 shu wa kimas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たたえよしゅがこ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たたえよ主が来られ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OY TO THE WORLD  THE LORD IS CO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EATH RECIEVE HER K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EVERY HEART  PREPARE HIM RO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EAVEN  AND NATURE SING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EAVEN  AND NATURE S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HEAVEN  AND HEAVEN  AND  NATURE 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たたえよしゅがこ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4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闇の力滅ぼし闇に光もたら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みの力　ほろぼし やみに光　もたら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つみより 人をすくう　主をのべつたえ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らわれ人に自由　新しい　いのち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ために　イエスがうまれた　主をのべつたえ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 栄光あれ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のべつたえ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i no chikara  horobosi yami ni hikari  motar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 yori  hito o sukuu shu o nobetsuta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rawarebito ni jiyuu atarasii  inoch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tameni  iesu ga umaret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nobetsuta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eikoo 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nobetsuta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みのちからほろぼしやみにひかりもたら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魂は主イエスをたた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魂は　あなたを　たた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主　救い主　喜び　歌お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たしに　目を　止め　力と権威で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　み業をなされる　聖なる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魂は　あなたを　たた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sii wa  anata o  tat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hu  sukuinusi yorokobi  uta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tasi ni  me o  tome chikara to ken 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  miwaza o nasareru seinaru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sii wa anata o  tata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はしゅいえすをたた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ここに主が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こに　主がおられ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いほう　いやし　悪のしわざ　こわすた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いほう　いやしのため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　主が　ここに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 ni shu ga orarer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ihou iyashi akunoshiwaza kowasut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ihou iyashi no tame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(shuga shuga kokoni)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こにしゅがお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ここに主がおられ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EL SENOR ESTA EN ESTE LUGAR 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ANAR, PARA LIB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ROMPER TODA OBRA DE MALDAD (*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ANAR, PARA LIBRAR MI ALM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SENOR, EL SENOR, EL SENOR !ESTA AQUI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ここにしゅが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7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オー主の御霊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　主の御霊よ　とうとい　油　そそいで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　主の御霊よ　今　私を　みたしてくだ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らい　きよ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新しく  してください　  主の力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らい　きよめ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新しくしてください　主よ愛しま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 shu no mitama yo tootoi  abura   sosoid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 shu no mitama yo ima  watasi o  mitasi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rai kiyomete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iku  sitekudasai  shu no chikara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rai kiyom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iku sitekudasai  shu yo ais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ーしゅのみたま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9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よ私を新しく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よ　私を　   新しく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心を　  うつして下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あなたに変えられたい　私の心　全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がもっと必要です　わが主イエス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yo  watashi o  atarashiku sh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kokoro o  utsushi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anata ni kaeraretai watashi no kokoro sub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ga motto hitsuyoo desu waga shu ies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よわたしをあたらしくし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7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オー主の御霊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//VEN ESPIRITU VEN, Y LLENAME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TU PRECIOSA UNCION.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URIFICAME Y LAVAM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NUEVAME, RESTAURAME, SENO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TU PODER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URIFICAME Y LAVAM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NUEVAME, RESTAURAME, SENO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QUIERO CONOC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おーしゅのみたま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愛します　愛します　主イエスキリス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します　愛します　主イエスキリスト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４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手が　われにのぞみ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をみたし　なぐさめ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れゆえ　とわに　主よ　　愛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 shimasu ai shimasu shu iesu kirisut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tega ware ni nozo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o mitashi nagasa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e yue towani shu yo ai  shimas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いしますあいしますしゅいえすきりす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29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愛します　愛します　主イエスキリス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mare te amare te amare oh mi Cris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sentido hoy tu mano sobre m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sentido tu calor cerca de m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por eso yo te digo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 siempre te am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あいしますあいしますしゅいえすきりす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0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霊がここに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　御霊がここにおられる　ダビデのように　歌おう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　歌おう　歌おう　ダビデのように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　御霊がここにおられる　ダビデのように　踊ろう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　おどろう　おどろう　ダビデのように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３　御霊がここにおられる　ダビデのように　喜ぼう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　喜ぼう　喜ぼう　ダビデのように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 ga koko ni orareru davide no yooni  utaoo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oo  utaoo  davide no yooni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 ga koko ni orareru davide no yooni  odoroo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doroo  odoroo  davide no yooni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ga koko ni orareru davide no yooni  yorokobo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oo  yorokoboo  davide no yoo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たまがここにおられるだびでのよう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1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近づきた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ust to be close to you (*3) Is my desir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近づきたい　近づきたい　近づきたい　それが望み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st to be close to you  is my desir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zukitai chikazukita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zukitai sore ga nozom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づきた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1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近づきた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ust to be close to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ust to be close to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ust to be close to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s my 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づきた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3 A W free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御霊がここに　みちあふれ　自由と解放　わがうち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天に目を向けよ　そこには　自由と愛が　あふれてる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ちあふる自由が　この地を治め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恵みと哀れみ振り注ぐ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疲れたあなたに　解放を　　乾いたあなたに　自由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にすべてを　捧げれば　あなたも自由を　受けと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が疲れて　乾くなら　主にある　自由を　あたえ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にすべてを捧げれば　あなたも自由を　受けと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Text Box 1028"/>
          <p:cNvSpPr/>
          <p:nvPr/>
        </p:nvSpPr>
        <p:spPr>
          <a:xfrm>
            <a:off x="119160" y="635040"/>
            <a:ext cx="879624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tamaga kokoni michiafure jiyuu to kaihoo  waga uchi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n ni me o mukeyo  sokoniwa jiyuu to ai ga  afuret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chiafuru jiyuu ga kono chi o osam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egumi to awaremi furisosog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sukareta anata ni kaihoo o kawaita anata ni jiyuu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i subete o  sasagereba anata mo jiyuu o  uketo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ga tsukarete kawakunara shu ni aru jiyuu o atae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i subete o sasagereba anata mo jiyuu o uketoru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ふりーだ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3 A W freedom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 THE SPIRIT OF THE LORD IS THERE IS FREEDOM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FT YOUR EYES TO HEAVEN THERE IS FREEDOM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EEDOM (JESUS) REIGNS IN THIS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OWER OF MERCY AND GR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ALLING ON EVERY FACE THERE IS FREEDOM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F YOU'RE TIRED AND YOU'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IRSTY THERE IS FREEDOM X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IVE YOUR ALL TO JESUS  THERE IS FREEDOM *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ふりーだ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力なる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Text Box 1027"/>
          <p:cNvSpPr/>
          <p:nvPr/>
        </p:nvSpPr>
        <p:spPr>
          <a:xfrm>
            <a:off x="152280" y="206280"/>
            <a:ext cx="886932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が力なる主　われを強めたも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は　わがすべ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を尽くして　あなたを求める　主はわが　かみ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＊イエス　かみの　こひつじ　主に　その御名に　ほまれあれ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が罪あがない　十字架にて死な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よみがえられたイエス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がやまい　いやし　渇きみたされる　主はわが　かみ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Text Box 1028"/>
          <p:cNvSpPr/>
          <p:nvPr/>
        </p:nvSpPr>
        <p:spPr>
          <a:xfrm>
            <a:off x="119160" y="527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gachikaranarushu warewo tsuyometamo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wa waga sube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wo tsukushite anatawo motomeru shuwa wagakami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kamino kohitsuji shuni sonominani homareare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gatsumi agaanai jyuujikaniteshin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omigaerareta ie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gayamai iyashi kawaki mitasareru shuwa wagak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ちから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3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力なる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Text Box 1027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YOU ARE MY STRENGTH WHEN I AM WEA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THE TREASURE THAT I SEE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MY ALL IN A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EKING YOU AS A PRECIOUS JEW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, TO GIVE UP I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ﾕ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 BE A FOO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MY ALL IN A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 LAMB OF GOD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ORTHY IS YOUR NAME (X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AKING MY SIN, MY CROSS, MY SHAM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ISING AGAIN, I BLESS YOUR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YOU ARE MY ALL IN A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 FALL DOWN, YOU PICK ME 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ﾕ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 DRY, YOU FILL MY C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MY ALL IN ALL 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ちから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39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よ私を新しくし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Renuevame, Senyor Jesus ya no quiero ser ig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nuevame, Senyor Jesus pon en mi Tu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todo lo que hay dentro de m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ecesita ser cambiado,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todo lo que hay dentro de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ecesita mas de T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いえすよわたしをあたらしく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3 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あ主を祝おう　１２曲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Text Box 1027"/>
          <p:cNvSpPr/>
          <p:nvPr/>
        </p:nvSpPr>
        <p:spPr>
          <a:xfrm>
            <a:off x="152280" y="228600"/>
            <a:ext cx="8869320" cy="9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さあ　主を祝おう　イエスの勝利を　歌い　踊ろう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死を　打ち破り　サタンの仕業を　うち砕く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　神の御子　罪の赦し・救い・与え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　救い主　われらの命を　造りかえ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十字架の処刑の後　マリアはイエスを　さがした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御使い　石転がし　お墓は空っぽ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マリアは　泣き崩れた　イエス　のからだが　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何処にも　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御使いが語りかけた　イエスキリスト　蘇っ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1028"/>
          <p:cNvSpPr/>
          <p:nvPr/>
        </p:nvSpPr>
        <p:spPr>
          <a:xfrm>
            <a:off x="119160" y="533520"/>
            <a:ext cx="879624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a shu o iwaou iesu no syouri o utai odoro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 o utiyaburi satan no shiwaza o uchikudak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kami no miko tsumi no yurushi sukui ata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sukuinushi warera no inochi o tsukurika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juujika no syokei no ato maria wa iesu o sagashi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tsukai ishi korogashi ohka ha karapp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aria wa naki kuzureta iesu no karada g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doko nimo na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tsukai ga katari kaketa iesu kirisuto yomiga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1031"/>
          <p:cNvSpPr/>
          <p:nvPr/>
        </p:nvSpPr>
        <p:spPr>
          <a:xfrm>
            <a:off x="71280" y="-380880"/>
            <a:ext cx="47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4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霊の油注ぎ私を造りか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霊の油注ぎ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をつくりかえ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すべて　御霊の力にみたされ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たらしく　かえられ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tama no abura sosog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iii o tsukurikaer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ubete mitama no chikara ni mitasar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iku  kaerare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たまのあぶらそそぎわたしをつくりか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4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霊の油注ぎ私を造りかえ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y una uncion aqui cayendo sobre mi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udandome cambiando mi ser(2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espiritu y mi alma se esta llenand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el poder de tu Espiritu San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vida nunca mas sera igual(2X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みたまのあぶらそそぎわたしをつくりか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6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からし種ひとつほどの信仰があれ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らし種ひとつぶほどの　信仰があれば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山に向い　さあ　叫べ　動け　動け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山は　動く　動く　動く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rasidane hitotsubu no  sinkoo ga areba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a ni mukai  saa sakebe  ugoke  ugoke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yama wa  ugoku  ugoku  ugok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らしだねひとつぶほどのしんこうがあれ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6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からし種ひとつほどの信仰があれば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Si tuvieras fe como un grano de mostaza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o lo dijo el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le dirias a esa montaNa, muevete, muevete (2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a montaNa se movera, se movera, se movera (2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らしだねひとつぶほどのしんこうがあれ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ワインをもっ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1027"/>
          <p:cNvSpPr/>
          <p:nvPr/>
        </p:nvSpPr>
        <p:spPr>
          <a:xfrm>
            <a:off x="152280" y="142920"/>
            <a:ext cx="8869320" cy="12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ワインをもっと　主のワインをもっと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ワインをもっと　主のワインをもっと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ワインをもっと　のませてください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みこころのまま　どうにでもして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みこころのまま　どうにでもして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みこころのまま　ふれてください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ほのお　主の油　主のワイン　この場所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ほのお　主の油　主のワイン　おくって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ほのお　主の油　主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もっともっともっともっと・・・  ます　ます　ます　ます・・・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1028"/>
          <p:cNvSpPr/>
          <p:nvPr/>
        </p:nvSpPr>
        <p:spPr>
          <a:xfrm>
            <a:off x="119160" y="380880"/>
            <a:ext cx="879624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wainnwo motto sgunowainnwo mott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wainnwo motto shunowainnwo mott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wainnwo motto nomasetekudasa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ikokoronomama dounidemoshite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ikokoronomama dounidemoshit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ikokoronomama furetekudasa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honoo shunoabura shunowainn konobasho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honoo shunoabura shunowainn okutt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nohonoo shunoabura shuy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otto motto motto motto masumasu masumasu masum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わいんをもっ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8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シャルーシャローム　エルシャライ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ーム　エルシャライム（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4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ーム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ルーシャローム　エルシャライ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ルサレム　エルサレムの平和のために祈れ（＊２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前を愛する人々が栄えるよう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erusalim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lu shalom erusalim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rusaremu erusremuno heiwa no tameni in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mae wo aisuru hitobito ga sakaeru yo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ゃるーしゃろ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9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風よ聖霊の風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風よ聖霊の風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からふけ　今この地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の流れが  この地いや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リバイバルのため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武具を  身につけていざ戦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zeyo seireino kaz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nkarafuke ima konochi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no nagarega konochiiy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ribaibarunotame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buguwo minitsukete izatatak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ぜよせいれいのかぜ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49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風よ聖霊の風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 HOLY GHOST, YOU WONDERFUL HOLY GHOS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WIND BLOWING STRONG, BLOWING FROM HEAVE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HAVE DECIDED TO GO, ALL THE WAY WITH OUR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VIVAL IN THE LAND THIS I KN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SOLDIERS IN HIS ARMY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FIGHT WITH HEART AND SOUL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ぜよせいれいのかぜ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の勝利のは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Text Box 1027"/>
          <p:cNvSpPr/>
          <p:nvPr/>
        </p:nvSpPr>
        <p:spPr>
          <a:xfrm>
            <a:off x="152280" y="30492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の勝利のはた　かかげ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の勝利のはた　高くかかげ　感謝ささげよう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１）罪のため　死にくだり　三日後に　よみがえら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　みことばをあかしされ　ひとびと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　その恵みと力を　あらわされた　勝利の主イエス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２）主イエス　キリスト　国々の　希望の光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　いたんだ　葦をおらず　くすぶる燈心を　消すことなく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　義をもたらす　勝利の主イエス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1028"/>
          <p:cNvSpPr/>
          <p:nvPr/>
        </p:nvSpPr>
        <p:spPr>
          <a:xfrm>
            <a:off x="119160" y="635040"/>
            <a:ext cx="879624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o shoori no hata kakaga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no shoori no hata  takakukakage kansha sasageyo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sumino tame shinikidari mikkagoni yomigaer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kotobao akashisare hitobito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no megumito chikarao arawasareta   shoori no shu ie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kirisuto kuniguni no kiboo no hikar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tanda ashi o orazu kusuburu tooshino kesikotonak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gi o motarasu shoori no shu iesu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のしょうりのは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全能のほむべき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Majestuoso, poderoso, digno de lo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roclamemos Su grandeza h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cristo es Rey, Jesucristo es R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strados hoy ante Sus pies Jesucristo es Rey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おおいなるぜんのうのほむべきし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2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愛はみつより甘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は　蜜より甘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あわれみは　日毎新しい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だから主をあがめ　だから主に仕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愛の全て　ささげる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wa  mitsu yori am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waremi wa  higoto atarashi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kara shu o agame dakara shu ni tsuk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ai no subete  sasage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いはみつよりあま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の勝利のはた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1027"/>
          <p:cNvSpPr/>
          <p:nvPr/>
        </p:nvSpPr>
        <p:spPr>
          <a:xfrm>
            <a:off x="152280" y="68580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のしょうりのは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1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は　生き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は　生きている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３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手に　私の足に　私の心に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ふれる　あふれる　あふれる　あふ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油注ぎ　私の内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wa  ikiteiru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te ni watasi no asi ni watasi no kokoro 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fureru  afureru afureru  afu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bura sosogi  watasi no uchi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はいきてい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1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は　生きてい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1027"/>
          <p:cNvSpPr/>
          <p:nvPr/>
        </p:nvSpPr>
        <p:spPr>
          <a:xfrm>
            <a:off x="152280" y="68580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isto no esta muerto esta viv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isto no esta muerto esta viv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いえすはいき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2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心の目を開い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心の　目をひらい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あなたを　見たいから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高くかかげます　栄光の雲のな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注いで愛と力　歌う聖なる主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よ　聖なる主よ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よ　見上げま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no kokoro no me wo hira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anata wo mitai kara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kaku kakagemasu eikou no kumo no nak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soide ai to chikara utau seinaru shu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shuyo seinaru shuyo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shuyo miag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こころ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2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心の目を開い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OPEN THE EYES ON MY HEART, LORD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PEN THE EYES ON MY HEAR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ANT TO SEE YO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ANT TO SEE YOU(X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 SEE YOU HIGH AND LIFTED U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INING IN THE LIGHT OF YOUR GL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UR OUT YOUR POWER AND LO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WE SING HOLY, HOLY, HO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LY, HOLY, HOLY HOLY, HOLY, HO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LY, HOLY, HOLY I WANT TO SEE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こころ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2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心の目を開い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bre mis ojos oh Cris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re mis ojos te pi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quiero Ver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templar tu majes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l resplandor de Tu Gl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rrama tu amor y Pod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uando cantamos santo, san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わたしのこころ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3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くすしき御わ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　くすしき御わざ　数えきれぬ恵み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朝に夕に　あなたをもとめ　主の御名　たたえよ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日毎に　あなたをしたい　おしよせる　恵み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ちあふる　御わざを思い　わが　すべてでほめよ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偉大な力と　主の御わざ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支配と権威は　とこしえ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栄光　御力　全地に満ちあふる　大いなる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 no kusushiki miwaza kazoe kire nu megum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sani yuuni anatao motome shu no mina tataeyo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igoto ni anata o shitai oshi yoseru megum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chi afura miwaza o omoi waga subete de homeyo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dai na chikara to shu no miwaz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ihai to ken iwa tokoshie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o michikara zen chini michiafuru ooi naru shu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くすしきみわ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3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くすしき御わざ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1027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as aumentado oh Dios! tus maravil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umerarlas no pue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 yo anunciare y hablare de el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hay tiempo para ter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aumentado oh Dios! tus maravil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ya no puedo contarla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sericordia me das dia tras 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canto en mi boca esta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s son tus obras poder y majes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yo es todo imperio toda gloria y potes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s tu domini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universo lleno est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tu pod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res T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あなたのくすしきみわ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4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はわれにあ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は　われにあり　主イエスの御名により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信頼せよ　主が戦わ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は　われにあ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ori wa  ware ni ari shu iesu no mina ni yor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sinrai seyo  shu ga tatakaw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ori wa  ware ni 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ょうりはわれにあ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4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勝利はわれにあ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Victoria, La victoria mia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ictoria, La victoria mia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 mantengo mi paz El pelea la batall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ictoria, La victoria mia 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ょうりはわれにあ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2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愛はみつより甘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u amor por mi es mas dulce que la mi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Tu misericordia es, nueva cada 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amor por mi es mas dulce que la mi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Tu misericordia es, nueva cada 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por eso que Te alab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s por eso que Te sirv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s por eso que Te doy, todo mi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por eso que Te alab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s por eso que Te sirv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es por eso que Te doy, todo mi am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あいはみつよりあま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5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と権威で死の力滅ぼ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と権威で　死の力滅ぼ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の御座につき　とわにおさめる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に満ちた　唯一の主権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　主の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をまとい　誉れと支配　とこしえま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叫べ　声あげよ　なぐさめぬし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歌え　主の御名は　平和の君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to ken i de shi no chikara  horobo 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no mizani tsuki towa ni osam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ni michita  uyitsu no shuk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o oo shu no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 koo o matoi homare to shihai tokoshie ma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sakene koe ageyo nagusame ni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utae shu no mina wa heiwano kim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とけんいでしのちからほろぼ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6 D P come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主をあが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今　主をあがめ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今　心ささげ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ありのまま主を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さあ来てたたえよう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来たる日に　すべての者　主イエスを　拝す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主を　あがめるもの　なんと　幸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ome ima shu o ag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ome ima kokoro sas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ome arino mama shu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ome sa a kite tatae you com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taru hini subeteno mono shu iesu o mai su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shuo agameru mono nan to saiwa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むいましゅをあが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6 D P come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主をあがめ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OME, NOW IS THE TIME TO WORSHI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, NOW IS THE TIME TO GIVE YOUR HEA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, JUST AS YOU ARE TO WORSHI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, JUST AS YOU ARE BEFORE YOUR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NE DAY EVERY TONGUE WILL CONFESS YOU ARE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NE DAY EVERY KNEE WILL B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ILL THE GREATEST TRESURE REMAINS FOR TH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O GLADLY CHOOSE YOU NOW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むいましゅをあが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6 D P come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主をあがめ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Text Box 3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Ven, es hora de adorar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, abre tu corazon a 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, ante su trono estam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n, ante la majestad de Dios, V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a lengua confesara que El es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s rodillas se doblar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un tesoro eterno tendras en e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 escojes su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res rey .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6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かむいましゅをあが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たたえよう 主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3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名　たたえよう  主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ささげよう  永久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をたたえよ　 主の御力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神　大いなる みわざ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神　主の栄光　大いなる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（主イエスをたたえ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Text Box 4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na  tataeyoo  sh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sasageyoo  tow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o tataeyo  shu no michikara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ru kami  ooinaru  miwaz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ru kami  shu no eikoo   ooinaru 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(shu iesu o tataeyo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なたたえよう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名たたえよう 主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051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Bueno  es alabar te Senor, tu nomb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rte honra y gloria Senor, por siemp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ueno es alabarte Jesus y gozarme en tu pod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grande eres t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s son tus obr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grande eres t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s tu amor, grande es tu glor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052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053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054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みなたたえようしゅ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8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おおいなるわが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いなる　わが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平和の主の　りんざ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きずついた　心いや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りんざいの　中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waga 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iwa no shu no rinz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zutsuita kokoro iyas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rinzai no nak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わが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59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へヴェヌ　シャーローム　アレィヘ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へヴェヌ　シャーローム　アレィヘム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へヴェヌ　シャーロム　シャーロ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シャーロム　アレィヘ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venu sharomu a reihem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evenu sharomu  sharom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aromu a reihem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へべ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0 D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たそがれの山々　いろはえ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たそがれの山々　いろはえて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松の香ただよい　鐘の音ひびく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夢を見ているような　エルサレム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城壁見上げて　一人たたず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ェルシャライム　シャルザハヴ　夕日に　かがやき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は　主をほめる　たてごとで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おうごんの　みやこ　夕日に　かがやき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は　主をほめる　たてごと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asogare no yamayama  iro wa haet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atsu no kaori tadayoi  kane no ne hibik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ume o miteiru yoona  erulalemu y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joori miagete  hitori tatazum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rusha laimu  sharuzahav yuuhi ni  kagayak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i wa shu o homeru tategoto d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ogon no  miyako yuuhi ni  kagayak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i wa  shu o homeru  tategoto de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そがれのやまや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主よオリーブの木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主よオリーブの木に　わたしをつくりかえ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宮の中に　わたしを植えてくだ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油注ぎ　豊かにあたえて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注いで　主の油を　頭から　つま先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shu yo oribu no ki ni watashi wo tesukuri ka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ya no naka ni watashi wo ue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abura sosogi yutaka ni ataete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soide shu no abura wo atama kara tsumasaki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しゅよおりーぶのき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3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栄光をあお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を　仰ぎ　あなたのことを　もっと知りた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わが陶器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を砕いて　つくりかえて下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ように    なりたい　もっと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霊で満たして主の愛をうつして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eikoo o  aogi anata no koto o  motto shirit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waga tookish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o kudaite  tsukuri kae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yooni  naritai  mott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 de mitashite shu no ai o utsush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えいこうをあお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主よオリーブの木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Yo quiero ser un arbol de Oliv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el  centro de Tu templo  (X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quiero ser ungido por Ti (X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rrama aceite desde la cabe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ta los pies ungeme, Sen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わがしゅよおりーぶのき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家はおどりだ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いえはおどりだし　よろこびがまち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不義は主にひれふし　人はかえられる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山から　谷へと　主のうた　ひびけ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すべての　国民　賛美で　みたせ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十字架により歩むとき　光は闇を照らす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水が海に満ちるように　全地は栄光に満ち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ハレルヤ　ハレルヤ　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ie wa odori dasi  yorokobi ga machi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fugi wa shu ni hirefusi  hito wa kaerareru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ama kara  tani eto  shu no uta hibik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bete no kunitami sanbi de  mitase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juujika ni yori ayumu toki  hikari wa yami o teras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zu ga umi ni michiru yooni zenchi wa eikoo ni michi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allelujah  hallelujah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いえはおどりだ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家はおどりだし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1027"/>
          <p:cNvSpPr/>
          <p:nvPr/>
        </p:nvSpPr>
        <p:spPr>
          <a:xfrm>
            <a:off x="152280" y="763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Y OUR HOMES BE FILLED WITH DANC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Y OUR STREETS BE FILLED WITH JO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Y INJUSTICE BOW TO JES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THE PEOPLE TURN AND PR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MOUNTAIN TO THE VALL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R OUR PRAISES RISE TO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HEAVENS TO THE NA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R THE SINGING FILL THE AI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Y A LIGHT SHINE DARKN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WE WALK BEFORE THE CRO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Y YOUR GLORY FILL THE WHOLE EAR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S THE WATER OVER SE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LLELUJA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いえはおどりだ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家はおどりだし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1027"/>
          <p:cNvSpPr/>
          <p:nvPr/>
        </p:nvSpPr>
        <p:spPr>
          <a:xfrm>
            <a:off x="152280" y="6858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LENAS NUESTRO HOGAR DE DANZ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TU GOZO LA CUID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 INJUSTICIA TU QUEBRANT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 SE HUMILLA TU HEREDAD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LOS MONTES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LOS VALLES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A SE ESCUCHA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L CLAMOR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LOS CIELOS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LOS PUEBLOS</a:t>
            </a: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A TE CANTAN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LUZ VENCE LAS TINIEBL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 ANDAR ANTE LA CRUZ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LENA TU GLORIA LA TIERR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EL MAR EN PLENITU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いえはおどりだ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3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強く激しいあなたの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強く激しいあなたの愛　わたしをとらえ　はなさ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つより甘い　あなたの愛　私をつくりかえ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やして　ください　あなたのその愛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たして　ください　あなたのその愛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yoku hagesii anata no ai watasi o torae  hanasa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su yori amai  anata no ai watasi o tsukuri ka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yasite kudasai anata no sono a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site kudasai anata no sono ai d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よくはげしいあなたのあ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4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前から恵み流れ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1027"/>
          <p:cNvSpPr/>
          <p:nvPr/>
        </p:nvSpPr>
        <p:spPr>
          <a:xfrm>
            <a:off x="152280" y="304920"/>
            <a:ext cx="886932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御前から　めぐみながれて  回復のときが来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くだかれた　心に　いやしのみ手は　のべられ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御前から　めぐみながれて  回復のときが来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とざされた　よろこびが　いかされてあふれる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＊救い主　イエスの御名が　いのちを　あたえ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  救い主　イエスの御名が　力を　あたえ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  救い主　イエスの御名が　いやしを　あたえ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  救い主　イエスの御名が　喜び　あた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1028"/>
          <p:cNvSpPr/>
          <p:nvPr/>
        </p:nvSpPr>
        <p:spPr>
          <a:xfrm>
            <a:off x="119160" y="635040"/>
            <a:ext cx="8796240" cy="9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mimae kara magumi magarete kaifuku no toki ga ku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dakareta kokoro ni  iyasi no mite wa noberar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mimae kara  megumi nagarete kaifuku no toki ga ku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zasareta  yorokobi ga ikasarete afurer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* sukuinusi iesu no mina ga  inochi o ata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 sukuinusi iesu no mina ga chikara o ata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 sukuinusi iesu no mina ga iyasi o ata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 sukuinusi iesu no mina ga yorokobi 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まえからめぐみながれ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より王よ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より　王より　つくられた　すべてより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人の知恵　思いよりも　先におられた主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権力も　権威も　いかにすぐれたわざで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富　集めても　あなたに及ばな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に　かかられて　死にまで　従わ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身代わりと　なられて　背負われた　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yori  oo yori  tsukurareta  subete yori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to no chie  omoi yorimo  saki ni orareta shu 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enryoku mo ken i mo  ikani sugureta waza de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tomi  atsumetemo  anata ni oyoban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juujika ni  kakararete  si ni made  sitagaw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watasi no migawari to  nararete  seowareta sh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よりおうよ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より王よ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POWERS ABOVE ALL KING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NATURE AND ALL CREATED THING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WISDOM AND ALL THE WAYS OF M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WERE HERE BEFORE THE WORLD BEG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KINGDOMS ABOVE ALL THRON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WONDERS THE WORLD HAS EVER KNOW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WEALTH AND  TREASURES OF THE EAR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RE'S NO WAY TO MEASURE WHAT YOU'RE WOR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RUCIFIED AND LAID BEHIND A STO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LIVED TO DIE REJECTED AND ALO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KE A ROSE TRAMPLED ON THE GROU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TOOK THE FALL AND THOUGHT OF 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BOVE 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よりおうよ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6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ここに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がここに　おられる　聖霊が　ここで　なが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なぐさめを　あたえ　解放をあた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ちびくために　聖霊が　おられ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ながれよ　わが内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思いと　心を　つくりかえ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の愛で　みたしてください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 ga koko ni  orareru seirei ga kokode  nag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gusame o  atae kaihoo o a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chibiku tame ni  seirei ga  orar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gare yo  waga uchi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omoi to  kokoro o tsukurikae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 no ai de  mitasite 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れいがここにお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6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ここにおられ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Espiritu de Dios esta en este lug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piritu de Dios se mueva en este lug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ta aqui para consol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ta aqui para liber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ta aqui para guiar El Espiritu de Dios esta aqu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ueve en mi, mueve en m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ma mi mente y coraz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lena mi vida de tu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ueve en mi, Dios Espiritu, mueve en m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せいれいがここに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3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栄光をあおぎ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De gloria en gloria te veo cuanto mas te conozc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iero saber mas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Dios cual buen alfarero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brantame, transformam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oldeame a Tu imagen, SeN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//Quiero ser mas como Tu ver la vida como T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aturarme de Tu Espirit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reflejar al mundo Tu amor//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reflejar al mundo Tu am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のえいこうをあお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わがやぐら力ある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がやぐら　力ある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敵のしわざを　打ち砕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苦難のときも　主は敵をまか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みの力おさえ　わが足元に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ga yagura  chikara aru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ki no siwaza o  uchi kud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an no toki mo  shu wa teki o maka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i no chikara osae  waga asimoto 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わがやぐらちからある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8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びの季節がやってき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1027"/>
          <p:cNvSpPr/>
          <p:nvPr/>
        </p:nvSpPr>
        <p:spPr>
          <a:xfrm>
            <a:off x="152280" y="228600"/>
            <a:ext cx="886932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喜びの季節がやってきた　花嫁よ　今目をさまし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花婿イエスを　見上げよ まもなく主が来られ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迎えに来られる花婿は　愛に満ちた主イエ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きてください　マラナタ　王の王　イエス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聖霊が豊かにのぞまれ　しみも傷もいやされた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踊れ踊れ　主の花嫁　　まもなく　主が来られ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私をえらばれた花婿は　勝利に満ちた　主イエ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きてください　マラナタ　主の主　イエスよ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踊れ踊れ主の花嫁　　踊れ踊れ　主の花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1028"/>
          <p:cNvSpPr/>
          <p:nvPr/>
        </p:nvSpPr>
        <p:spPr>
          <a:xfrm>
            <a:off x="119160" y="533520"/>
            <a:ext cx="8796240" cy="9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rokobinokisetugayattekita hanayomeyo imameosamas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amamuko iesu o  miageyo mamonaku shu ga korar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ukaeni korareru hamamuko wa ai ni michita shu ie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tekudasai  maranata  oo no oo  iesu 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eirei ga yutaka ni nozomare simi mo kizu mo  iyasare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doreodore shuno hanayome mamonaku shuga  korareru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tasio erabareta  hanamukowa shoorini michita shu ie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ite kudasai  maranata  shu no shu  iesu 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dore odore  shu no hanay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びのきせつがやってき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9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世のひかりやみにくだ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世のひかりやみにくだり　目をひらかせた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がめさせ　希望あたえる　うるわしいわが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ひれ伏し　いま　礼拝する　あなたこそわが神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うるわしいかた　とうとき神　すばらしい主イエス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いとたかき　全ての王　栄光の天から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へりくだり　地に来られた　ただ愛のゆ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わが罪を見る　十字架の上に  はかり知れない　十字架の代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1028"/>
          <p:cNvSpPr/>
          <p:nvPr/>
        </p:nvSpPr>
        <p:spPr>
          <a:xfrm>
            <a:off x="119160" y="63504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 no hikara yami ni kudari  me o hirakase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gamesase  kiboo ataeru  uruwasii waga sh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refusi  ima  reihai suru  anata koso waga kam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uruwasii kata  tootoki kami  subarasii shu ies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to takaki  subete no oo  eikoo no ten kar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erikudari  chi ni korareta  tada ai no yue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ga tsumi o miru  juujika no ue ni hakari sirenai  juujika no daika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のひかりやみにくだ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9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世のひかりやみにくだり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1027"/>
          <p:cNvSpPr/>
          <p:nvPr/>
        </p:nvSpPr>
        <p:spPr>
          <a:xfrm>
            <a:off x="152280" y="38088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"LIGHT OF THE WORLD YOU STEPPED DOW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NTO DARKNESS OPEN MY EYES  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LET ME SEE BEAUTY THAT MADE THIS HEART ADORE YOU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HOPE OF A LIFE SPENT WITH YOU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HERE I AM TO WORSHIP, HERE I AM TO BOW DOW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HERE I AM TO SAY THAT YOU'RE MY GO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YOU'RE ALTOGETHER LOVERLY, ALTOGETHER WORTHY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LTOGETHER WONDERFUL TO M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KING OF ALL DAYS, OH SO HIGHLY EXALT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GLORIOUS IN HEAVEN ABOVE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HUMBLY YOU CAME TO THE EARTH YOU CREAT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LL FOR LOVE'S SAKE BECAME POO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'LL NEVER KNOW HOW MUCH IT COS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O SEE MY SIN UPON THAT CROS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のひかりやみにくだ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0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キリスト愛する君私をつくりかえる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1027"/>
          <p:cNvSpPr/>
          <p:nvPr/>
        </p:nvSpPr>
        <p:spPr>
          <a:xfrm>
            <a:off x="152280" y="228600"/>
            <a:ext cx="886932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イエスキリスト　愛する君　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私をつくりかえる方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永遠の愛を　あたえる 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イエスキリスト　造り主　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私の罪を　ゆるす方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いのちのみことばを　あたえる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＊わが命　みちびきて　大いなる愛　よろこび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　　とわの父　治め主　わが愛をささげます（主よ）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1028"/>
          <p:cNvSpPr/>
          <p:nvPr/>
        </p:nvSpPr>
        <p:spPr>
          <a:xfrm>
            <a:off x="119160" y="533520"/>
            <a:ext cx="879624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iesu kirisuto ai suru kimi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watasi i tukuri kaeru kata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eien no ai o ataeru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iesu kirisuto tukurinusi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watasi no tumi o yurusukata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inuchi no mikotoba o ataeru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waga inochi muchibikite ooinaru ai yorokobi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towa no chichi osamenusi waga ai o sasage masu shuyo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きりすとあいするきみわたしをつくりかえる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1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こしえの門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の門よ　身を起こ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に輝く王が　来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強く雄々しく　戦われる主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万軍の主こそ　栄光の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ie no mon yo  mi o oko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i kagayaku oo ga  kor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yoku oosiku  tatakawareru shu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bangun no shu koso  eikoo no oo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とこしえのもん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せよ王なる主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1027"/>
          <p:cNvSpPr/>
          <p:nvPr/>
        </p:nvSpPr>
        <p:spPr>
          <a:xfrm>
            <a:off x="152280" y="2286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感謝せよ　王なる主に　　主の愛　とこしえ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すべてにまさる神　主の愛　とこしえに　主に　うたえ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力づよいみて　のばし　　主の愛　とこしえ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あたらしいいのち与える　主の愛　とこしえ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に　うたえ　　主に　うたえ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は　真実な方　とこしえまで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ともにおられる　とわに　　（</a:t>
            </a: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1028"/>
          <p:cNvSpPr/>
          <p:nvPr/>
        </p:nvSpPr>
        <p:spPr>
          <a:xfrm>
            <a:off x="119160" y="53352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anshya seyo oo naru  shuni shuno ai tokoshie 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beteni masaru kami shuno ai tokoshie ni shuni utae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chikara zuyoi mite noashi shuno ai tokoshie 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tarashii inochi ataeru shuno ai tokoshie 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ni utae shuni utae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wa shinjitu na kata tokoshie mad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tomoni orareru towan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んしゃせよおうなる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感謝せよ王なる主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GIVE THANKS TO THE LORD OUR GOD AND K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LOVE ENDURES FORE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GOOD AND HE'S ABOVE ALL THING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LOVE ENDURES FORE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NG PRAISE, SING PRAI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A MIGHTY HAND OUTSTRETCHED AR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LOVE ENDURES FORE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THE LIFE THAT HAS BEEN REBOR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LOVE ENDURES FOREV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NG PRAISE, SING PRAI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GOD IS FAITHFU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GOD IS STRO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GOD IS WITH US, FOREV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んしゃせよおうなるしゅ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3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はエリヤの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Text Box 1027"/>
          <p:cNvSpPr/>
          <p:nvPr/>
        </p:nvSpPr>
        <p:spPr>
          <a:xfrm>
            <a:off x="152280" y="152280"/>
            <a:ext cx="8869320" cy="10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はエリヤの日　御言葉を叫べ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はしもべ　モーセの時　主の義がかえる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闇と飢えとつるぎ　そこにあっても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砂漠の中で声が叫ぶ　主のそなえをせよ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見よ　こられる　雲に乗り　火のように　ラッパの音で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声をあげよ　ヨベルの年に　シオンから救いが来る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ほかに神はない（＊８）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はエゼキエルの日　乾いた骨が生き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はしもべダビデの時　賛美がよみがえる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は収穫の日　畑は色づき</a:t>
            </a:r>
            <a:br>
              <a:rPr sz="2000"/>
            </a:br>
            <a:br>
              <a:rPr sz="2000"/>
            </a:b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働き人は宣言する　主のみことば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1028"/>
          <p:cNvSpPr/>
          <p:nvPr/>
        </p:nvSpPr>
        <p:spPr>
          <a:xfrm>
            <a:off x="119160" y="380880"/>
            <a:ext cx="879624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wa eriya no hi mikotoba o sakeb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wa shimobe mouse no toki shuno gi ga kaeru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yami to ue to tsurugi sokoni attem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sabaku no nakade koe ga sakebu shuno sonae o sey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miyo korareru kumo ni nori hino youni rappa no otod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koewo ageyo yoberu no toshi ni shion kara sukui ga kuru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hokani kamiwa na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wa ezekieru no hi kawaita honega ik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ha simobe dabide no toki sanbi ga yomigaeru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wa shuukaku no hi hatake wa iro zuk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hataraki bito wa sengen suru shuno mikotob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まはえりやの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3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はエリヤの日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1027"/>
          <p:cNvSpPr/>
          <p:nvPr/>
        </p:nvSpPr>
        <p:spPr>
          <a:xfrm>
            <a:off x="152280" y="0"/>
            <a:ext cx="886932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"THESE ARE THE DAYS OF ELIJAH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DECLARING THE WORD OF THE LORD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AND THESE ARE THE DAYS OF YOUR SERVANT MOSE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RIGHTEOUSNESS BEING RESTOR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AND THOUGH THESE ARE DAYS OF GREAT TRIAL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OF FAMINE AND DARKNESS AND SWORD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TILL, WE ARE THE VOICE IN THE DESERT CRY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'PREPARE YE THE WAY OF THE LORD!'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BEHOLD HE COMES RIDING ON THE CLOUD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SHINING LIKE THE SUN AT THE TRUMPET CALL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LIFT YOUR VOICE, IT'S THE YEAR OF JUBILEE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AND OUT OF ZION'S HILL SALVATION COME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SE ARE THE DAYS OF EZEKIEL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 DRY BONES BECOMING AS FLESH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AND THESE ARE THE DAYS OF YOUR SERVANT DAVID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REBUILDING A TEMPLE OF PRAISE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SE ARE THE DAYS OF THE HARVES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 FIELDS ARE AS WHITE IN YOUR WORLD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AND WE ARE THE LABOURERS IN YOUR VINEYARD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DECLARING THE WORD OF THE LORD!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RE'S NO GOD LIKE JEHOVAH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THERE'S NO GOD LIKE JEHOVAH!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まはえりやの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4 G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なんとすばらしいあなたの愛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027"/>
          <p:cNvSpPr/>
          <p:nvPr/>
        </p:nvSpPr>
        <p:spPr>
          <a:xfrm>
            <a:off x="152280" y="727200"/>
            <a:ext cx="8869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なんと素晴らしい　 あなたの 愛  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雲より 高く   　天より高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ほめよイエスを　　あがめよ　イエス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この命にまさる　　主の　愛　は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28"/>
          <p:cNvSpPr/>
          <p:nvPr/>
        </p:nvSpPr>
        <p:spPr>
          <a:xfrm>
            <a:off x="119160" y="110808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anto sunarasii anatano ai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umoyoritakaku tenyori tak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omeyo iesu wo agameyo iesu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onoinotini masaru shu no ai 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なんとすばらしいあなたのあい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4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注ぎたまえ主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そぎたまえ　主よ　恵みとあわれみを    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天が開くため　祈る　聖霊のみわぜを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御霊よ　ふれたまえ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が心に　主の教会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雨降らせ　リバイバルを来たらせたまえ　この地のうえに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受ける価値なきわれら　みまえに　すすみ　祈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  ああ　栄光の　みわざ　見させたま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sogi tamae  shu yo  megumi to awaremi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n ga hiraku tame inoru  seirei no miwaza o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itama yo furetamae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ga kokoro ni  shu no kyookai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me o furase  revival o kitarase tamae  konochi no ue ni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ukeru kachinaki warera mimae ni  susumi  ino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a  eikoo no  miwaza  misase tama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そぎたまえ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4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注ぎたまえ主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Lord we need Your grace and merc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need to pray like never bef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need the power of Your holy spiri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 open heavens door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irit touch Your church stir the hearts of m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vive us Lord with Your passion once ag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ant to care for others like Jesus cares for 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Your rain fall upon me. Let Your rain fall upon m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Lord we humbly come before You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don't deserve of You what we 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ut we yearn to see Your glory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store this dying 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そぎたまえ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5 A W JesusX4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王の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　王の王　ＪＥＳＵＳ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ＪＥＳＵＳ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られた主よ　ＪＥＳＵＳ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まくかおる　主の御名　心うるおす　みたま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みを照らす　みことば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I love you I lov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 seinaru oo no oo jesu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  yomi gae rareta shu yo jesu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maku kao ru shu no mina kokoro uruosu mitama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mio terasu mikotoba jesus i love you i lov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じーざすじーざすじーざすせいな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5 A W JesusX4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王の王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Jesu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JESUS,JESUS,HOLY AND ANOINTED ONE,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JESUS,RISEN AND EXALTED ONE,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NAME IS LIKE HONEY ON MY RIP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SPIRIT LIKE WATER TO MY SO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WORD IS A LAMP UNTO MY FE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,I LOVE YOU,I LOVE YOU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じーざすじーざすじーざすせいな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6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ｃ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富とほまれ　栄光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Text Box 1027"/>
          <p:cNvSpPr/>
          <p:nvPr/>
        </p:nvSpPr>
        <p:spPr>
          <a:xfrm>
            <a:off x="152280" y="30492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富とほまれ　栄光　力　とわにいます主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国よ　つくられし民　みまえにひれ伏せ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息あるもの　栄光たたえ　みまえに　礼拝　ささぐ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ろびることなき　主の　みくにはとわに　いにしえより　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くには　全地を　おさめる　歌え　とこしえの主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らべるものなき　お方　昔いまし　とこしえの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mi to homare eikou chikara towani imasu shu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 kuniyo tukurareshi tami mimaeni hiref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ikiarumono eikou tatae mimaeni reihai sasag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robiru kotonaki shuno mikuni wa towani inishieyor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uni wa zenchi wo osameru utae tokoshie no sh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beru mononaki okata mukashi imashi tokoshieno s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とみとほまれえいこうち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6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ｃ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富とほまれ　栄光力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Text Box 1027"/>
          <p:cNvSpPr/>
          <p:nvPr/>
        </p:nvSpPr>
        <p:spPr>
          <a:xfrm>
            <a:off x="152280" y="496800"/>
            <a:ext cx="8869320" cy="73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"BLESSING AND HONOUR, GLORY AND POW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BE UNTO THE ANCIENT OF DAY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ROM EVERY NATION, ALL OF CREA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BOW BEFORE THE ANCIENT OF DAY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EVERY TONGUE IN HEAVEN AND EARTH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HALL DECLARE YOUR GLOR,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EVERY KNEE SHALL BOW AT YOUR THRONE IN WORSHIP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YOU WILL BE EXALTED, O GOD AND YOUR KINGDOM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HALL NOT PASS AWAY O ANCIENT OF DAY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YOUR KINGDOM SHALL REIGN OVER ALL THE EARTH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ING UNTO THE ANCIENT OF DAY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NONE CAN COMPAR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TO YOUR MATCHLESS WORTH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ING UNTO THE, ANCIENT OF DAYS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とみとほまれえいこうち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7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神主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1027"/>
          <p:cNvSpPr/>
          <p:nvPr/>
        </p:nvSpPr>
        <p:spPr>
          <a:xfrm>
            <a:off x="152280" y="19224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わが神主よ　見させたまえ　偉大なるその計画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天が開き　光がみち　シオンの上にとどま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救いのみわざ　全地をおおい　喜びの歌　ひびかせ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の正義は　平和をよぶ　主の御霊が流れる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の日　全世界が　主の御名　高くかかげる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叫べ　王の王　イエスに　ハレルヤ　栄光とわにあれ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＊王の王なる　主イエスに　  全能なる　主イエスに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　勝利者なる小羊に　栄光　とわにあ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1028"/>
          <p:cNvSpPr/>
          <p:nvPr/>
        </p:nvSpPr>
        <p:spPr>
          <a:xfrm>
            <a:off x="119160" y="496800"/>
            <a:ext cx="8796240" cy="73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ga kami shu yo misase tamae idainaru sono keikak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enga hiraki hikariga michi shion no uneni todoma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ukui no miwaza zenchi wo ooi yorokobi no uta hibikas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noseigi wa heiwa wo yobu shuno motama ga nagarer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no hi zensekaiga shuno mina takaku kakager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ebe ou no ou iesu ni hareruya eikou tyowani ar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o no oo naru shu iesu ni zennou naru shu iesu n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ourisha naru kohitsuji ni eikou towani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かみ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神々のうち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1027"/>
          <p:cNvSpPr/>
          <p:nvPr/>
        </p:nvSpPr>
        <p:spPr>
          <a:xfrm>
            <a:off x="152280" y="22860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よ　神々のうちで　あなたに並ぶものは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よ　あなたのみわざに　くらぶべきものは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なたが造られた　すべての国々は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なたの御前に来て　伏し拝み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なたの御名を　あがめます　あがめ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まことにあなたは　大いなる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奇しいわざを　行われる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なただけが　神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（あなただけが　あなただけが　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1028"/>
          <p:cNvSpPr/>
          <p:nvPr/>
        </p:nvSpPr>
        <p:spPr>
          <a:xfrm>
            <a:off x="119160" y="53352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yo kamigami no uchide anatani narabu mono wa na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yo anatano miwaza ni kurabu beki mono wa na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ga tsukurareta subeteno kuniguni w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 no mimae ni kite fushi ogam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 no mina wo agamemasu agame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akotoni anata wa ooinaru ka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sushii waza wo okonawareru kat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 dakega kam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 dakega anata dakega ka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かみがみのうち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79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がのぞみ力を受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がのぞみ　力を受け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証人となり　地の果てまでもでてゆこ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霊よ来てくださ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やくそくの御霊よ　着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 ga nozomi chikara wo uk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shounin to nari chino hatemademo dete 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mitama yo kite kudas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kusokuno motamayo kite 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れいがのぞみちからをう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たしの上に主の御霊がおられ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わたしの上に　主の御霊がおられ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が貧しい人々に　福音を伝えるようにと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に油をそそがれた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は私をつかわされた  とらわれ人には赦免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盲人には目が開くと　つげるために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しいたげられてる人々を　自由の身とするため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恵みの年を告げ知らせるため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1028"/>
          <p:cNvSpPr/>
          <p:nvPr/>
        </p:nvSpPr>
        <p:spPr>
          <a:xfrm>
            <a:off x="119160" y="6350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 no ueni shu no mitama ga ora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 ga mazushii hitobitoni fukuin wo tsutaeru youni t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hi ni abura o sosogareta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a watashi o tsukawa sareta torawarebitoni wa shamen o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oujin niwa mega hiraku to tsugeru tameni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iitagerareteiru hitobito o jiyuu no mi to suru tame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megumi no toshi o tsuge shiraseru tamen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うえにしゅのみたまがおられ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5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サナホサナいと高き方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  ホザナいと高き方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名をたたえ  賛美にあふ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がめられるべき主　ホザナ主をほめ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 hosanna ito takaki kata 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 o tatae  sanbi ni af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gamerareru beki shu hosanna shu o hom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さなほさないとたかきかた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1 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は信じる神の力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は信じる　神の力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らは信じる　神のきせき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を愛され　祝福される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をいやされ　収穫あたえる主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時が来た　偉大な神の力によ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時が来た　偉大な神のきせき現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日本が救わ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wa shinjiru kamino chikara 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 wa shinjiru kamino kiseki 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 wo aisare shukufuku sareru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 wo iyasare shuukaku ataeru sh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tokiga kita idaina kami no chikara ni yor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tokiga kita idaina kami no kiseki araw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ihon ga sukuw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はしんじるかみのちから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罪重荷をのぞくは血の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おもにをのぞくは　血の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血は　悪魔のわざをこぼ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くすしき力なり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ある主イエスの血　うけよ　うけ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ある主イエスの血　うけよ　今うけ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 omoni nozokuwa chinochi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chiwa akuma no wazawo kobot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sushiki chikara nar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aru shu iesu no chi ukeyo uk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 aru shu iesu no chi ukeyo ima uk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みおもにをのぞくはちのち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罪重荷をのぞくは血の力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1027"/>
          <p:cNvSpPr/>
          <p:nvPr/>
        </p:nvSpPr>
        <p:spPr>
          <a:xfrm>
            <a:off x="152280" y="6858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  1. Would you be free from your burden of s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There is power in The Blood, power in The Blo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Would you o'er evil a victory w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There is wonderful power in The Blo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*There is power, power, wonder-working pow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in the blood of The Lam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There is power, power, wonder-working pow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in the precious blood of The Lam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2. Would you be whiter, much whiter than sn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There is power in The Blood, power in The Blo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Sin stains are lost in its life-giving fl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There is wonderful power in The Bloo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みおもにをのぞくはちのち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3 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が語られると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Text Box 1027"/>
          <p:cNvSpPr/>
          <p:nvPr/>
        </p:nvSpPr>
        <p:spPr>
          <a:xfrm>
            <a:off x="152280" y="2286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神が語られるとき　命がそそがれ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神が語られるとき　息が吹き荒れる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預言せよ　うしなわれたたましい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預言せよ　閉ざされた土地　開くため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神は生かし　希望を与え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神は生かし　情熱与え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愛するたましいへ　愛するこの国のため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Text Box 1028"/>
          <p:cNvSpPr/>
          <p:nvPr/>
        </p:nvSpPr>
        <p:spPr>
          <a:xfrm>
            <a:off x="119160" y="53352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amiga katarareru toki inochi ga sosogare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amiga katarareru toki  ikiga fukiareru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yogenseyo ushinawareta tamashii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yogenseyo tozasareta tochi hirakutame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ami wa ikashi kibou atae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ami wa ikashi jyounetsu atae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aisuru tamashiie aisuru kuni no t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がかたられる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4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神ほまれと賛美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神　ほまれと賛美を　受けるべきお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なる神　輝く栄光　受けるべきお方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せいなる御名により　汚れた地をきよ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と義と力により　全地を　おさめ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の戸よ　かしらをあげよ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王が　この国に　今おとずれる　（＊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ru kami homareto sambi wo ukerubeki o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ounaru kami kagayaku eikou ukeru beki oka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minani yori kegareta chi wo kiyo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to gito chikaraniyori zenchi wo osam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 no to yo kashira wo age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no oo ga kono kuni ni ima otozureru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（＊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だいなるかみほまれとさんび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5 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は主の御手のか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1027"/>
          <p:cNvSpPr/>
          <p:nvPr/>
        </p:nvSpPr>
        <p:spPr>
          <a:xfrm>
            <a:off x="152280" y="2286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われらは主の御手のかま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大いなる収穫のため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軍勢として突き進む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誰もわれを　止められぬ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国々がわれらを待って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われらは主の御手のかま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勝利につぐ勝利</a:t>
            </a: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1028"/>
          <p:cNvSpPr/>
          <p:nvPr/>
        </p:nvSpPr>
        <p:spPr>
          <a:xfrm>
            <a:off x="119160" y="53352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rera wa shuno mite no kama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ooinaru syuukaku no tam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gunzei toshite tsuki susum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daremo warewo tomerarenu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uniguniga warerawo matte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warera wa shuno mite no kama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ouri ni tsugu shour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1029"/>
          <p:cNvSpPr/>
          <p:nvPr/>
        </p:nvSpPr>
        <p:spPr>
          <a:xfrm>
            <a:off x="9277200" y="0"/>
            <a:ext cx="4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はしゅのみてのか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5 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らは主の御手のかま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am the sickle in the hand of the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rching ahead for the Great Harvest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one can stop me Nations await 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am the sickle in the hand of the Lord *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quering to conquer Conquering to conqu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1028"/>
          <p:cNvSpPr/>
          <p:nvPr/>
        </p:nvSpPr>
        <p:spPr>
          <a:xfrm>
            <a:off x="9277200" y="0"/>
            <a:ext cx="4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らはしゅのみてのか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6 Am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日の昇る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1027"/>
          <p:cNvSpPr/>
          <p:nvPr/>
        </p:nvSpPr>
        <p:spPr>
          <a:xfrm>
            <a:off x="152280" y="203040"/>
            <a:ext cx="8869320" cy="12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日の昇る国　東の果てに　愛される国　残された民（＊</a:t>
            </a: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罪の無い血を流した　滅びるはずのこの国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義の太陽が昇る　それは栄光の神の御子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リバイバルの炎よ　この国を燃やしたま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国々の民の中へ　われらをつかわしたま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日の昇る国　東の果てに  愛される国　神の風が吹く（＊</a:t>
            </a: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偽りの神々に　心を向けるこの国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義の太陽が昇る　それは栄光の神の御子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リバイバルの息吹よ　この国を生かしたま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国々の民の中へ　われらを遣わしたまえ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1028"/>
          <p:cNvSpPr/>
          <p:nvPr/>
        </p:nvSpPr>
        <p:spPr>
          <a:xfrm>
            <a:off x="119160" y="457200"/>
            <a:ext cx="8796240" cy="12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i no noboru kuni higashi no hate ni aisareru kuni nokosareta tam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suminonai chiwonagashita horo biru hazuno kono kuni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gi no taiyou ga noboru sorewa eikou no kami no mik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ribaibaru no honou yo kono kuni wo moyashitam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uniguni no tami no naka e warera wo tsukawashitam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i no noboru kuni higashi no hate ni aisareru kuni kamino kazega fuk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tsuwarino kamigami ni kokoro wo mukeru kono kuni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gi no taiyou ga noboru sorewa eikou no kami no mik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ribaibaru no honou yo kono kuni wo ikashi tam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uniguni no tami no naka e warera wo tsukawashitama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1029"/>
          <p:cNvSpPr/>
          <p:nvPr/>
        </p:nvSpPr>
        <p:spPr>
          <a:xfrm>
            <a:off x="9277200" y="0"/>
            <a:ext cx="4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ひののぼるく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7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にあるものすべ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にあるものすべて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万軍の主の御使いよ　全地よ　ほめ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月よ　星よ　太陽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空よ　海よ　宇宙よ　全地よ　ほめ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力と栄光　王なるイエス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勝利と奇跡は　シオンの王イエスにあ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ni arumono subet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bangun no shu no mitsukaiyo zenchiyo hom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ki yo hoshi yo tai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a yo umi yo uchu yo zenchi yo home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 chikara to eiko oo naru iesu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ri to kiseki wa shion no oo iesu ni 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にあるものすべ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7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にあるものすべ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3"/>
          <p:cNvSpPr/>
          <p:nvPr/>
        </p:nvSpPr>
        <p:spPr>
          <a:xfrm>
            <a:off x="152280" y="68580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6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にあるものすべ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5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サナホサナいと高き方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 Hosanna Hosanna in the high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 Hosanna Hosanna in the high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we lift up Your Name wiht hearts of prai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e exalted O Lord our God Hosanna in the high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さなほさないとたかきかた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今ここに主の霊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3"/>
          <p:cNvSpPr/>
          <p:nvPr/>
        </p:nvSpPr>
        <p:spPr>
          <a:xfrm>
            <a:off x="152280" y="19224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今ここに　主の霊が　はげしくのぞま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力　火のように　あつく　そそがれ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すべてのけがれ　やきつくされ　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栄光だけが　この地をおおう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手を上げて　主の御名　高らかにさけべ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とこしえに　輝く　真理と愛の光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そのとき主は　砂漠を　水で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満たされ　潤され　生きかえ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"/>
          <p:cNvSpPr/>
          <p:nvPr/>
        </p:nvSpPr>
        <p:spPr>
          <a:xfrm>
            <a:off x="119160" y="466560"/>
            <a:ext cx="879624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ma kokoni shu no reiga hageshiku nozom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chikara hino youni atsuku sosogare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beteno kegare yakitsukus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no eikoo dakega konochi wo oou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ewo agete shuno mina takarakani sakeb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koshieni kagayaku shinri to aino hikar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onotoki shu wa sabaku wo mizud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tasare uruosare ikikae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まここにしゅのれい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89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喜ぼう　喜ぼ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2051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ぼう　喜ぼう　喜ぼう　主を　（Ｘ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油注ぎ　私を　みた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あわれみと　恵みはとこし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2052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oo yorokoboo yorokoboo syu wo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no aburasosogi watasi wo mit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no awaremi to megumi wa toko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ぼ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0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Text Box 1027"/>
          <p:cNvSpPr/>
          <p:nvPr/>
        </p:nvSpPr>
        <p:spPr>
          <a:xfrm>
            <a:off x="152280" y="152280"/>
            <a:ext cx="886932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主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愛します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王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愛します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る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Text Box 1028"/>
          <p:cNvSpPr/>
          <p:nvPr/>
        </p:nvSpPr>
        <p:spPr>
          <a:xfrm>
            <a:off x="119160" y="609480"/>
            <a:ext cx="87962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naru shu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shima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naru sh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naru oo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shima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naru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だい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0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Y GOD 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LOVE YOU (*3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Y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Y THE KING 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LOVE YOU (*3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Y THE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だい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0 E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偉大なる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Text Box 3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ico Dios 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te amo (*3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ico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ico Rey(*4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te amo(*3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agnifico 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Text Box 6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いだいなるし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1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和魂　このくにのためにどれだけのなみだ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1027"/>
          <p:cNvSpPr/>
          <p:nvPr/>
        </p:nvSpPr>
        <p:spPr>
          <a:xfrm>
            <a:off x="152280" y="304920"/>
            <a:ext cx="8869320" cy="10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この国のために  どれだけの涙が流されただろう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この国のために  どれだけの血が身を染めただろう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日の昇るところに　義の太陽は昇り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この国の文化が　キリストのものとな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クリスチャンよ立て　命を捨てても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栄光　この地に　現すために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われらの叫びが歴史を変える  主よいまここに日本のリバイバルを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この国を愛し　この国に捧げ  われらは握る　大和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Text Box 1028"/>
          <p:cNvSpPr/>
          <p:nvPr/>
        </p:nvSpPr>
        <p:spPr>
          <a:xfrm>
            <a:off x="119160" y="569880"/>
            <a:ext cx="8796240" cy="11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no kuni no tameni doredake no namidaga nagasareta daro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no kuni no tameni doredake no chi ga mi o someta darou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ino noboru tokoroni gino taiyoo ga nobor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no kunino bunka ga kirisuto no monoto nar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urisuchan yo tate inochi wo sutetem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no eikoo konochini arawasu tameni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rera no sakebiga rekishi o kaeru shuyo ima kokoni nippon no revival 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nokuni o aishi konokuni ni sasage warera wa nigiru yanato damashi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まとだましい　このくにのためにどれだけのなみだ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2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やかに星はきらめき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きよらに星すむこよ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1027"/>
          <p:cNvSpPr/>
          <p:nvPr/>
        </p:nvSpPr>
        <p:spPr>
          <a:xfrm>
            <a:off x="152280" y="228600"/>
            <a:ext cx="8869320" cy="14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さやかに　星はきらめき　御子イエス生まれたもう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長くも闇路をたどり　メシアを待てる民に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新しき朝は来たり　栄えある陽はのぼる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いざ聞け　御使い　歌う　たえなる　あまつみ歌を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めでたき　聖し　こよい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輝く　星を頼りに　旅せし　博士のごと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信仰の光によりて　我らも御前に立つ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うまぶねに寝る御子は　神の神主の主なり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我らの重荷を担い　やすきをたまわう為に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来たれる　神の子なり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1028"/>
          <p:cNvSpPr/>
          <p:nvPr/>
        </p:nvSpPr>
        <p:spPr>
          <a:xfrm>
            <a:off x="119160" y="457200"/>
            <a:ext cx="8796240" cy="14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"sayaka-ni hoshi wa kirameki miko iesu umare-tam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agakumo, yami-ji o tadori, messiah o materu tami n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tarashiki asa wa kitari, sakae aru hi wa nobor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za kike mitsukai utau tae-naru amatsu miuta w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edetashi kiyoshi koyo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agayaku hoshi o tayori ni, tabi-seshi hakase no got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inko no hikari ni yorite, ware-ra mo mimae ni tats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umabuneni nemuru miko wa kimi no kimi shuno shu nar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rera no omoni o ninai yasuki o tamau tame ni to,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itareru kami no ko nari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やかにほしはきらめ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2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やかに星はきらめき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きよらに星すむこよ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1027"/>
          <p:cNvSpPr/>
          <p:nvPr/>
        </p:nvSpPr>
        <p:spPr>
          <a:xfrm>
            <a:off x="152280" y="399960"/>
            <a:ext cx="8869320" cy="14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たがいに愛せよと説き 平和の道をそなえ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すべてのくびきをこぼち 自由をあたえたもう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げに主こそ平和の君　たぐいなき愛の人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伝えよ　その訪れを　広めよ　きよき　みわざを 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讃えよ　声の限り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1028"/>
          <p:cNvSpPr/>
          <p:nvPr/>
        </p:nvSpPr>
        <p:spPr>
          <a:xfrm>
            <a:off x="119160" y="704880"/>
            <a:ext cx="8796240" cy="14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agai ni ai seyo to toki, heiwa no michi o sona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bete no kubiki o kobochi, jiyu o atae-tam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geni shu koso heiwa no kimi, tagui-naki ai no hito,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sutaeyo sono otozure o hiromeyo kikyoki miwaza 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ataeyo, koe no kagiri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やかにほしはきらめ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2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やかに星はきらめき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きよらに星すむこよい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)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1027"/>
          <p:cNvSpPr/>
          <p:nvPr/>
        </p:nvSpPr>
        <p:spPr>
          <a:xfrm>
            <a:off x="152280" y="399960"/>
            <a:ext cx="8869320" cy="14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. O Holy night! the stars are brightly shining, It is the night of the dear Saviour's birth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ong lay the world in sin and error pining, Till He appeared and the soul felt its worth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A thrill of hope the weary soul rejoice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or yonder breaks a new and glorious morn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all on your knees,  Oh, hear the angel voices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O night divine O night when Christ was born! O night O holy night O night devine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2. Led by the light of faith serenely beaming, With glowing hearts by his cradle we stand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o led by light of a star sweetly gleaming, Here came the wise men from Orient lan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The King of kings lay thus in lowly manger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In all our trials born to be our friend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He knows our need, To our weakness is no stranger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Behold your King, before Him lowly bend! Behold your King before Him lowly bend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3. Truly He taught us to love one another; His law is love, and his gospel is peace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hains shall he break, for the slave is our brother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And in His name all oppression shall ceas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weet hymns of joy in grateful chorus raise we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et allwithin us praise his holy name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hrist is the Lord,  Oh, praise his name forever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His pow'r and glory evermore proclaim! His pow'r and glory evermore proclaim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やかにほしはきらめ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かがやく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1027"/>
          <p:cNvSpPr/>
          <p:nvPr/>
        </p:nvSpPr>
        <p:spPr>
          <a:xfrm>
            <a:off x="152280" y="304920"/>
            <a:ext cx="8869320" cy="12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栄光に満ちた　かがやく王  全地よ叫べ　全地よ叫べ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主は光　やみは逃げさる  み声にふるえ　み声にふるえ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(Chorus)</a:t>
            </a: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大いなるわが神　歌え　大いなるわが神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すべてのものは見る　大いなるわが主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いにしえから　とわに治める  はじめで終わり　はじめで終わり</a:t>
            </a: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みいつの神　父　御霊　御子　ししなる小羊　ししなる小羊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(bridge)</a:t>
            </a: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すべてに勝る御名　賛美ささげます　心から歌う　大いなる　わが主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2100" spc="-1" strike="noStrike">
                <a:solidFill>
                  <a:srgbClr val="ffffff"/>
                </a:solidFill>
                <a:latin typeface="ＭＳ Ｐゴシック"/>
              </a:rPr>
              <a:t>ending)</a:t>
            </a:r>
            <a:r>
              <a:rPr b="0" lang="ja-JP" sz="2100" spc="-1" strike="noStrike">
                <a:solidFill>
                  <a:srgbClr val="ffffff"/>
                </a:solidFill>
                <a:latin typeface="ＭＳ Ｐゴシック"/>
              </a:rPr>
              <a:t>王なる主　王なる主　御国はとわに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1028"/>
          <p:cNvSpPr/>
          <p:nvPr/>
        </p:nvSpPr>
        <p:spPr>
          <a:xfrm>
            <a:off x="0" y="584280"/>
            <a:ext cx="8796240" cy="12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eikouni michita kagayaku oo zenchiyo sakebe zenchiyo sakebe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shuwa hikari yamiwa nigesaru mikoeni furue mikoeni furue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ooinaru waga kami utae ooinaru waga kami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subeteno monowa miru ooinaru waga shu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inishie kara towani osameru hajime de owari hajime de owari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miitsu no kami chichi mitama miko shihinaru kohitsauji shihinaru kohitsauji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subete ni masaru mina sanbi sasage masu kokoro kara utau ooinaru waga shu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ccccff"/>
                </a:solidFill>
                <a:latin typeface="ＭＳ Ｐゴシック"/>
              </a:rPr>
              <a:t>oonaru shu  oonaru shu mikuni wa towan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にみちたかがやく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名をあがめよう賛美の声あげ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名をあがめよう　 賛美の声　上げよう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のために　来られた主に向か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から　我らのもとに　我らを　あがなうため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の死から　よみがえられた　主を　あがめ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o agameyoo sanbi no koe  agey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 no tameni  korareta shu ni muk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kara  warera no motoni warera o  aganau tame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ujika no si kara  yomigaerareta shu o  agame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なをあがめようさんびのこえあげ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かがやく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1027"/>
          <p:cNvSpPr/>
          <p:nvPr/>
        </p:nvSpPr>
        <p:spPr>
          <a:xfrm>
            <a:off x="152280" y="25236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"THE SPLENDOR OF THE KING, CLOTHED IN MAJESTY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LET ALL THE EARTH REJOICE, ALL THE EARTH REJOICE.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HE WRAPS HIMSELF IN LIGHT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DARKNESS TRIES TO HIDE AND TREMBLES AT HIS VOICE.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REMBLES AT HIS VOICE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HOW GREAT IS OUR GOD. SING WITH ME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HOW GREAT IS OUR GOD AND ALL WILL SE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HOW GREAT IS OUR GO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AND AGE TO AGE HE STANDS. AND TIME IS IN HIS HAND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BEGINNING AND THE END. BEGINNING AND THE EN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E GOD-HEAD THREE IN ONE. FATHER, SPIRIT, SON.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THE LION AND THE LAMB. THE LION AND THE LAMB.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NAME ABOVE ALL NAMES. WORTHY OF ALL PRAIS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MY HEART WILL SING HOW GREAT IS OUR GO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OUR GOD REINS. OUR GOD REINS. FOREVER YOUR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KINGDOM REINGS.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にみちたかがやくお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栄光に満ちたかがやく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uan grande es Dios, canta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uan grande es Dio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dos lo veran, cuan grande es Di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mbre sobre todo 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res digno de alab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mi ser dira Cuan grande es Dio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えいこうにみちたかがやくお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つかわしてください主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Text Box 1027"/>
          <p:cNvSpPr/>
          <p:nvPr/>
        </p:nvSpPr>
        <p:spPr>
          <a:xfrm>
            <a:off x="152280" y="228600"/>
            <a:ext cx="8869320" cy="10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つかわして　ください主よ  この町、この国　世界の中へと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ために　私は行く　イエスこそ　主と告げ知らせて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１．　心を注ぎ祈る　御霊により　きよめられ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 福音と自由を　国々に　つげ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２．　家族のために　祈る　いやしと解放の主に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       国々はたちかえり　主のおとずれ見る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にへりくだり　  御顔もとめ　ひざまづき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立ち返るなら　主にへりくだり　御顔もとめ　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ひざまづき　立ち返るなら　主は聞かれ　罪きよめ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この国　いや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Text Box 1028"/>
          <p:cNvSpPr/>
          <p:nvPr/>
        </p:nvSpPr>
        <p:spPr>
          <a:xfrm>
            <a:off x="119160" y="457200"/>
            <a:ext cx="879624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ukawasite kudasai syu yo konomati konokuni sekaino nakaeto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yu no tameni watasiwa iku iesu koso syuto tugesirasete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koro sosogi inoru mitamani yori kiyomerar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     fukuinn to jiyuu wo kunigunini tugeru</a:t>
            </a:r>
            <a:br>
              <a:rPr sz="2200"/>
            </a:br>
            <a:br>
              <a:rPr sz="2200"/>
            </a:b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azoku no tameni inoru iyasito kaihou no syuni 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uniguni wa tatikaeri syu no otozure miru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ysuni herikudari mikao motome hizamazuki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atikaeru nara syu ni herikudari mikao motom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izamazuki tatikaeru nara syu wa kikare tumi kiy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no kuni iy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かわしてください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4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つかわしてください主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Text Box 1027"/>
          <p:cNvSpPr/>
          <p:nvPr/>
        </p:nvSpPr>
        <p:spPr>
          <a:xfrm>
            <a:off x="152280" y="304920"/>
            <a:ext cx="886932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"Send me I will go, send me I will go to this city,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to this nation, and to the nations of the world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Send me I will go, send me I will go I will proclaim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the truth that Jesus Christ is Lord.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1.  I stand before You pleading from my heart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That by Your spirit. You would set me apart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To bring good news and liberty to see thi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nation on its knees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2.  I cry out for every family You'd open blind eyes,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and set people free that as a nation we would turn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back to You and see revival sweep this land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As we humble ourselves  adn seek Your fac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Fall on our knees  Turn from our ways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You will hear our cry wipe our sins away an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heal our land we pray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つかわしてください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知恵と力と愛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知恵と力と愛で　すべてをおさめてい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方　われらの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eto chikara to aide subete wo osametei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kata warerano 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えとちからとあ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5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知恵と力と愛で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UR GOD IS AN AWESOME G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REIGNS FROM HEAVEN ABO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WISDOM AND POWER AND LO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UR GOD IS AN AWESOME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えとちからとあ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愛と平和で　（ワンボイス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051"/>
          <p:cNvSpPr/>
          <p:nvPr/>
        </p:nvSpPr>
        <p:spPr>
          <a:xfrm>
            <a:off x="152280" y="3445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１　愛と平和で  こころをみたして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    世界中が　イエスは主だと知るため  栄光を　見せてください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　 この声を　ひとつにして　この心　ひとつにして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   あなたの栄光のために　もちいてください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２　今こそ　みんなで  主を賛美しよう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    世界中が　イエスは主だと知るため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    わたしにも　なにかできる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052"/>
          <p:cNvSpPr/>
          <p:nvPr/>
        </p:nvSpPr>
        <p:spPr>
          <a:xfrm>
            <a:off x="119160" y="64944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1 ai to heiwa de kokoro o mitasite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   sekaijuu ga iesu wa shu dato surutame eikou o misete kudasai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   kono koe o hitotuni site kono kokoro hitotuni site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   anata no eikou no tameni motiite kudasai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2  imakoso minnnade shu o sannbi siyoo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    sekai juuga iesu wa shu dato iu tame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    watashi nimo nanika dekir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いとへいわでこころをみたし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7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が語られる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が語られる時　命が注が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が語られる時　息がふきあ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預言せよ　失われたたましい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預言せよ　閉ざされた土地　開くため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は生かし　希望を与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は生かし　情熱与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する魂へ　愛するこの国のた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1028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ga katarareru toki inoti ga sosog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ga katarareru toki iki ga fukia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genn seyo usinawareta tamasii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genn seyo tozasareta toti hiraku tam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wa ikasi kibou ataer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 wa ikasi jounetu ata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suru tamasii e aisuru kono kuni no tam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がかたられる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8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はいつも前に主をお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は　いつも　前に主をお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　右に　おられるから　ゆるぐことが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れゆえ　　心はよろこび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ましいは　楽しんで　身も　やすらかに　すむ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いのちの　道を知ら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まえには　よろこびがみち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右には　楽しみが　とこしえに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a itumo maeni syu wo o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ga migini orarerukara yurugu koto ga 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eyue kokoro wa yorokob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masii wa yorokonnde mi mo yasurakani sum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wa inoti no miri wo sira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ni wa yorokobi ga mit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gi niwa tanosimi ga tokosie ni 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いつもまえにしゅをお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99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神の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1027"/>
          <p:cNvSpPr/>
          <p:nvPr/>
        </p:nvSpPr>
        <p:spPr>
          <a:xfrm>
            <a:off x="152280" y="2286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イエス　神の愛　十字架にいのちすてた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イエス　神の小羊　永遠のゆるしあたえる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今　受け取ります　あなたの愛と　あなたのゆるし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今　受け取ります　永遠の救いといやし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いのちにあふれ　いのる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すべてを　ささげます　主よ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すべてを　ささげます　主よ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1028"/>
          <p:cNvSpPr/>
          <p:nvPr/>
        </p:nvSpPr>
        <p:spPr>
          <a:xfrm>
            <a:off x="119160" y="533520"/>
            <a:ext cx="879624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iesu kami no ai jyuujika ni inochi suteta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hu iesu kami no kohistuji eienn no yurushi ataeru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ima uketorimasu anata no ai to anata no yurush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ima uketorimasu eienn no sukui to iyash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inoti ni agfure inoru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bete wo sasagemasu shu yo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bete wo sasagemasu shu yo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かみのあ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名をあがめよう賛美の声あげよ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I LIFT YOUR NAME ON HI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I LOVE TO SING YOUR PRAI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'M SO GLAD YOU'RE IN MY LIF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'M SO GLAD YOU CAME TO SAVE 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CAME FROM HEAVEN TO EARTH TO SHOW THE WA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EARTH TO THE CROSS MY DEBT TO PA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CROSS TO THE GR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ROM THE GRAVE TO THE SK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I LIFT YOUR NAME ON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なをあがめようさんびのこえあげよ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0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めよ全地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　全地よ　　おおいなるイエス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　主の主　わがきみ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わに　ときわに　主をたた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とともに　すべおさめ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zenchi yo ooinaru iesu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 no ou shu no shu waga ki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 ni tokiwa ni shu o ta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to tomoni subeosam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めよぜんち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0 F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めよ全地よ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ll hail King Jesus,  All hail Emmanuel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King of kings, Lord of lords, Bright morning star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throughout eternity  I'll sing His prais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will reign with Him throughout eternity.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めよぜんち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1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かがやく日を仰ぐ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輝く日を仰ぐ時　月星ながむると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かづち鳴りわたるとき　まことのみ神をおも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たまいざたたえよ　大いなるみ神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たまいざたたえよ　大いなるみ神を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gayaku hi wo aogu toki tuki hosi nagamuru to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azuti nariwataru toki makoto no mikami wo omo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 iza tataeyo ooinaru mikami 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tama iza tataeyo ooinaru mikami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がやくひをあおぐ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1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かがやく日を仰ぐ時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Text Box 1027"/>
          <p:cNvSpPr/>
          <p:nvPr/>
        </p:nvSpPr>
        <p:spPr>
          <a:xfrm>
            <a:off x="152280" y="68580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THEN SINGS MY SOUL, MY SAVIOUR GOD, TO THE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W GREAT THOU ART, HOW GREAT THOU AR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N SINGS MY SOUL, MY SAVIOUR GOD, TO THE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W GREAT THOU ART, HOW GREAT THOU ART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がやくひをあおぐ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2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われを愛す（賛美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われを愛す　主は強ければ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れ弱くとも　恐れはあらじ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主イェス、わが主イェ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主イェス　われをあいす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reo aisu shuwa tsuyokereb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 yowakutomo osorewa araj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shu iesu wagashu ie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shu iesu wareo ai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われをあい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3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いつくしみ深き友なるイエスは（賛美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1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つくしみ深き友なるイェスは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とが憂いをとり去りたもう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ころの嘆きを包まず述べて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などかは下ろさぬ、負える重荷を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sukushimi fukaki tomonaru iesu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mitoga ureiw torisaritam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no nagekio tsutsumazu nobe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dokawa orosanu oeruo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つくしみふかきともなるいえす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4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おどろくばかりの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9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）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1027"/>
          <p:cNvSpPr/>
          <p:nvPr/>
        </p:nvSpPr>
        <p:spPr>
          <a:xfrm>
            <a:off x="152280" y="282600"/>
            <a:ext cx="8869320" cy="86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1. 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おどろくばかりの　恵みなりき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このみの汚れを　知れるわれに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2. 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めぐみはわがみの　おそれを消し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まかするこころを　おこさせたり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3. 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危険をも罠をも　避けえたるは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恵みのみわざと　言うほかなし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4.  </a:t>
            </a: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みくににつく朝　いよよたかく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恵みのみかみを　たたえまつらん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1028"/>
          <p:cNvSpPr/>
          <p:nvPr/>
        </p:nvSpPr>
        <p:spPr>
          <a:xfrm>
            <a:off x="119160" y="603360"/>
            <a:ext cx="8796240" cy="77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doroku bakari no megumi narik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no mi no kegare wo shireru ware n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egumi wo wagami no osore wo kesh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akasuru kokoro wo okosasetar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ikenn womo wana womo sake etaru wa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gumi no miwaza to iu hoke nash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kuni ni tuku toki iyoyo takak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igumi no mikami wo tatae matsuran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どろくばかり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4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おどろくばかりの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229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）　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Amazing grace,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w sweet the sou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saved a wretch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ke m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once was lost, but now am foun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as blind but now I se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rough many dangers,toils,and snar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have already com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'was grace that brought me safe thus f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grace will lead me hom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どろくばかり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5 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丘にたてる荒削りの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歌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丘にたてる 荒削りの十字架にかかり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主は人のために捨てませり生命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にイエスきみ 我をあがない給う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の悩みは我が罪の為な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kani tateru arakezurino juujikani kakar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nushiwa hitono tameni sutemaseri inochi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ujikani iesu kimi wareo aganaitam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uujikano nayamiwa wagatsumino tamen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かにたて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6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むべき小羊せいなる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むべき　小羊　聖なる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の座に　座す方に　歌を歌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かな　全能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きたるべきお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の王に歌え　ほめたたえ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わがすべて　あがめ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beki kohitsuji seinaru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noza ni zasu katani uta wo uta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kana zen noo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tarubeki okat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no oo ni utae hometatae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ga subete agamem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むべきこひつじせい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名をあがめよう賛美の声あげよう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nombre levantare me deleito en adorar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agradezco que en mi vida es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e vinieras a salvar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jaste el trono para mostrarnos la lu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tu trono a la cruz y mi deuda pag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la cruz al mori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la muerte a tu tron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nombre levanta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みなをあがめようさんびのこえあげ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6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むべき小羊せいなる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WORTHY IS THE LAMB WHO WAS SLA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LY, HOLY IS H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NG A NEW SONG TO HIM WHO SITS 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VEN'S MERCY SE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LY HOLY HOLY IS THE LORD GOD ALMIGH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O WAS AND IS AND IS TO COM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ALL CREATION I S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RAISE TO THE KING OF K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MY EVERYTH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WILL ADORE YOU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むべきこひつじせいなる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8 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起き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Text Box 3"/>
          <p:cNvSpPr/>
          <p:nvPr/>
        </p:nvSpPr>
        <p:spPr>
          <a:xfrm>
            <a:off x="152280" y="304920"/>
            <a:ext cx="886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き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Text Box 4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き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主イエ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Text Box 1027"/>
          <p:cNvSpPr/>
          <p:nvPr/>
        </p:nvSpPr>
        <p:spPr>
          <a:xfrm>
            <a:off x="152280" y="304920"/>
            <a:ext cx="886932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ばらしい　主イエス　みことばは　主の愛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　主イエス　十字架の力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を救い　助け　自由与えてくれた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栄光　栄光　イエスに　栄光　栄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　栄光　栄光　ささげます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ばらのかんむり受け　とわに　王となられた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4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arasii syu iesu mikotoba wa syu no 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no syu iesu juujika no chikar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o sukui tasuke jiyuu ataetekuret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eikou eikou  iesu ni eikou eiko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eikou eikou sasagemas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bara no kannmuri uke towa ni oo to narar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ばらしいしゅいえ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09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主イエス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Cuan hermoso eres Jesu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on tus palabras, es tu am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uan glorioso, eres 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s tu poder, fue tu cr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a que me salvo y me resca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un momento ahi nos dio liber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 doy gloria, gloria (3X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ti Jes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 una corona de espinos Te hiciste rey por siemp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すばらしいしゅいえ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0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Text Box 3"/>
          <p:cNvSpPr/>
          <p:nvPr/>
        </p:nvSpPr>
        <p:spPr>
          <a:xfrm>
            <a:off x="152280" y="236520"/>
            <a:ext cx="886932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をほめます　はんえいが流れ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栄えるときにも　あがめ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をほめます　人生のあらの　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通るときでさえ　あがめます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めぐみにこたえて　たたえる  暗闇のときも　かわらず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みな　あがめます　そのみなを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みな　あがめます　栄光ささげます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はあたえて　主はとられる  ほむべきかな　主のみな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Text Box 4"/>
          <p:cNvSpPr/>
          <p:nvPr/>
        </p:nvSpPr>
        <p:spPr>
          <a:xfrm>
            <a:off x="119160" y="53352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 wo homemasu hannei ga nagare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aeru toki mo agame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 wo homemasu jinsei no aran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oru tokidesae agamemas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egumi ni kotaete tataeru kurayami no toki mo kawarazu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 no mina agamemasu sono mina w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 no mina agamemasu eikou sasagemas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 wa ataete syu wa torareru homubeki kana syu no mina 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0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Text Box 1027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Blessed be Your name in the land that is plentifu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re Your streams of abundance fl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Your name And blessed be Your n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en I'm found in the desert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ough I walk through the wildern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Your na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very blessing Your pour out I'll turn back to prai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hen the darkenss closes i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still I will s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the name of the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Your n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Your name of the L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Your glorious name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1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恵みを　力をつく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Text Box 1027"/>
          <p:cNvSpPr/>
          <p:nvPr/>
        </p:nvSpPr>
        <p:spPr>
          <a:xfrm>
            <a:off x="152280" y="304920"/>
            <a:ext cx="886932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あなたの恵みを　力をつくして　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踊りもて感謝ささげる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あなたの栄光　その御名を　高く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かかげて礼拝ささげる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＊ゆるされた　この心は　あなたを見て　もう　黙っていられない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踊り　祝い続ける　あなたの恵みのゆえ　恵みゆえ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ffffff"/>
                </a:solidFill>
                <a:latin typeface="ＭＳ Ｐゴシック"/>
              </a:rPr>
              <a:t>叫び　祝い続ける　偉大な栄光のゆえに　栄光のゆえ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Text Box 1028"/>
          <p:cNvSpPr/>
          <p:nvPr/>
        </p:nvSpPr>
        <p:spPr>
          <a:xfrm>
            <a:off x="119160" y="635040"/>
            <a:ext cx="8796240" cy="77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anata no megumi wo tikara wo tukusite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odori mote kannsya sasageru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anata no eikou sono mina wo takaku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kakagete reihai sasageru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*yurusareta kono kokoro wa anata o mite mou damatte irarenai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odori iwai tuzukeru anata no megumi no yue megumi yue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ccccff"/>
                </a:solidFill>
                <a:latin typeface="ＭＳ Ｐゴシック"/>
              </a:rPr>
              <a:t>sakebi iwai tuzukeru idaina eikou no yueni  eikou no y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めぐみ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1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恵みを　力をつくし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Text Box 1027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1.  Your mercy taught us how to dan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to celebrate with all we have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and we'll dance to thank You for Your merc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. Your glory taught us how to shou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To lift Your Name in all the ear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and we'll shout to the praise of Your gl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*It's the overflow of a forgiven soul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and now we've seen You, G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our hearts can not stay sil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e'll be a dancing generation, dancing because of Your great mercy, Lord Your great mercy L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we'll be a shouting generation, shouting because of Your great glory, Lord, Your great glory,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めぐみ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を心にか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を心にかけ　祈りにこた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常に私を思い　愛される　イッツ　アメイジング！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主が私を　主が私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友と　呼ばれる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能なる　栄光の主　友なる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o kokoro ni kake inoei ni kot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neni watasi wo omoi aisareru it`s amazing!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ga watasiwo syuga watasiw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no tomo to yobarer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nnou naru eikou no syu tomo naru sy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をこころにか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を心にかけ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Who am I that You are mindful of m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at You hear me when I ca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s it true that You are thinking of m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w You love me, it's amazing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*I am a friend of God, I am a friend of Go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I am a friend of God. He calls me frie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bridge) God Almighty, Lord of Gl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        You have called me frie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をこころにか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6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れわれは一つ　ハレルヤ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々は一つ　ハレルヤ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にあって一つ　ハレル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集まるとき　イエスはとも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御名に　力と権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ware wa hitotsu  halleluja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i atte hitotsu  halleluja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sumaru toki  iesu wa tomo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no mina ni  chikara to ken 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れわれはひとつはれる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7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こそはわが心の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こそは　わが心の岩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主の御名に　主の御名に　ほまれあれ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koso wa  waga kokoro no iwa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shu no mina ni  shu no mina ni homare a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こそはわがこころのい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4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ほまれと賛美受けるお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Text Box 1027"/>
          <p:cNvSpPr/>
          <p:nvPr/>
        </p:nvSpPr>
        <p:spPr>
          <a:xfrm>
            <a:off x="152280" y="30492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Text Box 1028"/>
          <p:cNvSpPr/>
          <p:nvPr/>
        </p:nvSpPr>
        <p:spPr>
          <a:xfrm>
            <a:off x="119160" y="635040"/>
            <a:ext cx="87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まれとさんびうけるお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7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いやしの川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Text Box 1027"/>
          <p:cNvSpPr/>
          <p:nvPr/>
        </p:nvSpPr>
        <p:spPr>
          <a:xfrm>
            <a:off x="152280" y="228600"/>
            <a:ext cx="886932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のいやしの川が　世界に流れ行く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その流れはゆたか　およげるほどに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主のいやしの川が　世界に流れ行く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その流れはいのち　すべてが生き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すべてが生きる　すべてが生き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この川の流れ行くところ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すべてが生きる　すべてが生きる</a:t>
            </a:r>
            <a:br>
              <a:rPr sz="2700"/>
            </a:br>
            <a:br>
              <a:rPr sz="2700"/>
            </a:br>
            <a:r>
              <a:rPr b="0" lang="ja-JP" sz="2700" spc="-1" strike="noStrike">
                <a:solidFill>
                  <a:srgbClr val="ffffff"/>
                </a:solidFill>
                <a:latin typeface="ＭＳ Ｐゴシック"/>
              </a:rPr>
              <a:t>この川の流れ行くところ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1028"/>
          <p:cNvSpPr/>
          <p:nvPr/>
        </p:nvSpPr>
        <p:spPr>
          <a:xfrm>
            <a:off x="119160" y="533520"/>
            <a:ext cx="879624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yu no iyasi no kawa ga sekai ni nagareyuk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ono nagare wa yutaka oyogeru hodoni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yu no iyasi no kawa ga sekai ni nagareyuk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ono nagare wa inoti subete ga iki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bete ga ikiru subete ga ikiru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ono kawa no nagareyuku tokoro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subete ga ikiru subete ga ikiru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ccccff"/>
                </a:solidFill>
                <a:latin typeface="ＭＳ Ｐゴシック"/>
              </a:rPr>
              <a:t>kono kawa no nagareyuku toko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いやしのかわ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8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御名あがめ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Text Box 3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御名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と　ほまれ　受けるべき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よ　手をあ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御名を　高くかかげ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よ　偉大な神よ　しるしと不思議　なされる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よ　あなただけが主　ただひとりの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いなる　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Text Box 4"/>
          <p:cNvSpPr/>
          <p:nvPr/>
        </p:nvSpPr>
        <p:spPr>
          <a:xfrm>
            <a:off x="119160" y="635040"/>
            <a:ext cx="87962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mina aga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to homare ukerubeki 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shu yo te wo ag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 na mina wo takaku kakage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yo idaina kami yo shirushi to fushigi nasareruk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yo anata dakega shu tada hitori no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kam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みなあが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■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8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御名あがめ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Text Box 3"/>
          <p:cNvSpPr/>
          <p:nvPr/>
        </p:nvSpPr>
        <p:spPr>
          <a:xfrm>
            <a:off x="152280" y="685800"/>
            <a:ext cx="886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Text Box 6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みなあがめ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8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御名あがめ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Text Box 3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Queremos darete gloria, y alabanz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vantando nuestras manos exaltandote seNor(*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res Tu, grandes sus miraguros s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 hay nadie como Tu, no hay nadie como Tu (*2)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Text Box 6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せいなるみなあがめ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19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慰めが　シオンをおお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Text Box 3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慰めが　シオンをおおい　すべての　廃墟をおお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荒野を生かし　砂漠うるおす　主の園のように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楽しみ　喜び　感謝　歌声　絶え間なく　みちあふ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霊に　ふれられ　新しく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のみなに　とわに栄光あ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4"/>
          <p:cNvSpPr/>
          <p:nvPr/>
        </p:nvSpPr>
        <p:spPr>
          <a:xfrm>
            <a:off x="119160" y="1092240"/>
            <a:ext cx="879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no nagusame ga Shion wo ooi Subete no haikyo wo o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なぐさめがしおんをおお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8"/>
          <p:cNvSpPr/>
          <p:nvPr/>
        </p:nvSpPr>
        <p:spPr>
          <a:xfrm>
            <a:off x="57168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rano wo ikashi sabaku uruosu Shuno sono no youni s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Rectangle 9"/>
          <p:cNvSpPr/>
          <p:nvPr/>
        </p:nvSpPr>
        <p:spPr>
          <a:xfrm>
            <a:off x="53352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noshimi Yorokobi kansha utagoe taemanaku michiaf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Rectangle 10"/>
          <p:cNvSpPr/>
          <p:nvPr/>
        </p:nvSpPr>
        <p:spPr>
          <a:xfrm>
            <a:off x="1447920" y="3581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tama ni furerare atarashiku s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Rectangle 11"/>
          <p:cNvSpPr/>
          <p:nvPr/>
        </p:nvSpPr>
        <p:spPr>
          <a:xfrm>
            <a:off x="1845360" y="441972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iesu no minani towa ni eiko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0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言われる世の終わりま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Text Box 3"/>
          <p:cNvSpPr/>
          <p:nvPr/>
        </p:nvSpPr>
        <p:spPr>
          <a:xfrm>
            <a:off x="152280" y="685800"/>
            <a:ext cx="88693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言われる　世の終わりまで　ともにいると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しるしとふしぎで　主はみことばを　確かに　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Text Box 4"/>
          <p:cNvSpPr/>
          <p:nvPr/>
        </p:nvSpPr>
        <p:spPr>
          <a:xfrm>
            <a:off x="173160" y="1015920"/>
            <a:ext cx="879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wa iwareru yono owarimad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moni iruto  (X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rushito fushigide shuwa mikotoba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shikani sareru (X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いわれるよのおわりま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1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血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Text Box 3"/>
          <p:cNvSpPr/>
          <p:nvPr/>
        </p:nvSpPr>
        <p:spPr>
          <a:xfrm>
            <a:off x="-152280" y="533520"/>
            <a:ext cx="937260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あなたの血は　世のすべてのむなしさ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を守り　義とみとめる　主イエスの血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十字架は　父なる主の　心しめ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　大胆に　御前に出る　主の血によ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罪から きよめ 新しくする 流された イエスの血潮だけ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洗いきよめて 神の友とす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唯一の 主の血潮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king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Text Box 4"/>
          <p:cNvSpPr/>
          <p:nvPr/>
        </p:nvSpPr>
        <p:spPr>
          <a:xfrm>
            <a:off x="347760" y="457200"/>
            <a:ext cx="8796240" cy="86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yo anatano chiwa yono subeteno munashisak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o mamori  gito mitomeru shuiesu no chi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jyujikawa chichinaru shuno kokoro shim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daitanni mimaeni deru shunochini y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</a:t>
            </a: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tsumikara kiyome atarashikusuru nagasareta iesuno chishio dak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rai kiyomete kamino tomoto su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uitsuno shuno chishio King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ち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2 C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その尽きない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Text Box 3"/>
          <p:cNvSpPr/>
          <p:nvPr/>
        </p:nvSpPr>
        <p:spPr>
          <a:xfrm>
            <a:off x="-152280" y="406440"/>
            <a:ext cx="937260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ばらしい　その尽きない愛　十字架の恵み受け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を知ることできないほど　あなたは　うるわしい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栄光　天にあふれ　全地は　みわざあお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偉大さ　心みたし　歌います　うるわしい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あなたを愛し　礼拝ささげ　歌います　うつくしい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わざもて　目ひらかれ　心とらえる誰よりもすばらしい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は　ただ歌います　うつくしい主　あなた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Text Box 4"/>
          <p:cNvSpPr/>
          <p:nvPr/>
        </p:nvSpPr>
        <p:spPr>
          <a:xfrm>
            <a:off x="173160" y="762120"/>
            <a:ext cx="8796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arashii sono tsukinai ai jyuujikano megumi uk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wo shirukoto dekinai hodo anata wa uruwashii 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eikoo ten ni afure zenchiwa miwaza a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idaisa kokoro mitashi utaimasu uruwashii 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aishi reihai sasage utaimasu utsukushii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wazamote mehirakare kokorotoraeru dareyorimo subarashii 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wa tada utaimasu utsukushii shu atnata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ち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3 G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ただ一つのこと私は願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Text Box 3"/>
          <p:cNvSpPr/>
          <p:nvPr/>
        </p:nvSpPr>
        <p:spPr>
          <a:xfrm>
            <a:off x="-152280" y="406440"/>
            <a:ext cx="937260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だ一つのこと　私は願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みそばで　永遠に　生きるこ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遠に　永遠に　あなたと生き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口は　歌いつづける　あなたの愛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Text Box 4"/>
          <p:cNvSpPr/>
          <p:nvPr/>
        </p:nvSpPr>
        <p:spPr>
          <a:xfrm>
            <a:off x="173160" y="762120"/>
            <a:ext cx="8796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da hitotsunokoto watashiwa neg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misobade eien ni ikiruk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 ni eien ni anatato iki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kuchiwa utaitsuzukeru anatano a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だひとつのことわたしはねが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7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こそはわが心の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　賛美しよう　救い主イエス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たたえよう　賛美しよう救いの岩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koso wa  waga kokoro no iwa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shu no mina ni  shu no mina ni homare a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こそはわがこころのい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4 E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神の栄光　炎につつまれ　全地はふる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Text Box 3"/>
          <p:cNvSpPr/>
          <p:nvPr/>
        </p:nvSpPr>
        <p:spPr>
          <a:xfrm>
            <a:off x="-152280" y="406440"/>
            <a:ext cx="937260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神の栄光　炎につつまれ　全地はふるえ　全地はふる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愛とあわれみ　罪きよめられ　歌い続ける　歌い続け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ホザナ　ホザナ　いと高き　主に　ホザナ　ホザナ　いと高き　主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信仰を持って　立ち上がり叫ぶ　あなたのために！あなたのため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リバイバルのために　今ひざまづき　祈り求める　祈り求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きよめてください　あなたが愛したように　私の心を　くだ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見せてください　あなたの御国のために　この世の中から永遠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Text Box 4"/>
          <p:cNvSpPr/>
          <p:nvPr/>
        </p:nvSpPr>
        <p:spPr>
          <a:xfrm>
            <a:off x="0" y="6858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mi no eikoo honoo ni tsutsu mare zenchi wa furue zenchi wa fu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i to awaremi tusmi kiyomerare utai tsuzukeru utaituzuk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osanna hosanna ito takaki shuni 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nkoo wo motte tachiagari sakebu anata no tameni anata no tam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Revival no tameni ima hizamazuki inori motomeru inori motom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iyomete kudasai anata ga aishita yooni watashi no kokoro wo kud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sete kudasai anatano mikunino tameni konoyo no nakakara tow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のえいこうほのおにつつまれぜんちはふる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5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様おささげします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3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イエスさま　おささげし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わたしの　からだも　たましい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あなたに　ささげ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Text Box 4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sama osasage si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karada mo tamasii m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sasage mas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さまおささげし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6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たちの心を良く耕し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Text Box 3"/>
          <p:cNvSpPr/>
          <p:nvPr/>
        </p:nvSpPr>
        <p:spPr>
          <a:xfrm>
            <a:off x="152280" y="304920"/>
            <a:ext cx="8869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わたしたちの　こころを　よくたがやし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はたけにして　たくさんの　みがと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よいちにしてくだ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みちばたではなく　かたいいわちでもな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いばらがじゃまする　ちでもな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よいちにし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Text Box 4"/>
          <p:cNvSpPr/>
          <p:nvPr/>
        </p:nvSpPr>
        <p:spPr>
          <a:xfrm>
            <a:off x="119160" y="635040"/>
            <a:ext cx="87962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tati no kokoro wo yoku tagayasi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take ni site takusan no miga tor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iti ni site kud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chi bata dewa naku katai iwati demo n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bara ga jama suru chidemo n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ichi ni site kudasa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たちのこころをよくたがやし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7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誉れと賛美うけるお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誉れと賛美　うける　お方　それは栄光の　造り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聖霊　注がれ　溢れ　満たす　手をのべよ　御座に　恵みうけよ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鎖　解き放ち　自由にされる　とこしえの　御名を　ほめうた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エンド　アイ　ワーシップ　ユ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アイ　ギブ　マイライフ　トウ　ユー　ひざを　かがめて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イエス　アイ　ワーシップ　ユー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アイ　ギブ　マイライフ　トウ　ユー　ひざを　かがめ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Text Box 4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omareto sanbi ukeru okata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orewa eikouno tukurinus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eirei sosogare afure mitasu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ewo nobeyo mizani megumi ukey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kusari tokihanati jiyuuni sareru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okosieno minawo homeuta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nd i worship you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 give mylife to yo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izawo kagamet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yes i worship you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 give mylife to yo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izawo kagame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まれとさんびうけるお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8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は変えられ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私は変えられた　主イエスを知って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愛されてる喜びを　どんな時だっ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イエスはそばにいて　何度でも教えてく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私には主よ　ただあなただけ　どこまでだって　ついてゆ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は見放さず　また見捨てない　イエスはそばにいてく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私は変えられた　主イエスの十字架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赦されてる喜びを　どんな時だっ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イエスは　そばにいて　何度でも　教えてく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Text Box 4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tashi wa kaerareta shu iesu wo shitte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isareteiru yorokobi wo don'na tokid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esu wa sobani ite nando demo oshiete ku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tashi ni wa shuyo tada anata dake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okomade datte tsuite y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huwa mihanasazu mata misutenai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esu wa sobani ite ku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tashi wa kaerareta shu iesu no jyuujik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yurusareteru yorokobi wo don natokid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esu wa sobani ite nando demo oshiete ku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かえられたしゅいえすをしって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9 ●●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は勝利をとられた十字架の上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Text Box 3"/>
          <p:cNvSpPr/>
          <p:nvPr/>
        </p:nvSpPr>
        <p:spPr>
          <a:xfrm>
            <a:off x="152280" y="457200"/>
            <a:ext cx="8869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イエスは勝利をとられた　十字架の上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イエスは勝利をとられた　十字架の上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イエスは勝利を　すでにと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イエスは勝利を　すでにと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Text Box 4"/>
          <p:cNvSpPr/>
          <p:nvPr/>
        </p:nvSpPr>
        <p:spPr>
          <a:xfrm>
            <a:off x="119160" y="95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esu wa shouri wo torareta jyujika no 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esu wa shouri wo torareta jyujika no u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esu wa shouri wo sudeni to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esu wa shouri wo sudeni to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はしょうりをとられたじゅうじかのうえ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26 ●●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感謝せよ主はまこと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Text Box 3"/>
          <p:cNvSpPr/>
          <p:nvPr/>
        </p:nvSpPr>
        <p:spPr>
          <a:xfrm>
            <a:off x="152280" y="457200"/>
            <a:ext cx="8869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主に感謝せよ　主はまこと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いつくしみ深くあり　恵みはとこし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感謝　感謝　感謝　感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感謝せよ　主に　　　（＊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Text Box 4"/>
          <p:cNvSpPr/>
          <p:nvPr/>
        </p:nvSpPr>
        <p:spPr>
          <a:xfrm>
            <a:off x="119160" y="95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huni kamsha seyo shuwa makot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tsukushimibukakuari megumiwa tokoshi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amsha kamsha kamsha kamsh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amsha seyo shuni </a:t>
            </a:r>
            <a:r>
              <a:rPr b="0" lang="ja-JP" sz="2800" spc="-1" strike="noStrike">
                <a:solidFill>
                  <a:srgbClr val="ccccff"/>
                </a:solidFill>
                <a:latin typeface="Times New Roman"/>
              </a:rPr>
              <a:t>＊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かんしゃせよしゅはまこと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1 G W Come Holy Spirit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注い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 Holy Spirit 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注いであなたの　油を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私をとらえ　力与え　御霊よ　愛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あなたにふれ　私をとら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みもとに引きよせ　新しく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あなたの他に　比べるものない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あなたを　愛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Text Box 4"/>
          <p:cNvSpPr/>
          <p:nvPr/>
        </p:nvSpPr>
        <p:spPr>
          <a:xfrm>
            <a:off x="119160" y="68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ome Holy Spirit sosoid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abura 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o torae chikara ata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 yo aishi 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i fure watashi o tor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oto ni hikiyose atarashiku s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hoka ni kuraberu mono n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aishi 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むほおりいすぴりっとそそ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2 Dm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が捕らわれ人を返された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Text Box 3"/>
          <p:cNvSpPr/>
          <p:nvPr/>
        </p:nvSpPr>
        <p:spPr>
          <a:xfrm>
            <a:off x="152280" y="5335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が捕らわれ人を帰されたと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われらは夢見る者のよう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われらは喜びの叫びで満たさ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国々に伝える　主はおおいなることされ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喜ぼう　喜ぼう　喜ぼう　喜ぼう　主を　（喜ぼ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は私の痛みのぞき　自由あたえ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ダビデのように歌う　ダビデのように踊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の御座の中で流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Text Box 4"/>
          <p:cNvSpPr/>
          <p:nvPr/>
        </p:nvSpPr>
        <p:spPr>
          <a:xfrm>
            <a:off x="119160" y="8636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hu ga toraware bito wo kaesareta t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rera wa yume miru mono no yo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rera wa yorokobi no sakebi de mitas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kuniguni ni tsutaeru shu wa ooinaru koto sa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yorokobou yorokobou yorokobou yorokobou shu wo (yorokob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hu wa watashi no itami nozoki jiyuu ata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avid no yooni utau</a:t>
            </a:r>
            <a:r>
              <a:rPr b="0" lang="ja-JP" sz="24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avid no yooni od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hu no miza no naka de nag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がとらわれびとをかえされたと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4 ○ P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喜ぼう喜ぼうさあとにかく喜ぼ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喜ぼう　喜ぼう　さあ　とにかく喜ぼう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主に感謝をささげて　さあ　今　とにかく　喜ぼう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栄えるときにも　荒野にいるときに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主の恵みが　そこにあ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さあ　今　とにかく　喜ぼう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私の祈りと願い　すべては主に聞かれ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ffff"/>
                </a:solidFill>
                <a:latin typeface="Times New Roman"/>
              </a:rPr>
              <a:t>主の恵みが　そこにあ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Text Box 4"/>
          <p:cNvSpPr/>
          <p:nvPr/>
        </p:nvSpPr>
        <p:spPr>
          <a:xfrm>
            <a:off x="119160" y="68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Yorokoboo y</a:t>
            </a:r>
            <a:r>
              <a:rPr b="0" lang="ja-JP" sz="2700" spc="-1" strike="noStrike">
                <a:solidFill>
                  <a:srgbClr val="ccccff"/>
                </a:solidFill>
                <a:latin typeface="Times New Roman"/>
              </a:rPr>
              <a:t>　　</a:t>
            </a: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orokoboo saa tonikaku yorokobo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Syuni kansya wo sasagete saa tnikaku yorokobo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Sakaeru tokinimo aranoni irutoki nim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Syuno megumiga sokoni a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saa tnikaku yorokobo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Watasino inorito negai subeteha syuni kikare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ff"/>
                </a:solidFill>
                <a:latin typeface="Times New Roman"/>
              </a:rPr>
              <a:t>Syuno megumiga sokoni a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ろこぼうよろこぼうさあとにかくよろこぼ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47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こそはわが心の岩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O magnify the L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He is Worthy to be praisen * 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, Blessed be the rock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ed be the rock of my Salvation * 2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こそはわがこころのい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5 C P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全ての者みな主をたたえ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すべてのものみな　主をたたえ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声をあげて　全地は　たた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谷にも　山にも　かたりかけ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全ての民よ歌え　主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 Him, Praise Him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　すべてのたみ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 Him, Praise Him  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をあがめ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＊＊主はふさわしい方　栄光の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　とこしえまでも　ほめたた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Text Box 4"/>
          <p:cNvSpPr/>
          <p:nvPr/>
        </p:nvSpPr>
        <p:spPr>
          <a:xfrm>
            <a:off x="119160" y="68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ubeteno mono mina shuo tatae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koewo agete zennchiwa t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ninimo yamanimo katarikak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ubeteno  tamiyo utae sh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* Praise Him, Praise Him, subeteno tami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raise Him, Praise Him, shuwo agame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**Shuwa fusawashii kata eikoo no 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okoshie mademo homet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べてのものみなしゅをたたえ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6 Em W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主の御霊よみわざをなし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Text Box 3"/>
          <p:cNvSpPr/>
          <p:nvPr/>
        </p:nvSpPr>
        <p:spPr>
          <a:xfrm>
            <a:off x="152280" y="152280"/>
            <a:ext cx="8869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主の御霊よ　　みわざをな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新しい　油そそぎ　この国の上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天をひらき　栄光の雨　ふら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天をひらき　栄光の雨　ふら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天をひらき　栄光の雨　ふらせて　主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全て治め　今この国を　みちびいてください　主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御座にざして　われらを治め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天をひらいてくださ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Text Box 4"/>
          <p:cNvSpPr/>
          <p:nvPr/>
        </p:nvSpPr>
        <p:spPr>
          <a:xfrm>
            <a:off x="119160" y="53352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hunomitamayo miwazawo nas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tarashii aburasosogi konokuninou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ennwo hiraki eikoo no ame fu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ennwo hiraki eikoono ame fu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ennwo hiraki eikoono ame furasete sh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ubete osame ima konokuniwo michibiite kudasai sh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zani zashite warerawo o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ennwo hiraite kudas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たまよみわざをなし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7 A W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わがたましいのいやし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わがたましいの　いやし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わがあがない主　　ＯＨ　主よ　たたえ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天と地、海、空、つく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全地は　よろこぶ　あなたのゆ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主よ　たたえ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主をほめよ　主をほめ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とこしえに　とこし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Text Box 4"/>
          <p:cNvSpPr/>
          <p:nvPr/>
        </p:nvSpPr>
        <p:spPr>
          <a:xfrm>
            <a:off x="119160" y="68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aga tamashiino iyashi nu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aga aganai nushi Oh, shuyo tata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enn to chi umi sora tsukurar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zennchiwa yorokobu anatano yu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huyo tata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huwo homeyo shuwo homey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okoshieni tokoshi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のいやし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7 A W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わがたましいのいやし主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Text Box 3"/>
          <p:cNvSpPr/>
          <p:nvPr/>
        </p:nvSpPr>
        <p:spPr>
          <a:xfrm>
            <a:off x="152280" y="5335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of the b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er of the s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eemer of all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 I will bless You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r of the heav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eans and the skies All the earth rej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you we glorify we live to glor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ill bless the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ill bless the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all times at all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のいやし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7 A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わがたましいのいやし主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Text Box 3"/>
          <p:cNvSpPr/>
          <p:nvPr/>
        </p:nvSpPr>
        <p:spPr>
          <a:xfrm>
            <a:off x="152280" y="5335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 Bendec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 Bendec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si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siemp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Text Box 6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のいやし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8 ○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I Love I Love I Love your pres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Text Box 3"/>
          <p:cNvSpPr/>
          <p:nvPr/>
        </p:nvSpPr>
        <p:spPr>
          <a:xfrm>
            <a:off x="152280" y="685800"/>
            <a:ext cx="8869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Love     I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Love your pre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愛します　主のりんざ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Text Box 4"/>
          <p:cNvSpPr/>
          <p:nvPr/>
        </p:nvSpPr>
        <p:spPr>
          <a:xfrm>
            <a:off x="119160" y="1066680"/>
            <a:ext cx="87962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isimasu shuno rinz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いらぶあいらぶあいらぶぷれぜん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39 G P 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口先ではなく心込め歌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3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口先ではなく 心込め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全能なる主　あなたをあがめ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心から　心から あなたを愛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心から　心から　あなたをたたえ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Text Box 4"/>
          <p:cNvSpPr/>
          <p:nvPr/>
        </p:nvSpPr>
        <p:spPr>
          <a:xfrm>
            <a:off x="119160" y="68580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uchisaki dewanaku  kokorokome ut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zennou naru shu anatao agam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okorokara kokorokara anata wo ais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okorokara kokorokara anata wo tata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くちさきではなくこころこめうた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0 C W </a:t>
            </a:r>
            <a:r>
              <a:rPr b="0" lang="ja-JP" sz="1200" spc="-1" strike="noStrike">
                <a:solidFill>
                  <a:srgbClr val="ffffff"/>
                </a:solidFill>
                <a:latin typeface="Times New Roman"/>
              </a:rPr>
              <a:t>主は導きをもって私をここまでささえられ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Text Box 1027"/>
          <p:cNvSpPr/>
          <p:nvPr/>
        </p:nvSpPr>
        <p:spPr>
          <a:xfrm>
            <a:off x="152280" y="304920"/>
            <a:ext cx="8869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導きをもって　  私をここまでささえ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十字架のあとを　ただついて行き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 御顔みつめて　御声をたよりに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足の　あとを行かせてください　愛する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Text Box 1028"/>
          <p:cNvSpPr/>
          <p:nvPr/>
        </p:nvSpPr>
        <p:spPr>
          <a:xfrm>
            <a:off x="119160" y="1066680"/>
            <a:ext cx="87962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hu wa mitibiki wo motte</a:t>
            </a:r>
            <a:r>
              <a:rPr b="0" lang="ja-JP" sz="28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watasi wo  kokomade sasae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hu no juujika no ato wo</a:t>
            </a:r>
            <a:r>
              <a:rPr b="0" lang="ja-JP" sz="28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ada tuite ik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natano mikao mitumete</a:t>
            </a:r>
            <a:r>
              <a:rPr b="0" lang="ja-JP" sz="28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mikoe wo tayorini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miasi no ato wo ikasete</a:t>
            </a:r>
            <a:r>
              <a:rPr b="0" lang="ja-JP" sz="2800" spc="-1" strike="noStrike">
                <a:solidFill>
                  <a:srgbClr val="ccccff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kudasai aisuru sh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みちびきをもってわたしをここまでささえられ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2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Ａｍ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いやしあがない声あげてもとめ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Text Box 1027"/>
          <p:cNvSpPr/>
          <p:nvPr/>
        </p:nvSpPr>
        <p:spPr>
          <a:xfrm>
            <a:off x="0" y="304920"/>
            <a:ext cx="9021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いやし　あがない　声をあげて求める 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あなたの心を  教えてくださ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救い　解放　心あわせ求める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神の武具をつけて　改革を　おこそ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天がさけ　荒野に川が　流れ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われらを　満たし　神の息吹がふ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ホザナ　救い主　いと高きお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ホザナ　イエスキリスト　イエスキリストは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ホザナ　ホザナ　ホザナ　王に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Text Box 1028"/>
          <p:cNvSpPr/>
          <p:nvPr/>
        </p:nvSpPr>
        <p:spPr>
          <a:xfrm>
            <a:off x="-304920" y="558720"/>
            <a:ext cx="98298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yasi aganai koewo agete motomeru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natano kokoro wo osiete kudasa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kui kaihou kokoro awase motomer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amino bugu wo tukete kaikaku wo okos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en ga sake arano ni kawaga nag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rera wo mitasi kami no ibuki ga fu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zana sukui nusi ito takaki o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zana iesu kirisuto iesu kirisuto wa o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zana hozana hozana oo 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やしあがないこえあげてもとめ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3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Ｆ♯ｍ  神はどこにいるのかと人々はたずねて言う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3"/>
          <p:cNvSpPr/>
          <p:nvPr/>
        </p:nvSpPr>
        <p:spPr>
          <a:xfrm>
            <a:off x="0" y="304920"/>
            <a:ext cx="9021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はどこに　いるのかと　人々はたずねて言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神は　天におられ　御心をおこなわ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々はゆれうごいて　全ては　過ぎ去ってい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ゆるがない　わが岩　たたえつづけます　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たみの中でも　踊ろう　主は与え　主はとら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たみの中でも　踊ろう　ほむべきかな　主の御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栄光　栄光　主に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!!! Glori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i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ia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 ti Seno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Text Box 4"/>
          <p:cNvSpPr/>
          <p:nvPr/>
        </p:nvSpPr>
        <p:spPr>
          <a:xfrm>
            <a:off x="-304920" y="558720"/>
            <a:ext cx="982980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wa dokoni irunokato hitobitowa tazunete 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kami wa ten ni orare mikokoro wo okonaw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guni wa yure ugoite subete wa sugisatte 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yuruganai waga iwa tatae tuzukemasu shu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amino nakademo odorou shu wa atae shu wa tor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atamino nakademo odorou homubeki kana shu no 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eikou eikou shu ni  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………………………………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はどこにいるのかとひとびとはたずねてい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0 D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イスラエルのまことの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１  主はイスラエルのまことの神（２Ｘ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＊イエスこそ  メサイヤ （２Ｘ）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  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ヤウェ  エル・シャダイ エロ・ヒ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その名は主  （２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wa isuraeruno makoto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koso mesaiy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aue erushadai ero him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nawa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いすらえるのまことのか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4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Ａ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足元にひれ伏しま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しもとに　ひれふし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Text Box 8"/>
          <p:cNvSpPr/>
          <p:nvPr/>
        </p:nvSpPr>
        <p:spPr>
          <a:xfrm>
            <a:off x="152280" y="685800"/>
            <a:ext cx="8869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足もとに　ひれ伏します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と共に　いたい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さいだんに　走りよりま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炎で　燃やしてくださ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あなたの　栄光　わたしを　変える　主の栄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Text Box 9"/>
          <p:cNvSpPr/>
          <p:nvPr/>
        </p:nvSpPr>
        <p:spPr>
          <a:xfrm>
            <a:off x="119160" y="1015920"/>
            <a:ext cx="879624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simot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irefus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as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m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tai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idan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asir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yor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as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ono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de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moyasite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udas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nat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aer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6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さがし求め主を見出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Text Box 3"/>
          <p:cNvSpPr/>
          <p:nvPr/>
        </p:nvSpPr>
        <p:spPr>
          <a:xfrm>
            <a:off x="152280" y="304920"/>
            <a:ext cx="88693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さがしもとめ　主をみいだ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をみいだし　もっと愛す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足もとにすわり　さかずきうけ飲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によりそい　その鼓動を聞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の愛は深く　平安の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心とかされ　愛があふれ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Text Box 4"/>
          <p:cNvSpPr/>
          <p:nvPr/>
        </p:nvSpPr>
        <p:spPr>
          <a:xfrm>
            <a:off x="119160" y="635040"/>
            <a:ext cx="879624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gashimotome shu wo miidas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wo miidashi motto aisu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ashimoto ni suwari sakazuki uke nom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i yorisoi sono kodoo wo kiku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no aiwa fukaku heian no na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 tokasare aiga afure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がしもとめしゅをみいだす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7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偉大なるあなたの愛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Text Box 3"/>
          <p:cNvSpPr/>
          <p:nvPr/>
        </p:nvSpPr>
        <p:spPr>
          <a:xfrm>
            <a:off x="152280" y="304920"/>
            <a:ext cx="88693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イエス　偉大なる　あなたの愛は　  いのち　投げ出し　わたしを救った  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(*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罪ととが　おおわれて　十字架にかかり　死にまで　くだられた　なんという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今　わたしは　イエスの勝利を　宣言す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主は　三日後によみがえられて　今　生きている  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イエス　イエス　イエス　イエス　あなたこそわが救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イエス　イエス　イエス　イエス　あなたを愛します  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主はわたしの情熱　あなたを愛します  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主の炎　主の炎　わたしのうちに燃える  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(*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Text Box 4"/>
          <p:cNvSpPr/>
          <p:nvPr/>
        </p:nvSpPr>
        <p:spPr>
          <a:xfrm>
            <a:off x="173160" y="635040"/>
            <a:ext cx="879624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esu idainaru anata no ai wa inochi nagedashi watashi wo sukutta  (*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tumi to toga oowarete jyuujika ni kakari</a:t>
            </a:r>
            <a:r>
              <a:rPr b="0" lang="ja-JP" sz="20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shi ni made kudarareta nantoiu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ma watashi wa Iesu no shouri wo sengen s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Shu wa mikkago ni yomigaerarete ima ikiteiru  (*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esu Iesu Iesu Iesu anata koso waga suk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Iesu Iesu Iesu Iesu anata wo aishimasu  (*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Shu wa watashi no jyounetu  anata wo aishimasu  (*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Shu no fonoo  Shu no honoo  watashi no uchi ni moeru (*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いだいなるあなたのあい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8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ＧＷ イエスが愛したように私たちも愛し合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Text Box 3"/>
          <p:cNvSpPr/>
          <p:nvPr/>
        </p:nvSpPr>
        <p:spPr>
          <a:xfrm>
            <a:off x="152280" y="609480"/>
            <a:ext cx="8869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が愛したように　私たちも愛し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の愛の中で　枝となると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多くの実を結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が愛したように　私たちも愛し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人が友のため命を捨てるほどの愛は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ともにささえあい　ともに助け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の愛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ともに祈りあい　ともに笑いあう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の愛の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Text Box 9"/>
          <p:cNvSpPr/>
          <p:nvPr/>
        </p:nvSpPr>
        <p:spPr>
          <a:xfrm>
            <a:off x="347760" y="838080"/>
            <a:ext cx="879624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ga aishita yooni watashi tachi mo aishi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no ai no nakade eda to naru to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oku no mi wo mus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ga aishita yooni waashi tachi mo aish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toga tomo no tame inchi wo suteru hodono ai wa 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moni sasaeai tomoni tasuk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no 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moni inoriai tomoni wara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no ai no nak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Text Box 1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があいしたようにわたしたちもあいしあ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49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ＣＷ 主の血われをきよめ主の地自由に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Text Box 3"/>
          <p:cNvSpPr/>
          <p:nvPr/>
        </p:nvSpPr>
        <p:spPr>
          <a:xfrm>
            <a:off x="274680" y="304920"/>
            <a:ext cx="88693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血　われをきよめ　主の血　自由に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をあがめる　このとき　わがすべてをささげ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手　わがため裂かれ　主の足　わがため　さされ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今は　私が生きることなく　ただ主のため生きる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手にわが手を重ね　主の足にわが足重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とともに死に　主とともに生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永遠に主のため生きる（ただ主のた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Text Box 8"/>
          <p:cNvSpPr/>
          <p:nvPr/>
        </p:nvSpPr>
        <p:spPr>
          <a:xfrm>
            <a:off x="271440" y="533520"/>
            <a:ext cx="87962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no chi ware wo kiyome Shuno chi jiyuu ni su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wo agameru kono toki waga subete wo sasage 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no te waga tame sakare Shu no ashi  waga tame sasa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ma wa watashiga ikiru kotonaku tada Shu no tame iki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te ni waga te wo kasan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ashi ni waga ashi kas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to tomoni shini Shuto tomoni iki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Eien ni Shu no tame ikiru (Tada shuno t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Text Box 9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ちわれをきよ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0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ＧＷあなたの十字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Text Box 3"/>
          <p:cNvSpPr/>
          <p:nvPr/>
        </p:nvSpPr>
        <p:spPr>
          <a:xfrm>
            <a:off x="0" y="22860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あなたの十字架　わが罪を　あがない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真理のみことば　こころを照ら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自分を捨て　十字架を負い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　あなたについて行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すべてを主に　捧げ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生きた　供えものとして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あなたの御心なすために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　　　　　　　もちいてください　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Text Box 4"/>
          <p:cNvSpPr/>
          <p:nvPr/>
        </p:nvSpPr>
        <p:spPr>
          <a:xfrm>
            <a:off x="0" y="457200"/>
            <a:ext cx="879624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jiujika wagatsumi wo agan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nri no mikotoba kokorowo ter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ibun wo sute jiujika wo ou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i tsuitei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wo shuni sasag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itasonaemono tos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kokoro nasu tame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chiite kudasai shiuy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じゅうじ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1 G P Sing Sing 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Text Box 3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Sing sing sing 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天とともに歌おう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Sing sing sing 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感謝の心をもっ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叫ぶ　その御名主イエ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愛すべき　お方　天も地も　あが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王も国々も　神の子に　ひれふ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Ｙ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ou are the One You are the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解き放つ愛　導く光　燃える炎　神の子　主イエス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You are the One 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ため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Text Box 6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んぐしんぐしん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Text Box 8"/>
          <p:cNvSpPr/>
          <p:nvPr/>
        </p:nvSpPr>
        <p:spPr>
          <a:xfrm>
            <a:off x="0" y="635040"/>
            <a:ext cx="906768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ing sing sing ten to tomoni uta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ing sing sing kansha no kokoro mot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ebu sono mina shu i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isubeki okata ten to chi mo a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o mo kuniguni mo kami no ko ni hirefu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kihanatsu ai michibiku hikar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oeru honoo kami no ko shu iesu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　　　　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 no tame 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2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ホザナ　わが王を　高くかかげ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わが王を　高くかかげ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 in the high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our King be lifted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wagaou wo takaku kakag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ざなわがおうをたかくかかげ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4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尽きることの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Text Box 2051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尽きる事のない　あなたの愛が　わたしを包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あふれる喜び　全てのものが　あなたを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闇を消し去る　いのちの光　すべてを捨てた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手を伸ばして光放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あなたと歩む　それは素晴らしい　いのちの日々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Text Box 2052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Text Box 2053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Text Box 2054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つきることのないあなたのあい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2055"/>
          <p:cNvSpPr/>
          <p:nvPr/>
        </p:nvSpPr>
        <p:spPr>
          <a:xfrm>
            <a:off x="0" y="635040"/>
            <a:ext cx="906768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Tsukirukotononai anatano aiga watashiwo tsutsu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Afureru yorokobi subeteno monoga anatawo ut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Yamiwo keshisaru inochino hikari subetewo suteta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Tewo nobashite hikari ha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Anatato ayumu sorewa subarashii inochino</a:t>
            </a:r>
            <a:r>
              <a:rPr b="0" lang="en-US" sz="28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 hibi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5 Am P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わが救い　王なる主に歌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わが救い　王なる主に歌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世は主を知る　主の栄光満ち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し歌え　踊り続けよ　主イエスを見い出す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せよ　賛美せよ　賛美せよ　主を知る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waga sukui oonaru Shu ni u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yo ha Shu wo shiru Shu no eikoo michi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shi utae odori tuzukeyo Shu Iesu wo miidasu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seyo sanbi seyo sanbi seyo Shu wo shiru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わがすくいおおなるしゅに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2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は神の栄光を告げ知らせ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は神の　栄光を告げ知らせ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水が　海を満たすよう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々の中で　告げよう　神の御国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よう　全地は　主の栄光に　満たさ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wa kami no  eikou o tsugesiras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u ga  umi o mitasu you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guni no nakade  tsugeyou  kami no mikun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you  zenchi wa shu no eikou de  mita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はかみのえいこうをつげしらせ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5 Am P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わが救い　王なる主に歌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 Ti Cristo, Rey y Salv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antamos alab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l mundo Te conoc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 sera lleno de Tu gl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 seguire danz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 seguire alab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o pa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sta que Te conoz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o parase *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sta que te conoz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Text Box 8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わがすくいおおなるしゅに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36000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6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ＤＰ  どんな時で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Text Box 2051"/>
          <p:cNvSpPr/>
          <p:nvPr/>
        </p:nvSpPr>
        <p:spPr>
          <a:xfrm>
            <a:off x="274680" y="228600"/>
            <a:ext cx="8869320" cy="9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どんな時でも私は　賛美を決してやめること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れはあなたが私を　愛してること知ってるから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どんな場所でも私は　賛美を決してやめることない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れはあなたが私と　一緒にいて守っているから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今もあなたが　一番必要　すべてを満たしてくれるお方</a:t>
            </a:r>
            <a:br>
              <a:rPr sz="2400"/>
            </a:br>
            <a:br>
              <a:rPr sz="2400"/>
            </a:b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恵みに応え　目を上げ歌う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をやめることはない　いつもいつまで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は永遠に　賛美は永遠に　賛美は永遠に　あなた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は永遠に　賛美は永遠に　賛美は永遠に　あなた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Text Box 2052"/>
          <p:cNvSpPr/>
          <p:nvPr/>
        </p:nvSpPr>
        <p:spPr>
          <a:xfrm>
            <a:off x="0" y="53352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Donnatokidemo watasiha sanbiwo ketuusite yamerukoto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reha anataga watasiwo aisiterukoto sitteru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Donnabasyodemo watasiha sanbiwo kesitte yamerukoto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reha anataga watasito ittsyoniite mamotte iru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mamo anataga itiban hituyou subetewo mitasitekureruo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eguminikotae mewoageu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nbiwo yamerukotohanai itumo ituma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biha eienni Sanbiha eienni Sanbiha eienni ana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biha eienni Sanbiha eienni Sanbiha eienni ana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Text Box 2055"/>
          <p:cNvSpPr/>
          <p:nvPr/>
        </p:nvSpPr>
        <p:spPr>
          <a:xfrm>
            <a:off x="0" y="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ん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Text Box 2056"/>
          <p:cNvSpPr/>
          <p:nvPr/>
        </p:nvSpPr>
        <p:spPr>
          <a:xfrm>
            <a:off x="71280" y="-32076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どんなときでもわたし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7 E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御使いらも聖徒ら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使いらも　聖徒ら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ものは　御前にひれ伏し　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むべきお方　ほむべきお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もの　造られた主 栄光　主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昼も　夜も　賛美　祈り 主の御前に立ちのぼ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昼も　夜も　賛美　祈り 主の御前に立ちのば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ukai ramo seito ra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mono wa mimae ni hirefushi ut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ubeki okata homubeki o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mono tukurareta Shu eikou Shu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ru mo yoru mo sanbi inor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 ni tachino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ru mo yoru mo sanbi inor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 ni tachino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つかいらもせいとら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7 E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御使いらも聖徒らも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geles y santos se inclinan ante 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os ancianos arrojan sus coronas ante ti y can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porque digno eres tu, porque dingo eres 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do fue hecho por ti y todo es para 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 mereces Gl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ia y noche suba incenso delante de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ia y noche suba incenso delante de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ia y noche suba incenso delante de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ia y noche suba incenso delante de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つかいらもせいとら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7 E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御使いらも聖徒らも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Text Box 2051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2052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ll the saints and angels bow before your throne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ll the elders cast their crowns before the Lamb of God and sing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u are worthy of it all, You are worthy of it all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For from you are all things, and to you are all things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u deserve the glory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y and night, night and day, let incense arise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y and night, night and day, let incense arise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y and night, night and day, let incense arise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y and night, night and day, let incense a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つかいらもせいとら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8 Am P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臨在の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よあなたの臨在の中 喜びあふれ 楽しみとこし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あなたの祝福と恵みは尽きない＊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歌え　ハレルヤ　ハレ　ハレルヤ 来るべき主は生きてる＊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わが魂主に飢え乾く あなただけが 私を満た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あなたの祝福と恵みは尽きない＊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歌え　ハレルヤ　ハレ　ハレルヤ 来るべき主は生きてる＊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なんとすばらしい　なんとすばらしい　なんとすばらしい　主イエスの臨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なんとすばらしい　なんとすばらしい　なんとすばらしい　主とともにいるこ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Text Box 4"/>
          <p:cNvSpPr/>
          <p:nvPr/>
        </p:nvSpPr>
        <p:spPr>
          <a:xfrm>
            <a:off x="119160" y="560520"/>
            <a:ext cx="879624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yo anata no rinzai no naka yorokobi afure tanoshimi tokosh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nata no syukufuku to megumi wa tukinai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uta e hallelujah halle hallelujah kitarubeki shu wa ikiteru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ga tamashii shu ni uekawaku anata dakega watashi o mit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nata no syukufuku to megumi wa tukinai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uta e hallelujah halle hallelujah kitarubeki shu wa ikiteru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anto subarashii nanto subarashii nanto subarashii shu iesu no rinz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anto subarashii nanto subarashii nanto subarashii shu to tomoni iruk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りんざいのな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8 Am P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臨在の中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Text Box 3"/>
          <p:cNvSpPr/>
          <p:nvPr/>
        </p:nvSpPr>
        <p:spPr>
          <a:xfrm>
            <a:off x="0" y="-380880"/>
            <a:ext cx="886932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Text Box 4"/>
          <p:cNvSpPr/>
          <p:nvPr/>
        </p:nvSpPr>
        <p:spPr>
          <a:xfrm>
            <a:off x="0" y="304920"/>
            <a:ext cx="879624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En tu presencia hay plenitud del goz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delicias a tu diestra delicias a tu di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u bendicion inagotable y tu favor sin limite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cantamaos aleluya ale alelu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El esta vivo y regresara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dichoso yo por tener hanbre y sad de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olo tu satisface solo tu satis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u bendicion inagotable y tu favor sin limite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cantamaos aleluya ale alelu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El esta vivo y regresara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o hay nada mas hermoso no hay nada mas herm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o hay nada mas hermoso que habitar conti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o hay nada mas hermoso no hay nada mas herm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no hay nada mas hermoso que habitar donde tu 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りんざいのな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9 G W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願い主イエス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願い　主イエス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から　あがめたた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賛美はあなた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けがえのない主イエス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と わがたましいを　あなただけ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生きるかぎり　あなたの道を 歩ませたま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Text Box 4"/>
          <p:cNvSpPr/>
          <p:nvPr/>
        </p:nvSpPr>
        <p:spPr>
          <a:xfrm>
            <a:off x="347760" y="533520"/>
            <a:ext cx="879624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no negai Shu Iesu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kara agame tata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sanbi wa anata 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kegae no nai Shu Iesu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to waga tamashii o anatadake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irukagiri anata no michi o ayumasetam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Text Box 8"/>
          <p:cNvSpPr/>
          <p:nvPr/>
        </p:nvSpPr>
        <p:spPr>
          <a:xfrm>
            <a:off x="71280" y="-30492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ねがいしゅいえす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59 G W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の願い主イエスを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Text Box 4"/>
          <p:cNvSpPr/>
          <p:nvPr/>
        </p:nvSpPr>
        <p:spPr>
          <a:xfrm>
            <a:off x="152280" y="560520"/>
            <a:ext cx="879660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his is my desire to honor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ord with all my heart I worship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ll have within 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 give You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d all that I adore is i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ord I give You my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 give You my s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 live for You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very breath that I 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very moment I'm aw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ord have Your way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ねがいしゅいえす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いつも主を求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Text Box 3"/>
          <p:cNvSpPr/>
          <p:nvPr/>
        </p:nvSpPr>
        <p:spPr>
          <a:xfrm>
            <a:off x="152280" y="304920"/>
            <a:ext cx="89917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いつも主を求め　恵み受けます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私の全て　主にささげま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ほめたたえます　主を　主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　主の主　王の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生ける神だから　全てを治める　ほめ歌　ささげま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いつも主に感謝を　ささげ生きた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が変えられた　私のいの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ほめたたえます　主を　主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Text Box 4"/>
          <p:cNvSpPr/>
          <p:nvPr/>
        </p:nvSpPr>
        <p:spPr>
          <a:xfrm>
            <a:off x="-76320" y="560520"/>
            <a:ext cx="94489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tumo Shu o motome megumi ukemas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watashi no subete Shu ni sasagem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metataemasu Shu o Shu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Shu no Shu Oo no O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ketru kami dakara subete o osamer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me uta sasagem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tumo Shu ni kansya wo  sasage ikit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 ga kaerareta watashi no inoch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metataemasu Shu o Shu 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つもしゅをもと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2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は神の栄光を告げ知らせ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la tierra habr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nocimineto de la gloria de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omo las aguas cubren el m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e proclamalo entre las nacion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da a conocer de su rei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u pueblo sin temor a plocrama a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la tierra de su gloria lle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てんはかみのえいこうをつげしらせ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0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いつも主を求め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Text Box 4"/>
          <p:cNvSpPr/>
          <p:nvPr/>
        </p:nvSpPr>
        <p:spPr>
          <a:xfrm>
            <a:off x="-76320" y="560520"/>
            <a:ext cx="94489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ere I am, I've come to find Y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ere I am, too see Your g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o bring to you an offering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 have to ask myself one t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w can I do anything but praise, I pra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You You are God, You are L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You are all I'm living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You are King of everyth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 want my life to praise Y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ere I am, I've come to thank Y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ere I am, a life You'v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Because You gave Your life for 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You crucified Your Son for 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How can I do anything but praise, I pra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つもしゅをもと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1 G W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血潮と油注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Text Box 3"/>
          <p:cNvSpPr/>
          <p:nvPr/>
        </p:nvSpPr>
        <p:spPr>
          <a:xfrm>
            <a:off x="152280" y="560520"/>
            <a:ext cx="88693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血潮と　油そそぎ　われらを　王である祭司と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祈りの香と　賛美のいけにえ　たえまなく　ささげる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でなされる礼拝　今この地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栄光　雲のよう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喜びの歌　御国にみちあふ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ダビデの幕屋が　建て直さ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Text Box 4"/>
          <p:cNvSpPr/>
          <p:nvPr/>
        </p:nvSpPr>
        <p:spPr>
          <a:xfrm>
            <a:off x="-76320" y="941400"/>
            <a:ext cx="94489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chishioto abura sosog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o oo dearu saishitosu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rino kooto sambino ikenie Taemanaku sasageru to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de nasareru reihai ima konoch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 eikoo kumono yo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no uta mikunini michiafu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bideno makuyaga tatenaos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ちしおとあぶらそそ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2 A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Ｗ 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私の愛する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Text Box 3"/>
          <p:cNvSpPr/>
          <p:nvPr/>
        </p:nvSpPr>
        <p:spPr>
          <a:xfrm>
            <a:off x="152280" y="63648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わたしの愛する方　なんと美しく慕わし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この身も　この心も　すべてあなたのも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花嫁は待っています　花婿が来られるの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いつの日か　顔と顔を合わせ　御そばにゆく日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あなたを愛していますあなたの全てが愛し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心尽くし　御霊も花嫁も待ち望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来て下さい　花婿　主イエス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Text Box 4"/>
          <p:cNvSpPr/>
          <p:nvPr/>
        </p:nvSpPr>
        <p:spPr>
          <a:xfrm>
            <a:off x="119160" y="91440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watashino aisurukata nanto utsukushii shitawash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konomimo konokokoromo subete anatanom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hanayomewa matteimasu hanamukoga korareruno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itsuno hika kawoto kawowo awase misobani yukuhi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anatawo aishiteimasu anatano subetega itosh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kokoro tsukushi mitamamo hanayomemo machinozo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明朝"/>
                <a:ea typeface="ＭＳ Ｐ明朝"/>
              </a:rPr>
              <a:t>kitekudasai hanamuko shuiesuy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わたしのあいするかたなんとうつくしくしたわ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3 Em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Ｗ 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油注ぎあなたのものとなるため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Text Box 3"/>
          <p:cNvSpPr/>
          <p:nvPr/>
        </p:nvSpPr>
        <p:spPr>
          <a:xfrm>
            <a:off x="0" y="7621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油注ぎ　あなたのものとなるた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満たして　わたしのすべて　ささげ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霊の油注ぎ　とめどな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すべて　つくり変えてい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油注ぎ　油注ぎ　油注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Text Box 4"/>
          <p:cNvSpPr/>
          <p:nvPr/>
        </p:nvSpPr>
        <p:spPr>
          <a:xfrm>
            <a:off x="0" y="990720"/>
            <a:ext cx="879624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urasosogi anatano monoto narut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yo mitashite watashinosubete sasag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mano aburasosogi tomedon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no subete tsukuri kaeteyu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urasosogi aburasosogi aburasosog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あぶらそそぎあなたのものとなるため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4 F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Ｗイエス愛します愛します心注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Text Box 2051"/>
          <p:cNvSpPr/>
          <p:nvPr/>
        </p:nvSpPr>
        <p:spPr>
          <a:xfrm>
            <a:off x="198360" y="762120"/>
            <a:ext cx="8869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愛します　愛します　心注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ただあなただけ　慕い求め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ふれる　あふれる あなたを慕う思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そばに　引き寄せて　主よ　慕い求め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Text Box 2052"/>
          <p:cNvSpPr/>
          <p:nvPr/>
        </p:nvSpPr>
        <p:spPr>
          <a:xfrm>
            <a:off x="347760" y="10666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aisimasu aisimasu kokoro soso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da anatadake shitaimotom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fureru afureru anatawo shitau om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sobani hikiyosete Shu yo shitaimotom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Text Box 2055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いえすあいしますあいしますこころそそ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5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ＤＷあなたの声をもとめ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Text Box 1027"/>
          <p:cNvSpPr/>
          <p:nvPr/>
        </p:nvSpPr>
        <p:spPr>
          <a:xfrm>
            <a:off x="0" y="406440"/>
            <a:ext cx="8869320" cy="12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声を　求め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顔　求め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心　求め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に出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を委ねて　全てを捧げ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求めて　礼拝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Text Box 1028"/>
          <p:cNvSpPr/>
          <p:nvPr/>
        </p:nvSpPr>
        <p:spPr>
          <a:xfrm>
            <a:off x="0" y="660240"/>
            <a:ext cx="8796240" cy="12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koewo moto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kawo moto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kokoro moto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ni 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wo yudanete subetewo sasag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wo motomete reihai simas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こえをもとめ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6 A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Ｗ 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全ての疲れた人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Text Box 3"/>
          <p:cNvSpPr/>
          <p:nvPr/>
        </p:nvSpPr>
        <p:spPr>
          <a:xfrm>
            <a:off x="0" y="22860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疲れた人よ　重荷　悩み負う人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の前に出て行こう　すべてを　今手放そ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主よ　私の心に 触れ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　御腕に　抱いてください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愛に　飛び込みます　必ず受け止めてくれる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腕に　飛び込みます　必ず受け止めてくれる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Text Box 4"/>
          <p:cNvSpPr/>
          <p:nvPr/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 tsukareta hitoyo omoni nayami ouhit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no maeni dete ikou subetewo ima tebana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 syuyo watasino kokoroni hu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miudeni idaite 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aini tobikomimas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arazu uketomete kureruk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udeni tobikomimasu kanarazu uketomet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eruk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Text Box 9"/>
          <p:cNvSpPr/>
          <p:nvPr/>
        </p:nvSpPr>
        <p:spPr>
          <a:xfrm>
            <a:off x="223920" y="-45720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べてのつかれたひと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7 E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王なる主の御名すべての上に立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Text Box 1027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主の御名　全ての上に立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我らは主の民　この地を勝ち取るため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国を解き放つ　我らの国にこの街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主の栄光　天と地が一つにされる　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Text Box 1028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r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e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m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ti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titorut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uni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ihanat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rera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mat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nar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totig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totu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うなるしゅのみなすべてのうえにた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8 E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365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日の中であなたを恋いした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365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日の中で　あなたを　こいした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日々の生活の中で　あなたに　思いを寄せ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朝に昼に　夜にたえず　あなたをほめ続け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主は　まどろまない　ねむら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だから　ほめつづけ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yakurokujyugonit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onkad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isit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bi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kat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kad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moi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a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iru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u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ez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tuduk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nosy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doromana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emuran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kar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tuduk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さんびゃくろくじゅうごにちのなか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69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Ｗほほえみかけてかたりか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Text Box 3"/>
          <p:cNvSpPr/>
          <p:nvPr/>
        </p:nvSpPr>
        <p:spPr>
          <a:xfrm>
            <a:off x="152280" y="507960"/>
            <a:ext cx="886932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ほほえみかけて　かたりかけ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かおとかお合わせ　見つめ合っ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引き寄せられて　いだかれ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まえに向かって　あるいてい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やさしいまなざし　わたしのち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なみだぬぐい　きぼうもたら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手をとって抱いて　あいをかんじ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のまなこの　おくにわたしは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Text Box 4"/>
          <p:cNvSpPr/>
          <p:nvPr/>
        </p:nvSpPr>
        <p:spPr>
          <a:xfrm>
            <a:off x="0" y="762120"/>
            <a:ext cx="9144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ohoemi kakete katari kak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oto kao wo awase mitume a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kiyose rarete idakar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aeni mukatte aruite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asasii manazasii watasino tik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amida nugui kibou motara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ewo totte idaite aiwo kannji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no manakono okuni watasiha i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ほほえみかけてかたりかけ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が告げる主の栄光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27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が　告げる　主の栄光を　キリストの　うるわしさよ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　永遠に　御座の　小羊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に　ひれ伏し　主を　あがめる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あ　告げよう　主の栄光を　われらの　あがない主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ga  tsugeru  shu no eikou o kirisuto  no  uruwasisay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 towa ni miza no  kohitsuj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 ni  hirefusi shu o  agamer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a  tsugeyoo  shu no eikou o warera no  aganainushi 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がつげるしゅのえい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0 E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あなたを待ちのぞ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あなたを　待ち望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御足の　響き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主の力強い　臨在の中に立ち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シャカイナ・グローリー　カムダウ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シャカイナ・グローリー　カムダウ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Anata wo machinoz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Shuyo kitekuda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Shu no chiakrazuyoi rinzai no naka ni ta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Shekinah Glory com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Shekinah Glory come dow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まちのぞむみあしのひびき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550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0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Ｅ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あなたを待ちのぞ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Text Box 3"/>
          <p:cNvSpPr/>
          <p:nvPr/>
        </p:nvSpPr>
        <p:spPr>
          <a:xfrm>
            <a:off x="152280" y="380880"/>
            <a:ext cx="8869320" cy="9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ait for You We wait for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wait for You to walk in the roo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re we are standing in Your pres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re we are standing in Your presenc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ekinah Glory come dow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ekinah Glory come dow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Release the fullness of Your Spir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ekinah Glory come dow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hekinah Glory come dow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Text Box 6"/>
          <p:cNvSpPr/>
          <p:nvPr/>
        </p:nvSpPr>
        <p:spPr>
          <a:xfrm>
            <a:off x="0" y="-45720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まちのぞむみあしのひびき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主よ　感謝し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感謝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すべての恵みを　心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　感謝し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命にまさる　その恵み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感謝のこころ　感謝の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nsy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egumi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k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nnsy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ti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sar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egumi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sya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sya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かんしゃしますすべてのめぐみをこころか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2  D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主の愛はとこしえま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は　とこしえま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恵は　つき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朝ごとに　来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新しい　あなた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まことは　力強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ie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egumi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ki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sagoto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i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akoto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ikar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uy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いはとこしえまでそのめぐみはつき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3 G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たましいよ主をほめ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たましいよ　主をほめ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い御名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までより　声あ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うた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tamasi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yo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amadeyor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よしゅ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550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3 G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たましいよ主をほめよ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Text Box 3"/>
          <p:cNvSpPr/>
          <p:nvPr/>
        </p:nvSpPr>
        <p:spPr>
          <a:xfrm>
            <a:off x="152280" y="380880"/>
            <a:ext cx="886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Bless the Lord oh my soul oh my so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orship His Holy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ing like never before oh my s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’ll worship His Holy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sun comes up It’s a new day daw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t’s time to sing Your so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atever may pass and whatever lies before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et me be singing when the evening 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’re rich in love and You’re slow to 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name is great and your heart is k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all Your goodness I will keep on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en thousand reasons for my heart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Text Box 4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Text Box 5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Text Box 6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Text Box 7"/>
          <p:cNvSpPr/>
          <p:nvPr/>
        </p:nvSpPr>
        <p:spPr>
          <a:xfrm>
            <a:off x="71280" y="-32076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たましいよしゅをほめ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4 G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強く　雄々しく　恐れな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強く　雄々しく　恐れなく　聖霊の力を受け</a:t>
            </a: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全世界に出て行き　福音を伝えよ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十字架で流されたキリストの血潮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死のとげとすべてののろいに勝利し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だから　今立ち上がり　心から叫ぼ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私は福音を恥とは思わない　イエ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全ての人に福音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神の恵みを　伝えよう　イエ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Text Box 4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uyok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osik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osorenak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eirei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ikarawou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Zennsekai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deteik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ukuinnw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utaeyo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Jyujikade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agasaret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irisuto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ishiwoh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inotoget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bete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noroi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youris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Dakar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matatiagar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okorokar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akebo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tasihahukuinnw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ajitoha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ｏｍｏｈａｎａｉ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ubetenohitoni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ukuinnw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aminomegumin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hukuinnwo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utaeyou</a:t>
            </a:r>
            <a:r>
              <a:rPr b="0" lang="ja-JP" sz="26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まちつよくおおしくおそれな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5 A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ばらしいその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ば　　　　　　　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すばらしいその日　死はうちやぶられた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主はよみがえられた　十字架の墓は　永遠のいのち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　　叫べ　生きてる主に　イエス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Ｏｈ　Ｈａｐｐｙ　Ｄａｙ　Ｈａｐｐｙ　Ｄａｙ　罪ゆるされ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Ｏｈ　Ｈａｐｐｙ　Ｄａｙ　Ｈａｐｐｙ　Ｄａｙ　つくりかえられた　永遠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に会うその日　ついに自由になり　喜び　いつまで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平安の中　痛みは過ぎさった　叫べ　よみがえられた　イエス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ーなんてすばらしい　栄光の道　主の救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あー栄光の御名　輝いている　ＪＥＳＵＳ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Text Box 4"/>
          <p:cNvSpPr/>
          <p:nvPr/>
        </p:nvSpPr>
        <p:spPr>
          <a:xfrm>
            <a:off x="0" y="533520"/>
            <a:ext cx="879624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ｕｂａｒａｓｈｉｉ　ｓｏｎｏｈｉ　ｓｈｉｈａ　ｕｔｉｙａｂｕｒａｒｅｔａ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ｙｕｈａ　ｙｏｍｉｇａｅｒａｒｅｔａ　ｊｙｕｊｉｋａｎｏ　ｈａｋａｈａ　ｅｉｅｎｎｎｏ　ｉｎｏｔｉｈｅ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ａｋｅｂｅ　ｉｋｉｔｅｒｕ　Ｓｙｕｎｉ　ｉｅｓｕｎ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Ｏｈ　Ｈａｐｐｙ　Ｄａｙ　Ｈａｐｐｙ　Ｄａｙ　ｔｕｍｉｙｕｒｕｓａｒｅｔ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Ｏｈ　Ｈａｐｐｙ　Ｄａｙ　Ｈａｐｐｙ　Ｄａｙ　ｔｕｋｕｒｉｋａｅｒａｒｅｔａ　ｅｉｅｎｎｎ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ｙｕｎｉ　ａｕｓｏｎｏｈｉ　ｔｕｉｎｉｊｉｙｕｕｎｉｎａｒｉ　Ｙｏｒｏｋｏｂｉ　ｉｔｕｍａｄｅｍ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Ｈｅｉａｎｎｏｎａｋａ　ｉｔａｍｉｈａ　ｓｕｇｉｓａｔｔａ　ｉｅｓｕｎ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Ａａ　ｎａｎｎｔｅ　ｓｕｂａｒａｓｈｉｉ　ｅｉｋｏｕｎｏｍｉｔｉ　ｓｙｕｎｏ　ｓｕｋｕ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Ａａ　ｅｉｋｏｕｎｏｍｉｎａ　ｋａｇａｙａｉｔｅｉｒｕ　ＪＥＳＵ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ばらしいそのひしはうちやぶられ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6 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no  longer slav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Text Box 3"/>
          <p:cNvSpPr/>
          <p:nvPr/>
        </p:nvSpPr>
        <p:spPr>
          <a:xfrm>
            <a:off x="1522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Text Box 4"/>
          <p:cNvSpPr/>
          <p:nvPr/>
        </p:nvSpPr>
        <p:spPr>
          <a:xfrm>
            <a:off x="0" y="228600"/>
            <a:ext cx="879624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u unravel me, with a mel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u surround me with a s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Of deliverance, from my enemi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ill all my fears are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’m no longer a slave to f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 am a child of Go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From my Mothers womb  You have chosen me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Love has called my name 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’ve been born again, into your family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ur blood flows through my ve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u split the sea so I could walk right through it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y fears are drowned in perfect love</a:t>
            </a:r>
            <a:br>
              <a:rPr sz="2400"/>
            </a:b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u rescued me and I will stand and 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 am a child of God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7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Ｄ 指輪のような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指輪のような　献身的な愛　試された誓い　古い契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永遠の愛　嵐の中も地平線乗り越え　恵み来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忠実であり　そしてこれからも誓い立てられ　だから歌い続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いつまでもこの口はあなたをほめ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×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　　　いつまでもほめたたえ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しよう　ほめたたえよ　天使と聖徒　ともに歌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神の子にされ　やさしさで満たす　弱いものには　力与え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似姿に作られ　白に包まれ　灰を飾りに　花嫁とな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攻めと恥から自由になる　神知られて　だから歌い続け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Text Box 4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ubiw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oyoun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ennshintekinaa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mesaret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chikaifuruikeiya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Eien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i arashi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akamo Chiheisen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orikoe  megum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Chiujitsudear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shit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rekaramochikaitateradakarautaitsuzuk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tsumademo konokuchiwa anatawo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                             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tsumademo homet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              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bishiou hometataeyo tenshi to seito tomoni u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minokonisar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asashisademitas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owaimononiwachicara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isugatanitsukurareshironitsutsumareHaiwokazarinihanayometon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emeto jaji kara jiyuuninaru kaminishirarete Dakara utai tsu zuke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ゆびわのようなけんしんてきなあ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3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が告げる主の栄光を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LL HEAVEN DECLARES THE GLORY OF THE RISEN LOR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HO CAN COMPARE  WITH THE BEAUTY OF THE LORD?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EVER HE WILL BE THE LAMB UPON THE THRON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GLADLY BOW MY KNEE AND WORSHIP HIM ALONE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WILL PROCLAIM THE GLORY OF THE RISEN LOR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HO ONCE WAS SLAIM TO RECONCILE MAN TO GO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EVER YOU WILL BE THE LAMB UPON THE THRON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I GLADLY BOW MY KNEE AND WORSHIP YOU AL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がつげるしゅのえい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7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Ｄ指輪のような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Text Box 2051"/>
          <p:cNvSpPr/>
          <p:nvPr/>
        </p:nvSpPr>
        <p:spPr>
          <a:xfrm>
            <a:off x="53352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love is devoted like a ring of solid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ke a vow that is tested like a covenant of o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love is enduring through the winter r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beyond the horizon with mercy for to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aithful You have been and faithful you will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pledge yourself to me and 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 why I 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praise will ever be on my lips , ever be in my l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praise will ever be on my lips , ever be in my l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will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ｂ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 praised You will be prai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angels and saints we sing worthy are You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will 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ｂ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 praised You will be prai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angels and saints we sing worthy are You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Text Box 2052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Text Box 2055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2056"/>
          <p:cNvSpPr/>
          <p:nvPr/>
        </p:nvSpPr>
        <p:spPr>
          <a:xfrm>
            <a:off x="71280" y="-30492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ゆびわのようなけんしんてきなあ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78E W </a:t>
            </a: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あなた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Text Box 3"/>
          <p:cNvSpPr/>
          <p:nvPr/>
        </p:nvSpPr>
        <p:spPr>
          <a:xfrm>
            <a:off x="274680" y="609480"/>
            <a:ext cx="886932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あなただけ　あなただ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我が望み　我がすべ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Text Box 4"/>
          <p:cNvSpPr/>
          <p:nvPr/>
        </p:nvSpPr>
        <p:spPr>
          <a:xfrm>
            <a:off x="0" y="1447920"/>
            <a:ext cx="879624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anata dake anatad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cccff"/>
                </a:solidFill>
                <a:latin typeface="ＭＳ Ｐゴシック"/>
              </a:rPr>
              <a:t>　　</a:t>
            </a:r>
            <a:r>
              <a:rPr b="0" lang="en-US" sz="3200" spc="-1" strike="noStrike">
                <a:solidFill>
                  <a:srgbClr val="ccccff"/>
                </a:solidFill>
                <a:latin typeface="ＭＳ Ｐゴシック"/>
              </a:rPr>
              <a:t>waganozomi wagasub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だ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79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は情け深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情け深く　憐れみ深く　怒るのに遅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sakebukak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waaremibukak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arunonios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つくしみ　あわれみ　造られたもの　すべての上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tukusim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warem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kuraretamo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ueni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徒たちは　あなたをたたえ　栄光を告げ　御わざを語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totatihaanata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ta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wotug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wazawokat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あなたの王国は　永遠に　王国は　永遠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kok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in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kok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統治は　世々限りな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touchi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yokagirinak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王国は　永遠に　王国は　永遠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kok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in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koku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en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統治は　世々限りなく　続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touchih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yokagirinak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duk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Text Box 4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はなさけぶか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0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Ｇ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神は我のために戦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神は我らのために戦う　揺るがされない　御国を照ら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名によって　敵は滅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だから　叫ぼう　叫ぼ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神は我らのために戦う　暗闇を後退させ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名によって　敵は滅ぶ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だから　叫ぼう　叫ぼ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生きる　滅びない よみがえりの力　自由ある　私は生きてい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生きる　滅びない　いやされたことを　宣言して　あなたをかかげ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御名により　御名により　御名によ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Text Box 4"/>
          <p:cNvSpPr/>
          <p:nvPr/>
        </p:nvSpPr>
        <p:spPr>
          <a:xfrm>
            <a:off x="34776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Ｋａｍｉｈａ　ｗａｒｅｒａｎｏ　ｔａｍｅｔａｔａｕ　ｙｕｒｕｇａｓａｒｅｎａｉ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kuniwteras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ｙｕｎｏｍｉｎｏｔｔｅ　Ｔｅｋｉｈａ　ｈｏｒｏｂ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Ｄａｋａｒａ　ｓａｋｅｂｏｕ　ｓａｋｅｂｏ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Ｋａｍｉｈａ　ｗａｒｅｒａｎｏ　ｔａｍｅｔａｔａｕ　ｋｕｒａｙａｍｉｗｏ　ｋｏｕｔａｉｓａｓｅｔｒ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ｓｙｕｎｏｍｉｎｏｔｔｅ　Ｔｅｋｉｈａ　ｈｏｒｏｂ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Ｄａｋａｒａ　ｓａｋｅｂｏｕ　ｓａｋｅｂｏ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ＩｋｉｒｕｈｏｒｏｂａｎａｉＹｏｍｉｇａｅｒｉｎｏｔｉｋａｒａｊｉｙｕｕａｒｕ　ｗａｔａｓｉｈａｉｋｉｔＩｋｉｒｕ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ｈｏｒｏｂａｎａｉＩｙａｓａｒｅｔａｋｏｔｏｗｏｓｅｎｎｇｅｎｎｓｉｔｅａｎａｔａｗｏｋａｋａｇｅｒ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Ｍｉｎａｎｉｙｏｒｉ　Ｍｉｎａｎｉｙｏｒｉ　Ｍｉｎａｎｉｙｏｒ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Text Box 8"/>
          <p:cNvSpPr/>
          <p:nvPr/>
        </p:nvSpPr>
        <p:spPr>
          <a:xfrm>
            <a:off x="0" y="-32076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はわれらのためにたたか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1 G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愛するその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Text Box 3"/>
          <p:cNvSpPr/>
          <p:nvPr/>
        </p:nvSpPr>
        <p:spPr>
          <a:xfrm>
            <a:off x="274680" y="914400"/>
            <a:ext cx="886932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する　その声　私を慰め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命を与える　あなたの御言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身そば近く　引き寄せられ　あなたの声を聞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腕に抱き　悟らせたえ　あなたの御胸の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Text Box 4"/>
          <p:cNvSpPr/>
          <p:nvPr/>
        </p:nvSpPr>
        <p:spPr>
          <a:xfrm>
            <a:off x="347760" y="914400"/>
            <a:ext cx="87962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Ａｉｓｕｒｕ　ｓｏｎｏｋｏｅ　ｗａｔａｓｉｗｏ　ｎａｇｕｓａｍｅｒ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Ｉｎｏｔｉｗｏ　ａｔａｅｒｕ　ａｎａｔａｎｏ　ｍｉｋｏｔｏｂ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Ｍｉｓｏｂａｔｉｋａｋｕ　ｈｉｋｉｙｏｓｅｒａｒｅ　ａｎａｔａｎｏ　ｋｏｅｗｏ　ｋｉｋ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Ｍｉｕｄｅｎｉｄａｋｉｓａｔｏｒａｓｅｔａｍａｅ　ａｎａｔａｎｏ　ｍｉｕｄｅｎｏａｋ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いするそのこ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2 C#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ｍ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雨よ降り注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雨よ降り注げ　天の窓を開き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比べるものなき　おおいなる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　聖なる　われらの主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永久に栄光　永久に栄光　永久に栄光　あなたに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×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meyo furisosoge tennomadohira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raberumononaki ooinarus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seinaru wareranos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eikou towanieikou towanieikou anat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Text Box 7"/>
          <p:cNvSpPr/>
          <p:nvPr/>
        </p:nvSpPr>
        <p:spPr>
          <a:xfrm>
            <a:off x="0" y="-32076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めよふりそそ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2 C#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ｍ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雨よ降り注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Text Box 2051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Let it rain Let it r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　　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Open the floodgates of heav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There is no one like you you are Holy Ho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  <a:ea typeface="ＭＳ 明朝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Holy Holy Lord God Almi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Text Box 2052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Text Box 2053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Text Box 2054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Text Box 2055"/>
          <p:cNvSpPr/>
          <p:nvPr/>
        </p:nvSpPr>
        <p:spPr>
          <a:xfrm>
            <a:off x="0" y="-30492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めよふりそそ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3 E W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地は震え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地震えて　岩は動き　蘇られた主イエ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愛は死に打ち勝ち　勝利をと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永久に栄光あれ　永久に栄光あ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永久に　主イエス　子羊に　子羊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歌えハレルヤ　歌えハレルヤ　歌えハレルヤ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　　　　勝利の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Text Box 4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wafuruete iwawaugoki yomigaerareta shu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noaiwa shiniuchikachi shouri wo to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eikouare towani eiko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 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wani  shuiesu kohitsujini kohitsuj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ehareruya utaehareruya utaehareru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　　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ourino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Text Box 7"/>
          <p:cNvSpPr/>
          <p:nvPr/>
        </p:nvSpPr>
        <p:spPr>
          <a:xfrm>
            <a:off x="0" y="-32076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はふるえていわはうご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3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地は震え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Text Box 3"/>
          <p:cNvSpPr/>
          <p:nvPr/>
        </p:nvSpPr>
        <p:spPr>
          <a:xfrm>
            <a:off x="274680" y="0"/>
            <a:ext cx="886932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ground began to sh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stone was rolled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is perfect love could not be over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Now death where is your sting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ur resurrected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s rendered you 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he is glor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he is lifted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he is ris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alive, He is ali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sing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sing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e sing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　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he lamb has over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Text Box 4"/>
          <p:cNvSpPr/>
          <p:nvPr/>
        </p:nvSpPr>
        <p:spPr>
          <a:xfrm>
            <a:off x="0" y="6094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Text Box 7"/>
          <p:cNvSpPr/>
          <p:nvPr/>
        </p:nvSpPr>
        <p:spPr>
          <a:xfrm>
            <a:off x="0" y="-38088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はふるえていわはうご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4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王に誉れあ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に誉れあれ　小羊に歌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たたえよ　全てのも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世界を治める　王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どろかせよ　告げ知らせ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偉大な王の　御業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areare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hituji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tatae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nom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kai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sameru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dorokasey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gesirased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dain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waza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Text Box 8"/>
          <p:cNvSpPr/>
          <p:nvPr/>
        </p:nvSpPr>
        <p:spPr>
          <a:xfrm>
            <a:off x="0" y="-32076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うにほまれあ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はあなたをいやす主であ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はあなたをいやす主であ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みことばで病いをいや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私をいやす主であ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みことばで病をいや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wa anata o iyasu shu de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i no mikotoba de yamai o iy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watasi o iyasu shu de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kotoba de yamai o iy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あなたをいやすしゅであ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5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足下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の足下に　身をかがめ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ひれ付し　礼拝捧げ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香油を注ぎ　涙の髪で拭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愛する　主の御脚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心砕き　栄光脱ぎ捨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ただあなたを求め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なたの御顔　慕い求め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賛美　捧げ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Text Box 4"/>
          <p:cNvSpPr/>
          <p:nvPr/>
        </p:nvSpPr>
        <p:spPr>
          <a:xfrm>
            <a:off x="347760" y="609480"/>
            <a:ext cx="879624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simoton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gam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rehus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reiha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sage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uyu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sog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amida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ugu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isu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u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asi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kor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dak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eikounugis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d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otome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mika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itaimotome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nnb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sagem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あしも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6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十字架の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十字架の血　私をいやし　造り変える　神の子へ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今もなお　注がれる愛　勝利された　世界の王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よ　イエスよ　あなただけが　唯一の救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時は満る　響き渡れ　希望の歌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全地は知る　イエスの愛を　リバイバルは　やってく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その時まで　示し続け　歌い続ける　イエスの名前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よ　イエスよ　あなただけが　唯一の救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時は満る　響き渡れ　希望の歌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Text Box 4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Jyuujikanot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watasiwoiyas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ukurikae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aminokoh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mamona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sogarerua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yourisaret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akainoo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y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y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dakeg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uitunosuk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kihamiti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bikiwatar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ibounout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Zenntihasi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noaiw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ribaibaruh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atteku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onotokimad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imesituduk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utaituduke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n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namae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y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yo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dakega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yuitunosuk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okihamitiru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hibikiwatare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ibounout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ぼうじゅうじかのちわたしをいや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7 C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誰も見たことのないこと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3"/>
          <p:cNvSpPr/>
          <p:nvPr/>
        </p:nvSpPr>
        <p:spPr>
          <a:xfrm>
            <a:off x="27468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誰も見たことのないことが　今この地に起こ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誰も聞いたことのないことが今起こ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祈りは聞かれている　叫び続け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主のなされる　御業を伝え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荒野には道を　荒れ地には川を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　　新しいことが　今この地に起こ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Text Box 4"/>
          <p:cNvSpPr/>
          <p:nvPr/>
        </p:nvSpPr>
        <p:spPr>
          <a:xfrm>
            <a:off x="347760" y="533520"/>
            <a:ext cx="879624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rem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koto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ikotoga im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chiniok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rem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itakoto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ikotoga imaok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riw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kareteiru sakebituzuke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n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sareru miwazawo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utae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ranoniw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chiwo arechiniwa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wa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　　　　　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arashiikotoga imakonochiniok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Text Box 7"/>
          <p:cNvSpPr/>
          <p:nvPr/>
        </p:nvSpPr>
        <p:spPr>
          <a:xfrm>
            <a:off x="4608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だれもみたことがないこと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8 A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霊の炎よもう一度満たしてくださ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Text Box 3"/>
          <p:cNvSpPr/>
          <p:nvPr/>
        </p:nvSpPr>
        <p:spPr>
          <a:xfrm>
            <a:off x="685800" y="865080"/>
            <a:ext cx="7696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の炎よ　もう一度　満たし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の炎よ　もう一度　燃やし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花婿が　ハレルヤ　来ら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満たして　燃やして　焼き尽くしてくださ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Text Box 4"/>
          <p:cNvSpPr/>
          <p:nvPr/>
        </p:nvSpPr>
        <p:spPr>
          <a:xfrm>
            <a:off x="457200" y="1246320"/>
            <a:ext cx="822960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no honouyo mouichido mitashite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no honouyo mouichido moyashitekuda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reruya hanamukoga hareruya korar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tashite moyashite yakitsukushite kudas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Text Box 8"/>
          <p:cNvSpPr/>
          <p:nvPr/>
        </p:nvSpPr>
        <p:spPr>
          <a:xfrm>
            <a:off x="0" y="-457200"/>
            <a:ext cx="396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せいれいのほのおよもういちどみたしてくだ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89 E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しか神はい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Text Box 3"/>
          <p:cNvSpPr/>
          <p:nvPr/>
        </p:nvSpPr>
        <p:spPr>
          <a:xfrm>
            <a:off x="274680" y="53496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あなたしか　神はいない　あなたしか　救いはない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あなたしか　喜びはないあなただけが　私の望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歌わずにはいられない　あなたの愛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この場所におられる　神に歌う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ただ踊りたたえたい　とこしえまで歌い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　　　　　　　　　あなたの素晴らしさを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　　　　声が枯れるまで　汗出るまで　力の限り主を歌い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今叫ぶよ　天に響け　ハレルヤ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Text Box 4"/>
          <p:cNvSpPr/>
          <p:nvPr/>
        </p:nvSpPr>
        <p:spPr>
          <a:xfrm>
            <a:off x="119160" y="86508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shika kamiwaina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shika sukuiw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shika yorokobiwanai</a:t>
            </a: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dakega watasinonoz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　　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Utawazuniwairarenai anatanoai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　　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nobashioniorareru kaminiuta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adaodoritataetai tokoshiemade utait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　　　　　　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natanosubarashis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ekarerumade asederumade chikaranokagirishiuoutait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ccff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masakebuyo tennihibike hareru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Rectangle 8"/>
          <p:cNvSpPr/>
          <p:nvPr/>
        </p:nvSpPr>
        <p:spPr>
          <a:xfrm>
            <a:off x="304920" y="-6858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Text Box 9"/>
          <p:cNvSpPr/>
          <p:nvPr/>
        </p:nvSpPr>
        <p:spPr>
          <a:xfrm>
            <a:off x="228600" y="-45720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あなたしかかみはい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0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力ある主イエスの御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Text Box 3"/>
          <p:cNvSpPr/>
          <p:nvPr/>
        </p:nvSpPr>
        <p:spPr>
          <a:xfrm>
            <a:off x="152280" y="100656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ある主イエスの御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力ある主イエスの御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打ち砕く　打ち砕け　すべての　鎖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勇士よ立ち上がれ　勇士よ立ち上が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Text Box 4"/>
          <p:cNvSpPr/>
          <p:nvPr/>
        </p:nvSpPr>
        <p:spPr>
          <a:xfrm>
            <a:off x="119160" y="133668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aru shu iesu no 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karaaru shu iesu no 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shikudaku uchikudake subete no kus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uushiyotachig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ちからあるしゅいえすのみ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1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の偉大さ　とわに　かわら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Text Box 3"/>
          <p:cNvSpPr/>
          <p:nvPr/>
        </p:nvSpPr>
        <p:spPr>
          <a:xfrm>
            <a:off x="914400" y="1017720"/>
            <a:ext cx="76201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の偉大さ　とわに　かわら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今も　生きて　ともに、おられる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手のひらを　手のひらを　あなたに向け　たた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心尽くし　心尽くし　賛美を歌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4"/>
          <p:cNvSpPr/>
          <p:nvPr/>
        </p:nvSpPr>
        <p:spPr>
          <a:xfrm>
            <a:off x="944640" y="1246320"/>
            <a:ext cx="746748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no idaisa towani kawar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mamo ikite tomoni orareru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tenohirawo tenohirawo anatanimuke tata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okorotsukushi kokorotsukushi sanbiwo ut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のいだいさとはにかわら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2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すべての人は見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Text Box 3"/>
          <p:cNvSpPr/>
          <p:nvPr/>
        </p:nvSpPr>
        <p:spPr>
          <a:xfrm>
            <a:off x="533520" y="533520"/>
            <a:ext cx="82263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すべての人は見る　偉大な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暗闇を照らす　まことの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失望はない　主に頼るも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キリストは生き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死を打ち破り　蘇られた　すべての鎖解き放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イエスの名を呼ぶものはみな救わ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救わ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イエスは主　イエスは主　救い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Text Box 4"/>
          <p:cNvSpPr/>
          <p:nvPr/>
        </p:nvSpPr>
        <p:spPr>
          <a:xfrm>
            <a:off x="376200" y="789120"/>
            <a:ext cx="8158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ubeteno hitowa miru idaina hik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kurayamiwo terasu makotono hik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tsubouwa nai Shuni tayorum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 kirisutowa ikitei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iwo uchiyaburi yomigaerareta subeteno kusari tokihanat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iesuno nawo yobumonowa mina sukuw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ukuwar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iesuwa Shu iesuwa Shu sukuinu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Text Box 7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すべてのひとはみ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3G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あなたの深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Text Box 3"/>
          <p:cNvSpPr/>
          <p:nvPr/>
        </p:nvSpPr>
        <p:spPr>
          <a:xfrm>
            <a:off x="274680" y="129708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主よあなたの　深さ　広さ　高さ　きよさ　すべ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あじわい見つめ　歌うわたしの求めるすべ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Text Box 4"/>
          <p:cNvSpPr/>
          <p:nvPr/>
        </p:nvSpPr>
        <p:spPr>
          <a:xfrm>
            <a:off x="119160" y="162720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shuyo anatano hukasa hirosa takasa kiyosa sub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ＭＳ Ｐゴシック"/>
              </a:rPr>
              <a:t>aziwai mitsume utau watashino motomeru sub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あなたのふか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4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私ですあなたに渇くもの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Text Box 1027"/>
          <p:cNvSpPr/>
          <p:nvPr/>
        </p:nvSpPr>
        <p:spPr>
          <a:xfrm>
            <a:off x="152280" y="142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私です　あなたに渇くもの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御心　おもわずにい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悔い改めるべきは　私で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主よ　我が主よ　あなたは私の生きる意味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命の続く限り　あなたを愛し　慕い求めます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私こそ　あなたが必要で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分の冠　投げ捨てて　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座の前に　いま行き　ひれ伏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お主よ　我が主よ　栄光　誉　受ける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声枯れてもなお　御名をあがめ　賛美捧げ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Text Box 1028"/>
          <p:cNvSpPr/>
          <p:nvPr/>
        </p:nvSpPr>
        <p:spPr>
          <a:xfrm>
            <a:off x="119160" y="38088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yo watashi desu  anatani kawaku mon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ikokoro  omowazuni 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iaratameru beki wa watashi d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shuyo  waga shuyo  anatawa watashi no ikiru 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chi no tuzuku kagari  anata wo aishi  shitai motom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yo watashi koso  anataga hitsuyou d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ibunn no kannmuri  nage su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a no mae ni  ima iki  hirehu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 shuyo  waga shuyo  eikou  homare  ukeru 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 koe karetemo nao  mina wo agame  sannbi sasagemas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わたしですあなたにかわくもの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私はあなたをいやす主であ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I am the God that healeth the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am the Lord Your heal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sent my word and I healed your diseas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am the Lord your heal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the God that healeth m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the Lord my heal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sent Your word and You healed my diseas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the Lord my heal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はあなたをいやすしゅであ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7 C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  <a:ea typeface="ＭＳ 明朝"/>
              </a:rPr>
              <a:t>栄光の王うるわしい方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Text Box 3"/>
          <p:cNvSpPr/>
          <p:nvPr/>
        </p:nvSpPr>
        <p:spPr>
          <a:xfrm>
            <a:off x="46080" y="331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栄光の王　うるわしい方　きよい王の前　はいしたたえま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小羊　イエス　王なる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とわに　賛美をささげます　御座に　座しておられる主に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栄光　あなた　だけに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あわれみの王　愛に満ちた主　全ての国は　畏れかしこ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小羊　イエス　王なる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救いの王は　あいと力満ち　その血をもって　いのち与え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小羊　イエス　王なる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Text Box 4"/>
          <p:cNvSpPr/>
          <p:nvPr/>
        </p:nvSpPr>
        <p:spPr>
          <a:xfrm>
            <a:off x="-228600" y="560520"/>
            <a:ext cx="975348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Eikoo no Oo, uruwashii kata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iyoi Oo no mae,  haishi tataema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hitsuji IESU  Oo naru S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Towani, sanbi wo sasagemas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izani, zashite orareru Shu 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Eiko,  anata dake 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Awaremi no Oo, aini mishita Sh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bete no kuni wa, osore kashikom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hitsuji IESU  Oo naru S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kui no Oo wa, aito chikara michi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ono chi wo motte, inochi ataer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ohitsuji IESU  Oo naru s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6"/>
          <p:cNvSpPr/>
          <p:nvPr/>
        </p:nvSpPr>
        <p:spPr>
          <a:xfrm>
            <a:off x="9372600" y="-45720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のおううるわしい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283680" y="-76320"/>
            <a:ext cx="885996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8 A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全てのものは希望と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3"/>
          <p:cNvSpPr/>
          <p:nvPr/>
        </p:nvSpPr>
        <p:spPr>
          <a:xfrm>
            <a:off x="0" y="304920"/>
            <a:ext cx="886932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ＭＳ Ｐゴシック"/>
              </a:rPr>
              <a:t>-</a:t>
            </a: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全てのものは 希望と力　いつも求めている いのちのこと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かけられるかたは 救い主イエ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がここにおられる おられる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の愛があふれるあふれる　主がここに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キリストのため 生きているも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救い主をほめよ 待ち望むもの　恐れを捨てて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救い主をほめ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主がここにいるから　主の愛と　約束をうばえるものはいない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ＭＳ Ｐゴシック"/>
              </a:rPr>
              <a:t>イエスさまに代わるものはいない　恐れ捨てて　自由うけ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Text Box 4"/>
          <p:cNvSpPr/>
          <p:nvPr/>
        </p:nvSpPr>
        <p:spPr>
          <a:xfrm>
            <a:off x="-228600" y="560520"/>
            <a:ext cx="975348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beteno monowa kibootochikara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tstumomotometeir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nochino koto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akerareru kata wa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kuinushi IES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ga koko ni orareru, orare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-no ai ga afureru, aferuru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ga koko 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Kirisuto no tame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kite iru m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kuinushiwohomeyo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machinozomumono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osorewosuttee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ukuinushiwohomey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Shuga koko ni iru kara shuno ai toyakusoku wo ubaeru monowa inai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Iesusama ni kawaru monowa inai </a:t>
            </a:r>
            <a:r>
              <a:rPr b="0" lang="ja-JP" sz="22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200" spc="-1" strike="noStrike">
                <a:solidFill>
                  <a:srgbClr val="ccccff"/>
                </a:solidFill>
                <a:latin typeface="ＭＳ Ｐゴシック"/>
              </a:rPr>
              <a:t>Osore, Sutete, Jiyuu, Ukey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Text Box 6"/>
          <p:cNvSpPr/>
          <p:nvPr/>
        </p:nvSpPr>
        <p:spPr>
          <a:xfrm>
            <a:off x="9372600" y="-45720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Text Box 7"/>
          <p:cNvSpPr/>
          <p:nvPr/>
        </p:nvSpPr>
        <p:spPr>
          <a:xfrm>
            <a:off x="0" y="-60948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えいこうのおううるわしいか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155160" y="7272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499 G W 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名を掲げ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Text Box 3"/>
          <p:cNvSpPr/>
          <p:nvPr/>
        </p:nvSpPr>
        <p:spPr>
          <a:xfrm>
            <a:off x="274680" y="65556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名をかかげて　あなたをたたえ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のために　あなたは来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救いの道を与え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よりくだり来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十字架により　命あが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みがえ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Text Box 4"/>
          <p:cNvSpPr/>
          <p:nvPr/>
        </p:nvSpPr>
        <p:spPr>
          <a:xfrm>
            <a:off x="219240" y="9428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nawo kakagete anatawo tata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no tameni anatawa ko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kuino michiwo ata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nyori kudari ko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yuzikaniyori inochi agan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migae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Text Box 5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Text Box 6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Text Box 7"/>
          <p:cNvSpPr/>
          <p:nvPr/>
        </p:nvSpPr>
        <p:spPr>
          <a:xfrm>
            <a:off x="0" y="-244440"/>
            <a:ext cx="475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なをかかげ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283680" y="-36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500 G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　わたしのすまいはしゅ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Text Box 1027"/>
          <p:cNvSpPr/>
          <p:nvPr/>
        </p:nvSpPr>
        <p:spPr>
          <a:xfrm>
            <a:off x="274680" y="304920"/>
            <a:ext cx="88693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たしの住まいは主よ　あなたの臨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で四六時中　あなたに祈りを捧げ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家は祈りの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神の教会は祈りの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絶え間なく　絶え間なく　臨在が満ちる場所　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Text Box 1028"/>
          <p:cNvSpPr/>
          <p:nvPr/>
        </p:nvSpPr>
        <p:spPr>
          <a:xfrm>
            <a:off x="274680" y="59220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no sumaiwa Shuyo anatano rinnz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de shirokuzizyuu anatani inoriwo sasag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no iewa inorino 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mino kyoukaiwa inorino 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aemanaku taemanaku rinnzaiga michiru bas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たしのすまいはしゅ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501 G W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全地は神を知る知識みたさ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地は神を知る知識みたさ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水が　海を満たすように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国々の中で　告げよう　神の御国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よう　全地は　主の栄光に　満たさ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chi wa kami wo shiru chishiki mitasa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zu ga  umi o mitasu youni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uniguni no nakade  tsugeyou  kami no mikun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homeyou  zenchi wa shu no eikou de  mita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はかみのえいこうをつげしらせ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7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見よなんという楽しｊ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7"/>
          <p:cNvSpPr/>
          <p:nvPr/>
        </p:nvSpPr>
        <p:spPr>
          <a:xfrm>
            <a:off x="152280" y="30492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見よ　何という楽しさ　ラララ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見よ　何という楽しさ　兄弟がともに住むこと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見よ　何という楽しさ　兄弟は　一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28"/>
          <p:cNvSpPr/>
          <p:nvPr/>
        </p:nvSpPr>
        <p:spPr>
          <a:xfrm>
            <a:off x="119160" y="635040"/>
            <a:ext cx="879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yo  nantoyu tanosisa  la la la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yo  nantoyu tanosisa kyoudai ga tomoni sumukoto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o  nantoyu tanosisa  kyoudai wa hitot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みよなんというたのし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6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ンマヌエ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ンマヌエル　くすしき　その名は　インマヌエ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もに　おられる　わが神　インマヌエ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mmanuel  kususiki sono na wa  immanue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moni  orareru waga kami  imman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んまぬ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6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ンマヌエ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027"/>
          <p:cNvSpPr/>
          <p:nvPr/>
        </p:nvSpPr>
        <p:spPr>
          <a:xfrm>
            <a:off x="152280" y="685800"/>
            <a:ext cx="88693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"EMMANUEL, EMMANUEL HIS NAME IS CALLED EMMANU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GOD WITH US REVEALED IN US HIS NAME IS CAL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EMMANUE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EMMANUEL, EMMANUEL YOUR NAME IS CALLED EMMANU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GOD WITH US REVEALED IN US YOUR NAME IS CAL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EMMANUEL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んまぬ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7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向かい　新しいほめ歌歌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向かい　新しいほめ歌歌え 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2X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ほめ　  高らかに歌え  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2X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....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　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ni mukai atarasii homeuta uta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yu wo home takaraka ni uta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むかいあたらしいほめうたうた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8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入れよ感謝もっ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入れよ  感謝もって  主のかど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もって   主の 大庭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   造られた   この日をば　喜び  たのしもう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＊賛美せよ  感謝せよ　    楽しみ  喜ぼう  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reyo  kansha mote  shu no kado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mote  shu no  ooniw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ga  tsukurareta  kono hioba yorakobi  tanoshimo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seyo  kansha seyo tanoshimi  yorokobo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れよかんしゃもっ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8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入れよ感謝もって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I will enter His ga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ith thanksgiving in my hear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enter His courts with prais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say this is the day that the Lord has mad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rejoice for He has made me gla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He has made me glad, He has made me gl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rejoice for He has made me glad.) * 2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れよかんしゃもっ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59 C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様の苦しみの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様の　苦しみの冠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人の為　命を捨てら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しかし今　神の右に座し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りなして　おられる　イエス様を見上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神　輝く勝利　力と主の権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の神　輝く勝利　敵の武具を砕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に　すべおさめる　勝利の　主イエス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esu sama no kuru shimi no kan mur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hito no tame inochi o  suterare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kashi ima kami no migi ni zashi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rinashite orareru iesu samao miag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kami kagayaku shoori chikara to shuno ke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o no kami kagayaku shoori teki  no bugu o kud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hie ni sube o sameru shoori no  no shu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さまのくるしみのかんむ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0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は勝利の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27"/>
          <p:cNvSpPr/>
          <p:nvPr/>
        </p:nvSpPr>
        <p:spPr>
          <a:xfrm>
            <a:off x="152280" y="304920"/>
            <a:ext cx="8869320" cy="73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イエスは勝利の主　主の兵士強くあれ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栄光は　地にみちあふる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勝利の歌を歌え　ほめよ　主の御名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主イエスに　まさるものなし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神の子なるイエス　彼とともに行く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常に　勝利の道を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我らの　主に頼り　進もう　主と共に</a:t>
            </a:r>
            <a:br>
              <a:rPr sz="2600"/>
            </a:br>
            <a:br>
              <a:rPr sz="2600"/>
            </a:br>
            <a:r>
              <a:rPr b="0" lang="ja-JP" sz="2600" spc="-1" strike="noStrike">
                <a:solidFill>
                  <a:srgbClr val="ffffff"/>
                </a:solidFill>
                <a:latin typeface="ＭＳ Ｐゴシック"/>
              </a:rPr>
              <a:t>今こそ　約束の地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28"/>
          <p:cNvSpPr/>
          <p:nvPr/>
        </p:nvSpPr>
        <p:spPr>
          <a:xfrm>
            <a:off x="119160" y="635040"/>
            <a:ext cx="8796240" cy="82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iesu wa shoori no shu shuno heishi tsuyoku 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eikoo wa chi ni michi afuru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oori no uta urae homeyo shuno minao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shu iesu ni masaru mono nashi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kami no ko naru iesu kare to tomoni iku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sune ni shoori no muchi o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warera no shu ni tayori susu moo shu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ccff"/>
                </a:solidFill>
                <a:latin typeface="ＭＳ Ｐゴシック"/>
              </a:rPr>
              <a:t>to tomo ni ima koso yakusoku no chie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はしょうり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0 B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イエスは勝利の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"FOR THE LORD, HE IS MARCHING ON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HIS ARMY IS EVER STRONG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AND HIS GLORY SHALL BE SEEN UPON OUR LAND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O RAISE THE ANTHEM SING THE VICTORY SONG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PRAISE THE LORD , FOR THE BATTLE'S WON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NO WEAPON FORMED AGAINST US SHALL STAND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FOR THE CAPTAIN OF THE HOST IS JESU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E'RE FOLLOWING IN HIS FOOTSTEPS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NO FOE CAN STAND AGAINST THE SHIELD OF FAITH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WE ARE MARCHING IN MESSIAH'S BAN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HE HAS THE VICTORY IN HIS MIGHTY HAND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SO LET US MARCH ON TO TAKE OUR PROMISED LAND.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えすはしょうりのし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1 D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光の中を　歩いて行こ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光の中を　歩いて行こう（２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x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歩こう　光の中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歩いて行こう　（２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x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28"/>
          <p:cNvSpPr/>
          <p:nvPr/>
        </p:nvSpPr>
        <p:spPr>
          <a:xfrm>
            <a:off x="119160" y="635040"/>
            <a:ext cx="8796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ikari no naka o  aruite yuk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rukoo  kikari no naka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ruite yuk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ひかりのなかをあるいてゆこ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たたえよ高らか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　ほめたたえよう　高らかに　主イエス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　ほめたたえよう　とこしえに　主イエスの名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愛　いつまでも　変わらず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地を　喜びで　満た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を　ほめたたえよう　高らか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 hometataeyoo  takaraka ni shu iesu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 hometataeyoo  tokoshie ni shu iesu no na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ai  itsumademo kawaraz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zenchi o  yorokobi de  mitas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o  hometataeyoo takaraka 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たたえよたからか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8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わが心に燃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に燃える　燃えるちから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れは　聖霊の　燃え尽きぬ炎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　ハレルヤ　オー　ハレル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オー　ハレルヤ　オー　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o ni moeru  moeru chikar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re wa  seirei no  moetsukinu hono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h  hallelujah  oh  halleluja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h  hallelujah  oh 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わがこころにも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2 G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をほめたたえよ高らかに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27"/>
          <p:cNvSpPr/>
          <p:nvPr/>
        </p:nvSpPr>
        <p:spPr>
          <a:xfrm>
            <a:off x="152280" y="68580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E IS EXALTED, THE KING IS EXALTED ON HIG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WILL PRAISE HIM HE IS EXALT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EXALTED AND L WILL PRAISE HIS N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THE LORD FOREVER HIS TRUTH SHALL REIG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VEN AND EARTH REJOICE IN HIS HOLY N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 IS EXALTED, THE KING IS EXALTED ON HIGH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をほめたたえよたからか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3 C W Jesus I Love You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前に伏し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027"/>
          <p:cNvSpPr/>
          <p:nvPr/>
        </p:nvSpPr>
        <p:spPr>
          <a:xfrm>
            <a:off x="152280" y="304920"/>
            <a:ext cx="8869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I  Love You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　御前に伏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王なるあなたを　あが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アレルヤ アレルヤ アレルヤ ア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jesus i love you mi mae ni fu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naru anata o agame 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lleluia alleluia alleluia allelui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あいらぶゆ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3 C W Jesus I Love You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御前に伏し       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JESUS I LOVE YOU I BOW DOWN BEFORE YO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RAISES AND WORSHIP TO OUR K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ELUIA ALLELU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LELUIA ALLEL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ーざすあいらぶゆ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4 A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いする天の父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27"/>
          <p:cNvSpPr/>
          <p:nvPr/>
        </p:nvSpPr>
        <p:spPr>
          <a:xfrm>
            <a:off x="152280" y="30492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愛する天の父よ　全地は  御名をほ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国は  賛美の中にあり　みわざは  力づよ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  主を  全能の神を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つねにいます  来たるべき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ほめよ  主を  全能の神を　支配は   とわ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028"/>
          <p:cNvSpPr/>
          <p:nvPr/>
        </p:nvSpPr>
        <p:spPr>
          <a:xfrm>
            <a:off x="119160" y="635040"/>
            <a:ext cx="87962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isuru ten no chichi yo zenchi wa  mina o home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kuni wa  sanbi no nakani ari miwaza wa  chikarazuyo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 shu o  zennoo no kami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suneni imasu  kitarubeki  sh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meyo  shu o  zennoo kami o shihai wa  towa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いするてんのちち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5 A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いくさに主の御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いくさに主の御名　　全地の勝利の御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全ての敵　打ち砕く　　恐るべき　主の御名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誰がいようか　　わが神の他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解放　力　　　主のいく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kusa ni shu no mina zenchi no shoori no min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bete no teki uchi kudaku osoru beki shu no min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are ga iyoo ka waga kami no hoka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ihoo     chikara shu no ik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いくさにしゅのみ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6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そのとき若い女も若い男も年より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時わかい女も  わかい男もとしより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ランラララン  ラララララララ　ともにおどって  たのしむ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れらのかなしみを  喜びにか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うれいを　なぐさめ　かれらを　たのしませ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28"/>
          <p:cNvSpPr/>
          <p:nvPr/>
        </p:nvSpPr>
        <p:spPr>
          <a:xfrm>
            <a:off x="119160" y="635040"/>
            <a:ext cx="87962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toki wakai onna mo  wakai otoko mo 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shiyori 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lan la la lan  la la la la la la la tomoni odotte  tanoshim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rera no kanashimi o  yorokobi ni ka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rei o  nagusame karera o  tanoshimase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そのときわかいおんなもわかいおとこもとしより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7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が建てる　エルサレ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建てる　エルサレ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建てる　エルサレム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集まれ　イスラエルの民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その傷を　主がいや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が建てる　主が建て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エルサレ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ga tateru  erusalem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ga tateru  erusalem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tsumare  isuraeru no t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ono kizu o  shu ga iy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ga tateru  shu ga tat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rusal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がたてるえるされ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8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の御座に近づきた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　みざに　近づきたい　賛美と　礼拝の　中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みまえに　ひれ伏して　主よ　あがめ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 miza ni  chikazukitai sanbi to  reihai no  naka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 ni  hirefushite  shu yo agame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のみざにちかずきた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69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もう一度主の御前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27"/>
          <p:cNvSpPr/>
          <p:nvPr/>
        </p:nvSpPr>
        <p:spPr>
          <a:xfrm>
            <a:off x="152280" y="304920"/>
            <a:ext cx="886932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う一度　主の　御前に 自由と　礼拝もっ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神　ここにいるの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にとって　大きな喜び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アバ　父よ　アバ　父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もにいられる　甘い祝福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アバ　父よ　愛し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までも　ともにいた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028"/>
          <p:cNvSpPr/>
          <p:nvPr/>
        </p:nvSpPr>
        <p:spPr>
          <a:xfrm>
            <a:off x="119160" y="635040"/>
            <a:ext cx="879624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o ichido  shu no  mimae ni jiyuu to  reihai mot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ami  koko ni iruno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ni totte  ookina yorokob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a  chichi yo  aba  chichi y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moni irareru  amai shukufu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ba  chichi yo  aishi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hie mademo  tomoni i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ういちどしゅのみまえ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0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天ではあなたの他誰をも持つことがな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では  あなたの他　誰をも  持つことが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地上では  あなたの他　誰をも  望みはしな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の身とこころとは  尽き果てて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はとこしえに　ゆるがない　わが心の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 dewa  anata no hoka dare omo  motsukotoga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jo dewa  anatano hoka dare omo  nozomi wa shin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nomi to kokoro towa tsukihatetem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wa tokoshie ni yuruganai  waga kokoro no i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てんではあなたのほかだれをももつことが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9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わが主全能の神栄光全地に満ち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　わが主　全能の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栄光　天地に　満ちる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ホザナ　声高らか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ホザナ　ホザナ　ほめたたえ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naru wagashu zennou no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eikou tenchi ni michir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hosanna koe takaraka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sanna hosanna hometatae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わがしゅぜんのうのかみえいこうぜんち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1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ラバン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027"/>
          <p:cNvSpPr/>
          <p:nvPr/>
        </p:nvSpPr>
        <p:spPr>
          <a:xfrm>
            <a:off x="152280" y="304920"/>
            <a:ext cx="8869320" cy="9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天国に行こう！　天国に行くに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イエス・キリストを　信じていなければ　なら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彼と共にいるなら　そこは天国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キリストわがうちに　住んでおられ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キリスト　わが内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ハレルヤ　ハレル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28"/>
          <p:cNvSpPr/>
          <p:nvPr/>
        </p:nvSpPr>
        <p:spPr>
          <a:xfrm>
            <a:off x="119160" y="635040"/>
            <a:ext cx="8796240" cy="90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engoku ni ikoo tengoku ni ikuniw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ni kirisuto o ukeirete inakereba narana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re to tomoni irunara soko wa tengoku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risuto waga uchini</a:t>
            </a:r>
            <a:r>
              <a:rPr b="0" lang="ja-JP" sz="2800" spc="-1" strike="noStrike">
                <a:solidFill>
                  <a:srgbClr val="ccccff"/>
                </a:solidFill>
                <a:latin typeface="ＭＳ Ｐゴシック"/>
              </a:rPr>
              <a:t>　</a:t>
            </a: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unde orarer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risuto  waga uchi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allelujah  halleluj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らばん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1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ラバンバ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27"/>
          <p:cNvSpPr/>
          <p:nvPr/>
        </p:nvSpPr>
        <p:spPr>
          <a:xfrm>
            <a:off x="152280" y="685800"/>
            <a:ext cx="88693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para subir al ciel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ubir al ciel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e necesita tener a Jesucris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ay que tener a Jesucristo en el corazo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arriba y arrib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y arriba y arriba y arriba 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si soy un cristia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 si soy un cristia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 por el sere, por el sere por el se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leluya Aleluya Aleluya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らばん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2 A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感謝せよその恵み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27"/>
          <p:cNvSpPr/>
          <p:nvPr/>
        </p:nvSpPr>
        <p:spPr>
          <a:xfrm>
            <a:off x="152280" y="30492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に　感謝せよ　その恵みは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4)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まで　とこしえまで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28"/>
          <p:cNvSpPr/>
          <p:nvPr/>
        </p:nvSpPr>
        <p:spPr>
          <a:xfrm>
            <a:off x="119160" y="635040"/>
            <a:ext cx="8796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i  kansha seyo  sono megumi wa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hie made  tokoshie ma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かんしゃせよそのめぐみ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2 A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感謝せよその恵みは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GIVE THANKS UNTO THE LOR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 HIS MERCY ENDURES FOREVER (X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AND EVER AME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OREVER AND EVER AMEN (X2)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にかんしゃせよそのめぐみ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2 Am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に感謝せよその恵みは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27"/>
          <p:cNvSpPr/>
          <p:nvPr/>
        </p:nvSpPr>
        <p:spPr>
          <a:xfrm>
            <a:off x="152280" y="685800"/>
            <a:ext cx="886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ficad a Jehova porque su misericor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lorficad a Jehova porque su misericord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iempre am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ara siempre a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にかんしゃせよそのめぐみ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全ての創り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　すべてのつくりぬ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うたおう　おどろう　主の御前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よろこびで　心みたして　大いなる　主イエス　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ｵｰｵｰｵｰ　ﾎｻﾞﾅ　主にうたえ　</a:t>
            </a: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*3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大いなる　主イエ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 subete no tsukurinu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utaoo  odoroo  shu no mimae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yorokobi de  kokoro mitashite ooinaru  shu iesu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  o   o  hosanna  shu ni utae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oinaru  shu i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おおいなるすべてのつくりぬ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3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大いなる全ての創り主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027"/>
          <p:cNvSpPr/>
          <p:nvPr/>
        </p:nvSpPr>
        <p:spPr>
          <a:xfrm>
            <a:off x="152280" y="68580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Grande es el Senyor Creador del univers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canta y danza al Rey que viene pron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e felicidad el corazon nos llen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s el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, oh, oh, Hosanna al Altisim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, oh, oh, Hosanna al Altisim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Oh, oh, oh, Hosanna al Altisim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grande es el Seny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おおいなるすべてのつくりぬ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前に心を注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前に　心を注ぎ　求めます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平安で満たして下さい　慕い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っとあなたを求めます　聖なる主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もっとあなたを慕います　わが神　わが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mae ni kokoro o sosogi motome ma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heian de mitashite kudasai shi tai 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tto anata o motome masu sei naru sh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otto anata o shitai masu waga kami waga s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のまえにこころをそそ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の前に心を注ぎ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Vengo a Ti, hoy Senyor a rendir mi coraz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iero mas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ma mi necesidad dame Tu preciosa pa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quiero mas de 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me, dame, dame mas de Ti Bendito Seny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Dame, dame, dame mas de Ti quiero mas de T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あなたのまえにこころをそそ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6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かぐわしい捧げも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かぐわしいささげもの　私の命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心を　全てささげ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御前で　あなたの愛に囲まれ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ささげますわが命　愛のささげも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aguwashi i sasagemono watashino inoc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kokoro o subete sasage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mimaede anatano aini kakoma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sagemasu wagai nochi aino sasagem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ぐわしいささげ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09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聖なるわが主全能の神栄光全地に満ち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152280" y="685800"/>
            <a:ext cx="8869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HOLY,HOLY,HOLY,LORD GOD OF POWER AND M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EAVEN AND EARTH ARE FILLED WITH YOUR GLO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SANNA,HOSANNA IN THE HIGHES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いなるわがしゅぜんのうのかみえいこうぜんち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77 Em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聞けイスラエ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27"/>
          <p:cNvSpPr/>
          <p:nvPr/>
        </p:nvSpPr>
        <p:spPr>
          <a:xfrm>
            <a:off x="152280" y="304920"/>
            <a:ext cx="88693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聞け  イスラエル われらの神 ハレルヤ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聞け  イスラエル 唯一の神 ハレルヤ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心つくし  精神つくし  力つく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の神  主を愛しなさい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他に主はない  救い主は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今  われらの賛美を  ささげよ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28"/>
          <p:cNvSpPr/>
          <p:nvPr/>
        </p:nvSpPr>
        <p:spPr>
          <a:xfrm>
            <a:off x="119160" y="635040"/>
            <a:ext cx="87962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ke isreal warera no kaimi halleluja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ike israel yu itsu no kami hallelujah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koro tsukushi sei shin tsushi chikara tsukush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no kami shu o aishi nasa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oka ni shu wa nai sukui nushi w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ma warera no sambi o sasagey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きけいすら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2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ことばに表せない思いを超え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とばに あらわせない 思いをもこえ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うるわしさに  くらべるものはない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知恵と愛は深く  はかることはできず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ことばに  あらわせない  王のうるわしさを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おどろき  仰ぎ見る　おどろき  仰ぎ見る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なる主  あなたを 仰ぎ見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toba ni arawasenai omoi omo koe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uruwashisani kuraberu monowa na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chie to wa fukaku hanaru kotowa dekiz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koto ba ni arawasenai oo no uruwashisa 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odoroki aogi miru odoroki aogi mir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 miru shu anatao aogi mim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とばにあらわせないおもいをこ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2 G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ことばに表せない思いを超える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27"/>
          <p:cNvSpPr/>
          <p:nvPr/>
        </p:nvSpPr>
        <p:spPr>
          <a:xfrm>
            <a:off x="152280" y="685800"/>
            <a:ext cx="88693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You are beautiful beyond description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 marvelous for word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 wonderful for comprehen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ike nothing ever seen or hear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o can grasp your infinite wisdo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ho can fathom the depth of your lov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 are beautiful beyond description majesty enthroned abov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and I stand I stand in awe of yo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stand I stand in awe of yo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Holy God to whom all praise is du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stand in awe of you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stand in awe of  you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ことばにあらわせないおもいをこえ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3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よあなたのみそば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27"/>
          <p:cNvSpPr/>
          <p:nvPr/>
        </p:nvSpPr>
        <p:spPr>
          <a:xfrm>
            <a:off x="152280" y="304920"/>
            <a:ext cx="88693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イエスよ　あなたのみそばで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命ある限り　賛美し　あが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聖霊と　愛の泉に　満ちあふれる　この喜び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私を愛し　心をとらえ　御腕に　いだき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はなぐさめ与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とこしえのやすき　うけさせたも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028"/>
          <p:cNvSpPr/>
          <p:nvPr/>
        </p:nvSpPr>
        <p:spPr>
          <a:xfrm>
            <a:off x="119160" y="635040"/>
            <a:ext cx="8796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iesu yo  anata no misoba 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inochi aru kagiri  sanbisi  ag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eirei to  ai no izumi ni michiafureru  kono yorokob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watashi o aishi  kokoro o torae miude ni  idak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wa nagusame atae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tokoshie no yasuki  ukesase tam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よあなたのみそば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3 A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イエスよあなたのみそばで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027"/>
          <p:cNvSpPr/>
          <p:nvPr/>
        </p:nvSpPr>
        <p:spPr>
          <a:xfrm>
            <a:off x="152280" y="68580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"I want to sing until I am lost in Your lov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ill I am found in Your Presen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worshipping before Your thron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Filled with Your Spirit, entering into your flow, how precious these moment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Lord I want you to kn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(repeat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t's You,You who have won my heart,taken 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nto Your arms, comforted me like a frie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Your love surrounded me from the start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I never want to be apart from You ever again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030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いえすよあなたのみそば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4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ハレルヤホサナ王の御前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27"/>
          <p:cNvSpPr/>
          <p:nvPr/>
        </p:nvSpPr>
        <p:spPr>
          <a:xfrm>
            <a:off x="152280" y="304920"/>
            <a:ext cx="8869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ホザナ　王の御前に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ホザナ　賛美たずさえ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ホザナ　小羊イエ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ハレルヤ　ホザナ　偉大なる神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御前に　拝しあが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賛美で　主を　取り囲も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28"/>
          <p:cNvSpPr/>
          <p:nvPr/>
        </p:nvSpPr>
        <p:spPr>
          <a:xfrm>
            <a:off x="119160" y="635040"/>
            <a:ext cx="87962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osanna oo no mimade n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 hosanna sanbi tazusa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hosanna ko hitsuzi ies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hallelujah hosanna idai naru kam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mimaeni hai shi ag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anbi de shu o torikako m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れるやほさなおうのみまえ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5 D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あなたをたたえあなたの御名あが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27"/>
          <p:cNvSpPr/>
          <p:nvPr/>
        </p:nvSpPr>
        <p:spPr>
          <a:xfrm>
            <a:off x="152280" y="304920"/>
            <a:ext cx="8869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たたえ あなたの御名あが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どんな時も 感謝するため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あなたを愛し そのみもとで拝し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従うため つくられ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028"/>
          <p:cNvSpPr/>
          <p:nvPr/>
        </p:nvSpPr>
        <p:spPr>
          <a:xfrm>
            <a:off x="119160" y="635040"/>
            <a:ext cx="87962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tatae anata no mina ag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don na toki mo kan sha suru ta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anata o aishi sono mimoto de haish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i tagau tame tsu ku ra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なたをたたえあなたのみなあが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8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信頼し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信頼します  あなたにあって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わが心は   安らぎます （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２）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よ  あなたはいつも　完全なみこころを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私の人生で  なしてくださ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shinrai imasu  anata ni at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ga kokora wa  yasuragi masu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yo  anata wa itsumo kanzenna mikokoro 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watashi no jinsei de  nashite kudas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ゅよしんらいしま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8 E W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主よ信頼します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27"/>
          <p:cNvSpPr/>
          <p:nvPr/>
        </p:nvSpPr>
        <p:spPr>
          <a:xfrm>
            <a:off x="152280" y="685800"/>
            <a:ext cx="886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Ti confia mi corazon en Ti reposa mi alm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i ser descansa en Ti puedo ser feliz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Porque se que estas obran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perfecta volunta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en mi vida estas obran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u perfecta volun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028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029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030"/>
          <p:cNvSpPr/>
          <p:nvPr/>
        </p:nvSpPr>
        <p:spPr>
          <a:xfrm>
            <a:off x="71280" y="-380880"/>
            <a:ext cx="475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しゅよしんらいしま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1920" y="25200"/>
            <a:ext cx="8859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89 C P 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なんとうるわしいあなたの御すが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27"/>
          <p:cNvSpPr/>
          <p:nvPr/>
        </p:nvSpPr>
        <p:spPr>
          <a:xfrm>
            <a:off x="152280" y="304920"/>
            <a:ext cx="88693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何と　うるわしい    あなたの　みすがた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何と　うるわし    主よ　あがめます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　うるわしさは  たえることなく   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主の　うるわしさは  とわに　輝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28"/>
          <p:cNvSpPr/>
          <p:nvPr/>
        </p:nvSpPr>
        <p:spPr>
          <a:xfrm>
            <a:off x="119160" y="635040"/>
            <a:ext cx="879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nto  uruwashi  anata no  misugat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nanto  uruwashi  shu yo  agamemasu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 uruwashisa wa  taerukoto naku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ＭＳ Ｐゴシック"/>
              </a:rPr>
              <a:t>shu no  uruwashisa wa  towa ni  kagaya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029"/>
          <p:cNvSpPr/>
          <p:nvPr/>
        </p:nvSpPr>
        <p:spPr>
          <a:xfrm>
            <a:off x="9277200" y="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30"/>
          <p:cNvSpPr/>
          <p:nvPr/>
        </p:nvSpPr>
        <p:spPr>
          <a:xfrm>
            <a:off x="9277200" y="380880"/>
            <a:ext cx="476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★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31"/>
          <p:cNvSpPr/>
          <p:nvPr/>
        </p:nvSpPr>
        <p:spPr>
          <a:xfrm>
            <a:off x="71280" y="-380880"/>
            <a:ext cx="4754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なんとうるわしいあなたのみすが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4:04:27Z</dcterms:created>
  <dc:creator>scg</dc:creator>
  <dc:description/>
  <dc:language>en-US</dc:language>
  <cp:lastModifiedBy>yosi</cp:lastModifiedBy>
  <dcterms:modified xsi:type="dcterms:W3CDTF">2017-02-23T07:42:44Z</dcterms:modified>
  <cp:revision>283</cp:revision>
  <dc:subject/>
  <dc:title>PowerPoint プレゼンテーション</dc:title>
</cp:coreProperties>
</file>